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AAA-64EA-4680-B4CA-0D6A25C3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D7F-2B02-4853-8FBC-981971E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124-B735-4D99-97C2-EAFC459C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16E-9D5C-427C-B3F8-37C24171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B45-5BDF-4E18-8454-79F40E9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ACF-4229-4641-A027-1DA0C843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B3F-23C4-4781-A802-F3BA5A56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B8B-AD9F-42A4-9D8F-71DC2997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96F-1DC0-460D-B7FC-27D3C93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1B9-A5C0-41AE-8F94-235F47E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C5B-BB2D-4DFD-BBFB-2F891F1C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2DB-EBA1-4F0F-B621-4826C03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0182-060E-4C42-8BD5-DD915107D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76720" y="655920"/>
            <a:ext cx="49003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Monotype Corsiva"/>
                <a:ea typeface="宋体"/>
              </a:rPr>
              <a:t>«Основной атрибут государственност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rcRect l="0" t="0" r="0" b="10670"/>
          <a:stretch/>
        </p:blipFill>
        <p:spPr>
          <a:xfrm>
            <a:off x="2411280" y="2924280"/>
            <a:ext cx="49802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826920" y="620640"/>
            <a:ext cx="74901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Графический объект34" descr=""/>
          <p:cNvPicPr/>
          <p:nvPr/>
        </p:nvPicPr>
        <p:blipFill>
          <a:blip r:embed="rId1"/>
          <a:srcRect l="0" t="0" r="0" b="9418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ека Александ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овел гербовую реформу, после которой официальный государственный флаг стал черно-желто-белополос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ко черно-желто-белый флаг стал восприниматься в обществе как правительственный, а бело-сине-красный флаг постепенно приобрел статус обывательского (гражданского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826920" y="620640"/>
            <a:ext cx="74901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Графический объект35" descr=""/>
          <p:cNvPicPr/>
          <p:nvPr/>
        </p:nvPicPr>
        <p:blipFill>
          <a:blip r:embed="rId1"/>
          <a:srcRect l="0" t="0" r="0" b="7521"/>
          <a:stretch/>
        </p:blipFill>
        <p:spPr>
          <a:xfrm>
            <a:off x="324000" y="260280"/>
            <a:ext cx="842472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апреля 1883 г. Александ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здал распоряжение об употреблении исключительно русских флагов, состоящих из 3 полос: верхней – белой, средней – синей и нижней – крас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ремя правления Никола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оронники монархических устоев решительно выступили против бело-сине-красного цве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826920" y="620640"/>
            <a:ext cx="74901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Графический объект36" descr=""/>
          <p:cNvPicPr/>
          <p:nvPr/>
        </p:nvPicPr>
        <p:blipFill>
          <a:blip r:embed="rId1"/>
          <a:srcRect l="0" t="0" r="0" b="10406"/>
          <a:stretch/>
        </p:blipFill>
        <p:spPr>
          <a:xfrm>
            <a:off x="468360" y="333360"/>
            <a:ext cx="82803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14 году  появился «симбиоз» двух флагов: бело-сине-красный флаг  имел в крыже (в верхнем углу у древка) желтый квадрат с черным двуглавым орл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флаг считался государственным до 1917 г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826920" y="620640"/>
            <a:ext cx="74901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Графический объект38" descr=""/>
          <p:cNvPicPr/>
          <p:nvPr/>
        </p:nvPicPr>
        <p:blipFill>
          <a:blip r:embed="rId1"/>
          <a:srcRect l="0" t="0" r="0" b="10929"/>
          <a:stretch/>
        </p:blipFill>
        <p:spPr>
          <a:xfrm>
            <a:off x="46836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Графический объект40" descr=""/>
          <p:cNvPicPr/>
          <p:nvPr/>
        </p:nvPicPr>
        <p:blipFill>
          <a:blip r:embed="rId1"/>
          <a:srcRect l="0" t="0" r="0" b="5723"/>
          <a:stretch/>
        </p:blipFill>
        <p:spPr>
          <a:xfrm>
            <a:off x="324000" y="333360"/>
            <a:ext cx="8351640" cy="6121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611280" y="54792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осударственный флаг РСФСР 1918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826920" y="620640"/>
            <a:ext cx="74901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2672" b="0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84360" y="5229360"/>
            <a:ext cx="79912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толетии бело-сине-красный флаг возвратился в нашу действительность во время президентства Б.Н. Ельц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Толкование сущности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трехцветия российского фла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ая вер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изонтальное расположение трех полос отражает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ревнерусское понимание строения ми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ная полоса – мир физическ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яя полоса – мир небесны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лая полоса – мир божествен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00000" y="692280"/>
            <a:ext cx="7344000" cy="54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ём мире национальный флаг является основным атрибутом государствен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д зданием всех официальных учреждений нашей Родины развевается флаг – государственный символ Российской Федер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Флаг России – это триколор: бело-сине-красный стя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Толкование сущности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трехцветия российского фла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сия втор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и полосы флага России являются олицетворением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динства трех братских восточнославянских народ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лорусы – белый цвет — Белорусс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раинцы – синий цвет – Малоросс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е – красный цвет — Великорос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«державная» тракто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ения цветов флага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Толкование сущности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трехцветия российского фла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тья верс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одня значение трех цветов объясняется иначе, чем в XIX ве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лый цвет – свобода и независим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ий цвет – вера (цвет Богоматери, под покровительством которой находится Росс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ный цвет – держав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я нашего российского флага, бело-сине-красного триколор, уходит корнями вглубь событий конц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начала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тавил нам этот трехполосный стяг – это наша история, которая в сегодняшний день с 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причин и условий возникновения государственных символов помогает лучше понять нашу истор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в этапы становления российского стяга, я пришла к выводу о том, что наш флаг уникален и неповтор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 можно по праву гордиться своей национальной святын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920" y="620640"/>
            <a:ext cx="7632720" cy="56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нига «Государственная символика России. История и современность», написанной  Можейко И. В., Сивовой  Н. А. и Соболевой Н. 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десь приводится текст федерального конституционного закона «О государственном флаге Российской Федерации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этом издании представлен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аточно подробна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формация об истор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сударственных символо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rcRect l="7618" t="3760" r="11764" b="13076"/>
          <a:stretch/>
        </p:blipFill>
        <p:spPr>
          <a:xfrm>
            <a:off x="5940360" y="3357720"/>
            <a:ext cx="2305080" cy="26650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нига Пчелова Е. В. «Государственные символы России – герб, флаг, гимн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я о рождении российского флага, его дальнейшем видоизменении и восстановл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00000" y="2852640"/>
            <a:ext cx="5832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меются сведения об остальных государственных знаменах: Андреевском флаге, штандарте Президента Российской Федерации и о Знамени Поб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 пособии приводятся изображения государственных фла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3704" t="2955" r="1994" b="2987"/>
          <a:stretch/>
        </p:blipFill>
        <p:spPr>
          <a:xfrm>
            <a:off x="6418440" y="3500280"/>
            <a:ext cx="2523960" cy="3168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рошюра «Символы Российской государственности. Герб. Флаг. Гимн.» Романовский Вячеслав Константинович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вещает условия и причины возникновения российского фла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казывает о его эволю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уждает о значен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ноговеков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тории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0" t="0" r="0" b="4635"/>
          <a:stretch/>
        </p:blipFill>
        <p:spPr>
          <a:xfrm>
            <a:off x="6031080" y="2492280"/>
            <a:ext cx="2855880" cy="4176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им рождением российский флаг обязан отечественному флот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хранных целей во время плавания по Каспийскому морю и по Волге русское правительство в 1667 г. на реке Оке начало строить кораб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А цветами, - писал Бутлер, - как великий государь укажет; но только на кораблях бывает, которого государства корабль, того государства бывает и знамя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сегодняшнего дня среди исследователей российских флагов ведутся споры: полосным или крестовым был флаг на первом русском кораб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арь- реформатор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важал традиции. Он сохранил и употреблял знамена, появившиеся еще до его рождения, а некоторые «строил» заново в подражание прежн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05 г. в Амстердаме была издана «Книга о флагах» голландца К.Аляр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распоряжению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нига эта в 1709 г. переведена на русский язык. Интересно, что в это издание включено описание флагов «его царского величества Московского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00000" y="692280"/>
            <a:ext cx="7344000" cy="54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Графический объект3" descr=""/>
          <p:cNvPicPr/>
          <p:nvPr/>
        </p:nvPicPr>
        <p:blipFill>
          <a:blip r:embed="rId1"/>
          <a:srcRect l="-864" t="8101" r="0" b="7141"/>
          <a:stretch/>
        </p:blipFill>
        <p:spPr>
          <a:xfrm>
            <a:off x="395280" y="260280"/>
            <a:ext cx="8426520" cy="6308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41708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флаг, как пишет Алярд, «разделен на трое, верхняя полоса – белая, средняя – синяя, нижняя – красная. На синей полосе золотой с царскою каруною венчан двоеглавой орел, имеющий в сердце красное клеймо с серебряным святым Георгием без зм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宋体"/>
              </a:rPr>
              <a:t>Второй стяг также имел полосы – «белую, синюю, красную, а эти полосы прорезаны синим Святого Андрея кре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宋体"/>
              </a:rPr>
              <a:t>Третий флаг выглядел в виде квадратного полотнища, с прямым синим крестом, первое и четвертая четверти – белые, вторая и третья – красны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宋体"/>
              </a:rPr>
              <a:t>Все эти стяги существовали уже до 1705 г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宋体"/>
              </a:rPr>
              <a:t>когда книга издавалась в Амстердам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8:51:54Z</dcterms:created>
  <dc:creator>Admin</dc:creator>
  <dc:description/>
  <dc:language>en-US</dc:language>
  <cp:lastModifiedBy>Vera</cp:lastModifiedBy>
  <dcterms:modified xsi:type="dcterms:W3CDTF">2020-05-25T20:35:41Z</dcterms:modified>
  <cp:revision>22</cp:revision>
  <dc:subject/>
  <dc:title>Муниципальное автономное общеобразовательное учреждение средняя общеобразовательная школа № 8 с углублённым изучением математики    </dc:title>
</cp:coreProperties>
</file>