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D405-B42B-4FA9-A715-C6C9DD25A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0547-F335-45B9-952F-34AEE0D3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AA38-4F04-4D3E-B317-138811EA0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48EF-4808-4E7B-8321-82A1EEBD5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DBC4-BCE4-4544-90DC-DCC7CCB3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7C54-D8D3-4567-8932-D72CD297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37D4-1BE7-4D11-95DF-B252CC5B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3F17-250A-45E1-8E8F-1E2104C76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6DC9-D172-4C93-ABA9-7F1C4243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995E-F186-4CC3-9F7D-5AB84952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37D6-83D0-4292-9662-B1C4F5D2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7D58-9A07-4083-A791-2CA9622E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4D9B-858D-47E8-A77D-EBA78B3575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7274160" cy="409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Мастер-класс «Использование приемов, способствующих сохранению психологического здоровья детей в ДОУ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71320" y="3286080"/>
            <a:ext cx="807228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дготовил: Ядыкина В.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спитатель</a:t>
            </a: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с. Мамонтово 201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1714680"/>
            <a:ext cx="7772400" cy="178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Работа по формированию психологического здоровья включает в себ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13840" y="2643120"/>
            <a:ext cx="8929800" cy="25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1. Овладение детьми языком эмоц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2. Коррекция агрессив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3. Формирование у дошкольников уверенности в себ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4. Формирование социальных навыков у ребен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700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владение детьми языком эмоц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учение детей мими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учение детей пантомими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крепление в эмоциональной сфере положительных эмоц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учение детей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декватному выражению эмоций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оррекция агрессив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ррекция драчливости у дошкольн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нятие конфликтности в общении де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нятие вербальной агресс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одоление импульсив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Формирование у дошкольников уверенности в себ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071440" y="1999800"/>
            <a:ext cx="70722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нятие тревож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ррекция страх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ирование адекватной положительной самооцен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ирование у детей уверенности в собственных силах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Формирование социальных навыков у ребен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714320" y="1642680"/>
            <a:ext cx="69721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тие умения понимать и принимать позицию другого чело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владение коммуникативными навык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1619280" y="549360"/>
            <a:ext cx="6481800" cy="86364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1785960" y="476280"/>
            <a:ext cx="614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Monotype Corsiva"/>
              </a:rPr>
              <a:t>Рекомендации для педагогов по профилактике психологических расстройств в развитии 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116000" y="1357200"/>
          <a:ext cx="8028000" cy="4630680"/>
        </p:xfrm>
        <a:graphic>
          <a:graphicData uri="http://schemas.openxmlformats.org/drawingml/2006/table">
            <a:tbl>
              <a:tblPr/>
              <a:tblGrid>
                <a:gridCol w="8028000"/>
              </a:tblGrid>
              <a:tr h="463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особствовать созданию спокойной, жизнерадостной, творческой обстанов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являть искренний интерес к личности каждого ребен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бственным поведение демонстрировать уважительное отношение к детям и взрослы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изовывать жизнедеятельность детей таким образом, чтобы у них накапливался положительный опыт добрых чувст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ывать возрастные особенности и интересы де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здать условия для формирования у детей положительных  взаимоотношений со сверстник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ь детей осознавать свое эмоциональное состояние, настроение окружающих его люд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аще пользоваться поощрением, поддержкой детей, чем запретом и порицани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2T18:51:37Z</dcterms:created>
  <dc:creator>DAY</dc:creator>
  <dc:description/>
  <dc:language>en-US</dc:language>
  <cp:lastModifiedBy>!</cp:lastModifiedBy>
  <dcterms:modified xsi:type="dcterms:W3CDTF">2019-09-24T06:43:58Z</dcterms:modified>
  <cp:revision>21</cp:revision>
  <dc:subject/>
  <dc:title>Слайд 1</dc:title>
</cp:coreProperties>
</file>