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9.png" ContentType="image/pn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7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5.gif" ContentType="image/gif"/>
  <Override PartName="/ppt/media/image28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0B1-A8FF-4A84-BA1B-8840868B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B80-CAE0-4130-AE94-8B439E0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CBD-7A06-4B16-856C-3037044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A73-CD7C-404B-9C2B-649607F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86AA-7804-493B-B225-1A0F65C0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D1F7-E0BD-4F88-B8EF-3E3F617D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3E7-8CA0-4D85-9F3D-D0857275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1965-F568-4558-8E85-4333AF1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E63-2A85-4810-94BC-15217E0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E85D-6E45-4655-8DC4-8F3C164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76F8-0998-4900-8324-6E42E3A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2FD-1860-4842-BBCB-E1D510A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255-AE23-436F-A9FC-9FB0983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79A-AFA6-42D1-83A7-FD6D797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C783-1C00-48E7-AEB6-05D6244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7B9-F5A1-4CA3-AB62-3AF5A24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87D8-5D9A-4230-89A8-359A9C35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843-B610-4E48-817D-7F00DAA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82C-F6F5-44C7-AFC8-F1A2AB3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5A7-3D15-47ED-BCE3-A880F7F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F4A-3841-438A-B35B-F0CC1FD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8B1-2511-4C84-846C-FF4CB50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C35-8F2F-4FBB-8934-1A03D55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934-C1A9-4C00-82E0-0C3A712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C3B-56A2-4D8C-BF34-70039EA7E6EF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5E28-E7AA-4825-BF83-21812ECEF6C4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467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568944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Урок по повести В. Закруткин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«МАТЕРЬ ЧЕЛОВЕЧЕСКАЯ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1" descr="s12"/>
          <p:cNvPicPr/>
          <p:nvPr/>
        </p:nvPicPr>
        <p:blipFill>
          <a:blip r:embed="rId2"/>
          <a:stretch/>
        </p:blipFill>
        <p:spPr>
          <a:xfrm>
            <a:off x="6877080" y="3789360"/>
            <a:ext cx="1251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771 -0.05069 C -0.03976 -0.07338 -0.05069 -0.11203 -0.04479 -0.15069 C -0.04167 -0.16412 -0.03767 -0.17731 -0.03177 -0.18796 C -0.02778 -0.1574 -0.01372 -0.12939 0.00729 -0.11203 C 0.00729 -0.1493 0.02326 -0.18541 0.05035 -0.20138 C 0.05938 -0.2081 0.06927 -0.21064 0.07934 -0.21203 C 0.06424 -0.18935 0.05625 -0.1574 0.05938 -0.12407 C 0.08125 -0.14791 0.11233 -0.15347 0.13924 -0.13611 C 0.14826 -0.13078 0.15729 -0.12129 0.16337 -0.11203 C 0.14028 -0.11458 0.11632 -0.10277 0.09931 -0.0787 C 0.12622 -0.0706 0.14931 -0.04259 0.15625 -0.00393 C 0.15833 0.00926 0.15833 0.02269 0.15625 0.03588 C 0.14323 0.01065 0.12135 -0.00671 0.09722 -0.00926 C 0.10938 0.02408 0.10625 0.06528 0.08837 0.09607 C 0.08125 0.10672 0.07326 0.11598 0.06424 0.1213 C 0.07135 0.0919 0.06736 0.05857 0.05434 0.03195 C 0.04236 0.06528 0.01632 0.08797 -0.01372 0.08797 C -0.02465 0.08797 -0.03472 0.08542 -0.04375 0.07987 C -0.0217 0.06922 -0.00469 0.04399 0.0033 0.0132 C -0.02465 0.0213 -0.05365 0.00926 -0.07274 -0.02129 C -0.07969 -0.03333 -0.08368 -0.04537 -0.08663 -0.05879 C -0.06667 -0.04143 -0.04062 -0.03865 -0.01771 -0.05069 Z">
                                      <p:cBhvr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237960" y="0"/>
            <a:ext cx="8906040" cy="135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л6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кл7"/>
          <p:cNvPicPr/>
          <p:nvPr/>
        </p:nvPicPr>
        <p:blipFill>
          <a:blip r:embed="rId1"/>
          <a:srcRect l="0" t="0" r="0" b="-300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920" y="404280"/>
            <a:ext cx="396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дравствуй, папка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ы опять мне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нилс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лько в этот раз не на вой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Я немножко даж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дивилась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о чего ты прежний был во сн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л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кл11"/>
          <p:cNvPicPr/>
          <p:nvPr/>
        </p:nvPicPr>
        <p:blipFill>
          <a:blip r:embed="rId1"/>
          <a:stretch/>
        </p:blipFill>
        <p:spPr>
          <a:xfrm>
            <a:off x="4572000" y="30240"/>
            <a:ext cx="4572000" cy="6827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-360" y="531360"/>
            <a:ext cx="4427640" cy="63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ы помнишь, Алёша, дороги Смоленщ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шли бесконечные, злые дожд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кринки несли нам усталые женщ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ижав, как детей, от дождя их к груди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кл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л9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60280"/>
            <a:ext cx="38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лько на фронте провериш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Лучшие чувства сво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лько на фронте измериш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илу и крепость любви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л5"/>
          <p:cNvPicPr/>
          <p:nvPr/>
        </p:nvPicPr>
        <p:blipFill>
          <a:blip r:embed="rId1"/>
          <a:stretch/>
        </p:blipFill>
        <p:spPr>
          <a:xfrm>
            <a:off x="-396720" y="0"/>
            <a:ext cx="9721800" cy="717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ди меня, и я вернус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лько очень жд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ди, когда наводят грус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ёлтые дожд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ди, когда снега мету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ди, когда жа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ди, когда других не жду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забыв вчер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399"/>
          <p:cNvPicPr/>
          <p:nvPr/>
        </p:nvPicPr>
        <p:blipFill>
          <a:blip r:embed="rId1"/>
          <a:stretch/>
        </p:blipFill>
        <p:spPr>
          <a:xfrm>
            <a:off x="5365800" y="189000"/>
            <a:ext cx="37782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Через прочтение художественного произведения приобщить учащихся к историческому прошлому, к великому подвигу материнства в годы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Заставить задуматься о каждодневном самоотверженном материнском созид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Развивать умение учащихся делать самостоятельный анализ эпизода, владеть монологической реч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anim047"/>
          <p:cNvPicPr/>
          <p:nvPr/>
        </p:nvPicPr>
        <p:blipFill>
          <a:blip r:embed="rId2"/>
          <a:stretch/>
        </p:blipFill>
        <p:spPr>
          <a:xfrm>
            <a:off x="6372360" y="-58680"/>
            <a:ext cx="1647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4560" y="404640"/>
            <a:ext cx="856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3000" spc="-1" strike="noStrike">
                <a:solidFill>
                  <a:srgbClr val="410082"/>
                </a:solidFill>
                <a:latin typeface="Times New Roman"/>
              </a:rPr>
              <a:t>«Матерь Человеческая» Виталия Закруткина-одно из пронзительных произведений о великом подвиге материнства в годы Великой Отечественной войны. Писатель заставляет нас пережить горькую и возвышенную судьбу женщины, которая способна своей самоотверженной любовью  спасти  и сохранить погибающий мир . Сколько ни читаешь эту небольшую повесть, всегда переживаешь потрясение. Вечное остаётся вечным, и оно  нужно нам сегодня так же, как тем, далёким, которые впервые поклонились Матери и воздали славу её терпению и любв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333000"/>
            <a:ext cx="4248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О Владычице Царица Небесна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Ты мне упование и прибежищ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Покров и заступление и помощ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Из молит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Материнства не взять у Земл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Не отнять, как не вычерпать мор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932968"/>
                </a:solidFill>
                <a:latin typeface="Times New Roman"/>
              </a:rPr>
              <a:t>В.Высоцкий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кл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2124000" y="4797360"/>
            <a:ext cx="1312920" cy="152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44600" y="115920"/>
            <a:ext cx="8364600" cy="1809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642920" y="1268280"/>
            <a:ext cx="396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932968"/>
                </a:solidFill>
                <a:latin typeface="Times New Roman"/>
              </a:rPr>
              <a:t>Как соотнести репродукцию художника М.Савицкого «Мать партизана» с повестью и судьбой  её главной героини? Почему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кл4"/>
          <p:cNvPicPr/>
          <p:nvPr/>
        </p:nvPicPr>
        <p:blipFill>
          <a:blip r:embed="rId2"/>
          <a:stretch/>
        </p:blipFill>
        <p:spPr>
          <a:xfrm>
            <a:off x="250920" y="1125360"/>
            <a:ext cx="4392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3640" y="141300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очему Мария пересиливает свою боль, поднимается над горем и остаётся жи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кл3"/>
          <p:cNvPicPr/>
          <p:nvPr/>
        </p:nvPicPr>
        <p:blipFill>
          <a:blip r:embed="rId2"/>
          <a:stretch/>
        </p:blipFill>
        <p:spPr>
          <a:xfrm>
            <a:off x="4284720" y="1125360"/>
            <a:ext cx="4859280" cy="573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kniga_6"/>
          <p:cNvPicPr/>
          <p:nvPr/>
        </p:nvPicPr>
        <p:blipFill>
          <a:blip r:embed="rId3"/>
          <a:stretch/>
        </p:blipFill>
        <p:spPr>
          <a:xfrm>
            <a:off x="539640" y="4797360"/>
            <a:ext cx="2044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-171360" y="152280"/>
            <a:ext cx="8510400" cy="1401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ознать свою миссию помогают Марии не только мертвые, но и живые. И один из них- солдат Вернер Брахт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1)Обратившись к тексту, опиши, кого увидела Мария в погребе?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2)Какое чувство к раненому солдату хотел вызвать у читателей автор повести? Как он этого добивается?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3)Мария решилась на убийство. Чем было вызвано это решение? Почему потом вдруг «мстительная решимость» покинула Марию и она «выронила вилы, ноги ее подкосились»? Что остановило женщину? Что предпринимает Мария? Почему она так поступает?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1" descr="dice"/>
          <p:cNvPicPr/>
          <p:nvPr/>
        </p:nvPicPr>
        <p:blipFill>
          <a:blip r:embed="rId2"/>
          <a:stretch/>
        </p:blipFill>
        <p:spPr>
          <a:xfrm>
            <a:off x="7885080" y="836640"/>
            <a:ext cx="1098720" cy="784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-249120" y="237960"/>
            <a:ext cx="8229600" cy="1468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нарушать правила, зафиксированные в Женевских конвенциях, даже если Человеком овладевает желание отомст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ё больше и больше людей в наши дни, руководствуясь гуманитарными принципами, приходят к выводу, что в ситуациях вооружённых конфликтов месть не способствует их разрешению, а, наоборот, затягивает конфликт, ухудшая его последств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ты думаешь, действительно ли месть во время войны особенно опасна?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8" descr="anitrain"/>
          <p:cNvPicPr/>
          <p:nvPr/>
        </p:nvPicPr>
        <p:blipFill>
          <a:blip r:embed="rId2"/>
          <a:stretch/>
        </p:blipFill>
        <p:spPr>
          <a:xfrm>
            <a:off x="0" y="6086520"/>
            <a:ext cx="91440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47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6520" y="1657080"/>
            <a:ext cx="30240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помните, в какие ещё моменты жизни Мария испытывает острое чувство матери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она начинает ощущать себя матерью все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же помогло ей выж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кл2"/>
          <p:cNvPicPr/>
          <p:nvPr/>
        </p:nvPicPr>
        <p:blipFill>
          <a:blip r:embed="rId2"/>
          <a:stretch/>
        </p:blipFill>
        <p:spPr>
          <a:xfrm>
            <a:off x="4140360" y="1484280"/>
            <a:ext cx="5003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0:36:50Z</dcterms:created>
  <dc:creator>USER</dc:creator>
  <dc:description/>
  <dc:language>en-US</dc:language>
  <cp:lastModifiedBy>school127</cp:lastModifiedBy>
  <dcterms:modified xsi:type="dcterms:W3CDTF">2020-05-26T05:25:36Z</dcterms:modified>
  <cp:revision>26</cp:revision>
  <dc:subject/>
  <dc:title>Преображение Марии. Урок по повести В.Закруткина «</dc:title>
</cp:coreProperties>
</file>