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646-5EDB-4DD4-83E8-93B0624C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27C-C782-4328-B080-A896919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02A-12A9-4606-90E8-FA2E6ECA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C1F-A802-4287-AF35-EF86E89F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142-7680-4F69-82F4-0A45E5C6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791-468A-4D31-ACCF-0D79372C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352-3419-439E-B016-16FEC59E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881-9F64-4080-9AAA-F53BCB45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07B-2FC3-42A5-8E9D-6920A5CC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C32-34DD-4020-A16E-8509758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66F-3D72-4FBE-A273-69373B36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AFA-42E1-4152-BAFF-01A6C53E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4A3F-751B-43F1-B63B-3AA7451A0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2205000"/>
            <a:ext cx="5543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ЛИЗ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000" y="5084640"/>
            <a:ext cx="590364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одготовила Косарева Валерия Николаев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еподаватель теоретических дисципл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АУ ДО «ДШИ им. С.В.Рахманин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г.Старая Ру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depositphotos_11587185-stock-illustration-notes-staff.jpg"/>
          <p:cNvPicPr/>
          <p:nvPr/>
        </p:nvPicPr>
        <p:blipFill>
          <a:blip r:embed="rId1"/>
          <a:stretch/>
        </p:blipFill>
        <p:spPr>
          <a:xfrm>
            <a:off x="0" y="0"/>
            <a:ext cx="44308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ЕЛ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Т ИТАЛ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LLAR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ДРЕБЕЗЖАТЬ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ДИН ИЗ НАИБОЛЕЕ УПОТРЕБЛЯЕМЫХ МЕЛИЗМ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ТРЕЛЬ.jpg"/>
          <p:cNvPicPr/>
          <p:nvPr/>
        </p:nvPicPr>
        <p:blipFill>
          <a:blip r:embed="rId1"/>
          <a:srcRect l="16105" t="44619" r="22194" b="2362"/>
          <a:stretch/>
        </p:blipFill>
        <p:spPr>
          <a:xfrm>
            <a:off x="1979640" y="4581360"/>
            <a:ext cx="4968720" cy="136872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1116000" y="1700280"/>
            <a:ext cx="705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БЫСТРОЕ ЧЕРЕДОВАНИЕ ОСНОВНОГО И ВЕРХНЕГО ВСПОМОГАТЕЛЬНЫХ ЗВУКОВ. ОБОЗНАЧАЕТС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д н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dd7ff8a65e74a19f0b0e2c08e79aaf4.jpg"/>
          <p:cNvPicPr/>
          <p:nvPr/>
        </p:nvPicPr>
        <p:blipFill>
          <a:blip r:embed="rId2"/>
          <a:srcRect l="2758" t="45801" r="44446" b="42650"/>
          <a:stretch/>
        </p:blipFill>
        <p:spPr>
          <a:xfrm>
            <a:off x="2987640" y="3068640"/>
            <a:ext cx="2736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 тр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ужно торопится, когда играете последовательность нот в трели в первый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носите вес с одного пальца на друг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ите за ровностью звуч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йте медленно, пока не почувствуете свободу в движе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епенно ускоряйте темп, пока не приведете его к необходимой скор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чтобы трель была ровной и не нарушала общий метроритм в компози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0" descr="1dd7ff8a65e74a19f0b0e2c08e79aaf4.jpg"/>
          <p:cNvPicPr/>
          <p:nvPr/>
        </p:nvPicPr>
        <p:blipFill>
          <a:blip r:embed="rId1"/>
          <a:srcRect l="2758" t="45801" r="44446" b="42650"/>
          <a:stretch/>
        </p:blipFill>
        <p:spPr>
          <a:xfrm>
            <a:off x="2987640" y="5013360"/>
            <a:ext cx="2735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5988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УППЕТ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- ИТАЛ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uppett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маленькая группа) – представляет собой группу из 4-5 нот вокруг основного зву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НАК ПРОСТАВЛЯЕТСЯ ЛИБО НАД НО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БО МЕЖДУ ДВУМЯ РАЗЛИЧНЫМИ НО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ГРУППЕТТО2.jpg"/>
          <p:cNvPicPr/>
          <p:nvPr/>
        </p:nvPicPr>
        <p:blipFill>
          <a:blip r:embed="rId1"/>
          <a:srcRect l="629" t="22272" r="0" b="0"/>
          <a:stretch/>
        </p:blipFill>
        <p:spPr>
          <a:xfrm>
            <a:off x="1403280" y="3789360"/>
            <a:ext cx="7023240" cy="2087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1dd7ff8a65e74a19f0b0e2c08e79aaf4.jpg"/>
          <p:cNvPicPr/>
          <p:nvPr/>
        </p:nvPicPr>
        <p:blipFill>
          <a:blip r:embed="rId2"/>
          <a:srcRect l="2758" t="45801" r="44446" b="42650"/>
          <a:stretch/>
        </p:blipFill>
        <p:spPr>
          <a:xfrm>
            <a:off x="2987640" y="2492280"/>
            <a:ext cx="2736720" cy="792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1dd7ff8a65e74a19f0b0e2c08e79aaf4.jpg"/>
          <p:cNvPicPr/>
          <p:nvPr/>
        </p:nvPicPr>
        <p:blipFill>
          <a:blip r:embed="rId3"/>
          <a:srcRect l="2758" t="54203" r="90299" b="42650"/>
          <a:stretch/>
        </p:blipFill>
        <p:spPr>
          <a:xfrm>
            <a:off x="1332000" y="3141720"/>
            <a:ext cx="12952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РПЕДЖИА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- ЗВУКИ ИСПОЛНЯЮТСЯ НЕ ОДНОВРЕМЕННО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ПООЧЕРЁДНО, СНИЗУ ВВЕРХ, ПОДОБНО АРФ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АРПЕДЖИАТО.jpg"/>
          <p:cNvPicPr/>
          <p:nvPr/>
        </p:nvPicPr>
        <p:blipFill>
          <a:blip r:embed="rId1"/>
          <a:srcRect l="0" t="23704" r="0" b="0"/>
          <a:stretch/>
        </p:blipFill>
        <p:spPr>
          <a:xfrm>
            <a:off x="755640" y="3284640"/>
            <a:ext cx="7343640" cy="2160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d7ff8a65e74a19f0b0e2c08e79aaf4.jpg"/>
          <p:cNvPicPr/>
          <p:nvPr/>
        </p:nvPicPr>
        <p:blipFill>
          <a:blip r:embed="rId2"/>
          <a:srcRect l="2758" t="45801" r="44446" b="42650"/>
          <a:stretch/>
        </p:blipFill>
        <p:spPr>
          <a:xfrm>
            <a:off x="3059280" y="1989000"/>
            <a:ext cx="2736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Горизонтальный свиток 4"/>
          <p:cNvSpPr/>
          <p:nvPr/>
        </p:nvSpPr>
        <p:spPr>
          <a:xfrm>
            <a:off x="395280" y="765000"/>
            <a:ext cx="8353440" cy="37436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0" descr="1dd7ff8a65e74a19f0b0e2c08e79aaf4.jpg"/>
          <p:cNvPicPr/>
          <p:nvPr/>
        </p:nvPicPr>
        <p:blipFill>
          <a:blip r:embed="rId2"/>
          <a:srcRect l="2758" t="45801" r="44446" b="42650"/>
          <a:stretch/>
        </p:blipFill>
        <p:spPr>
          <a:xfrm>
            <a:off x="2987640" y="4653000"/>
            <a:ext cx="2735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мелизмы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ngsana New"/>
              </a:rPr>
              <a:t>(от греч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ngsana New"/>
              </a:rPr>
              <a:t> melistos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ngsana New"/>
              </a:rPr>
              <a:t>особый вид пения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ngsana New"/>
              </a:rPr>
              <a:t>– небольшие мелодичные обороты, украшающие основной рисунок мелод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436536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ИЗМЫ ЗАПИСЫВАЮТСЯ ДВУМЯ СПОСОБ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ОМОЩИ СПЕЦИАЛЬНЫХ ЗНА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КИМИ НО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1dd7ff8a65e74a19f0b0e2c08e79aaf4.jpg"/>
          <p:cNvPicPr/>
          <p:nvPr/>
        </p:nvPicPr>
        <p:blipFill>
          <a:blip r:embed="rId1"/>
          <a:srcRect l="1366" t="44750" r="43054" b="39503"/>
          <a:stretch/>
        </p:blipFill>
        <p:spPr>
          <a:xfrm>
            <a:off x="2987640" y="2852640"/>
            <a:ext cx="28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476280"/>
            <a:ext cx="822960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МЕЛИЗМАМ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ШЛА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РД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ЕТ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ПЕДЖИА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rcRect l="9257" t="22959" r="20028" b="4397"/>
          <a:stretch/>
        </p:blipFill>
        <p:spPr>
          <a:xfrm>
            <a:off x="5508720" y="1782720"/>
            <a:ext cx="3047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ШЛАГ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. ПРЕДУДА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лодическое украшение, состоящее из одного или нескольких звуков и предваряющее какой-либо звук мелодии. Изображается форшлаг нотами мелкого начер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280" y="191628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УЕТ ДВА ТИПА ФОРШЛАГ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ИЙ (НЕПЕРЕЧЁРКНУТЫЙ) И КОРОТКИЙ(ПЕРЕЧЁРКНУТЫ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одержимое 3"/>
          <p:cNvSpPr/>
          <p:nvPr/>
        </p:nvSpPr>
        <p:spPr>
          <a:xfrm>
            <a:off x="468360" y="3933720"/>
            <a:ext cx="482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ЛГИЙ ФОРШЛА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НЯЕТСЯ ЗА СЧЁТ ДЛИТЕЛЬНОСТИ НОТЫ, ПЕРЕД КОТОРОЙ ОН СТОИТ И ОТНИМАЕТ ПОЛОВИНУ ЕЁ ДЛ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ФОРШЛАГ.jpg"/>
          <p:cNvPicPr/>
          <p:nvPr/>
        </p:nvPicPr>
        <p:blipFill>
          <a:blip r:embed="rId1"/>
          <a:srcRect l="42912" t="70525" r="15350" b="10091"/>
          <a:stretch/>
        </p:blipFill>
        <p:spPr>
          <a:xfrm>
            <a:off x="6012000" y="5300640"/>
            <a:ext cx="246996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ФОРШЛАГ.jpg"/>
          <p:cNvPicPr/>
          <p:nvPr/>
        </p:nvPicPr>
        <p:blipFill>
          <a:blip r:embed="rId2"/>
          <a:srcRect l="10626" t="72804" r="55512" b="11230"/>
          <a:stretch/>
        </p:blipFill>
        <p:spPr>
          <a:xfrm>
            <a:off x="6084720" y="4221000"/>
            <a:ext cx="2211480" cy="720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1dd7ff8a65e74a19f0b0e2c08e79aaf4.jpg"/>
          <p:cNvPicPr/>
          <p:nvPr/>
        </p:nvPicPr>
        <p:blipFill>
          <a:blip r:embed="rId3"/>
          <a:srcRect l="2758" t="45801" r="44446" b="42650"/>
          <a:stretch/>
        </p:blipFill>
        <p:spPr>
          <a:xfrm>
            <a:off x="3059280" y="2781360"/>
            <a:ext cx="2736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ПРИМЕР ФОРШЛАГА.jpg"/>
          <p:cNvPicPr/>
          <p:nvPr/>
        </p:nvPicPr>
        <p:blipFill>
          <a:blip r:embed="rId1"/>
          <a:stretch/>
        </p:blipFill>
        <p:spPr>
          <a:xfrm>
            <a:off x="1984320" y="98100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469080" y="836640"/>
            <a:ext cx="14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Ш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1"/>
          <p:cNvSpPr/>
          <p:nvPr/>
        </p:nvSpPr>
        <p:spPr>
          <a:xfrm>
            <a:off x="2050920" y="270828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12"/>
          <p:cNvSpPr/>
          <p:nvPr/>
        </p:nvSpPr>
        <p:spPr>
          <a:xfrm>
            <a:off x="2050920" y="162864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554040" y="4221000"/>
            <a:ext cx="77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ОТЕ С ТОЧКОЙ ДОЛГИЙ ФОРШЛАГ РАВЕН ЕЁ ДВУМ ТР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4" descr="ДОЛГИЙ ФОРШЛАГ.jpg"/>
          <p:cNvPicPr/>
          <p:nvPr/>
        </p:nvPicPr>
        <p:blipFill>
          <a:blip r:embed="rId2"/>
          <a:srcRect l="15080" t="26667" r="12598" b="0"/>
          <a:stretch/>
        </p:blipFill>
        <p:spPr>
          <a:xfrm>
            <a:off x="2050920" y="4724280"/>
            <a:ext cx="5027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РОТКИЙ ФОРШЛАГ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ИТ ИЗ ОДНОГО ИЛИ НЕСКОЛЬКИХ ЗВУКОВ, ИСПОЛНЯЮЩИХСЯ ОЧЕНЬ КОРОТКО ЗА СЧЁТ ПРЕДЫДУЩЕЙ ДЛИТЕЛЬНОСТИ ИЛИ ТОЙ, ПЕРЕД КОТОРОЙ ОН ОБОЗНАЧЕН.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ФРОВКА ЗАВИСИТ ОТ СТИЛЯ ПРОИЗВЕД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ОИЗВЕДЕНИЯХ КОМПОЗИТОРОВ ЭПОХИ БАРОКК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БАХ, ГЕНД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УЗЫКЕ ВЕНСКИХ КЛАССИ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ГАЙДН, МОЦАРТ, БЕТХОВЕ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ОТКИЙ ФОРШЛАГ ИСПОЛНЯЕТСЯ ЗА СЧЁТ ОСНОВНОЙ ДЛИТЕЛЬНОСТИ, ЗАИМСТВУЯ ЛИШЬ НЕЗНАЧИТЕЛЬНУЮ ЕЁ ЧА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ПРИМЕРЫ КОРОТКОГО ФОРШЛАГА.jpg"/>
          <p:cNvPicPr/>
          <p:nvPr/>
        </p:nvPicPr>
        <p:blipFill>
          <a:blip r:embed="rId1"/>
          <a:stretch/>
        </p:blipFill>
        <p:spPr>
          <a:xfrm>
            <a:off x="684360" y="3429000"/>
            <a:ext cx="7416720" cy="2898720"/>
          </a:xfrm>
          <a:prstGeom prst="rect">
            <a:avLst/>
          </a:prstGeom>
          <a:ln w="0">
            <a:noFill/>
          </a:ln>
        </p:spPr>
      </p:pic>
      <p:sp>
        <p:nvSpPr>
          <p:cNvPr id="63" name="Стрелка вправо 4"/>
          <p:cNvSpPr/>
          <p:nvPr/>
        </p:nvSpPr>
        <p:spPr>
          <a:xfrm>
            <a:off x="684360" y="3429000"/>
            <a:ext cx="358560" cy="2160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5"/>
          <p:cNvSpPr/>
          <p:nvPr/>
        </p:nvSpPr>
        <p:spPr>
          <a:xfrm>
            <a:off x="4859280" y="342900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9" descr="НОТНЫЙ ПРИМЕР КОРОТ ФОРШЛАГА.jpg"/>
          <p:cNvPicPr/>
          <p:nvPr/>
        </p:nvPicPr>
        <p:blipFill>
          <a:blip r:embed="rId1"/>
          <a:stretch/>
        </p:blipFill>
        <p:spPr>
          <a:xfrm>
            <a:off x="2195640" y="4508640"/>
            <a:ext cx="5000400" cy="2054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2124000" y="404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      КОРОТКОГО      ФОРШ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3" descr="НОТНЫЙ ПРИМЕР КОРОТКОГО ФОРШЛАГА.jpg"/>
          <p:cNvPicPr/>
          <p:nvPr/>
        </p:nvPicPr>
        <p:blipFill>
          <a:blip r:embed="rId2"/>
          <a:srcRect l="0" t="0" r="0" b="3212"/>
          <a:stretch/>
        </p:blipFill>
        <p:spPr>
          <a:xfrm>
            <a:off x="2340000" y="981000"/>
            <a:ext cx="4392720" cy="224496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право 14"/>
          <p:cNvSpPr/>
          <p:nvPr/>
        </p:nvSpPr>
        <p:spPr>
          <a:xfrm>
            <a:off x="2268360" y="2852640"/>
            <a:ext cx="358920" cy="216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5"/>
          <p:cNvSpPr/>
          <p:nvPr/>
        </p:nvSpPr>
        <p:spPr>
          <a:xfrm rot="8566200">
            <a:off x="4528800" y="1355760"/>
            <a:ext cx="358920" cy="216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468360" y="342900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узыке более позднего периода, в творчестве композиторов-романт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Глинка, Шопен, Рахманин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короткий форшла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няется за счёт длительности предыдущей ноты ( как затак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право 20"/>
          <p:cNvSpPr/>
          <p:nvPr/>
        </p:nvSpPr>
        <p:spPr>
          <a:xfrm>
            <a:off x="2268360" y="4724280"/>
            <a:ext cx="358920" cy="21744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21"/>
          <p:cNvSpPr/>
          <p:nvPr/>
        </p:nvSpPr>
        <p:spPr>
          <a:xfrm>
            <a:off x="2268360" y="5661000"/>
            <a:ext cx="358920" cy="216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 форшлаг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йте ноту форшлага быстр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о выбирайте аппликатуру. Желательно использовать соседние паль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ение должно быть плавным, скользящ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ор необходимо делать на основную но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5" descr="1dd7ff8a65e74a19f0b0e2c08e79aaf4.jpg"/>
          <p:cNvPicPr/>
          <p:nvPr/>
        </p:nvPicPr>
        <p:blipFill>
          <a:blip r:embed="rId1"/>
          <a:srcRect l="2758" t="45801" r="44446" b="42650"/>
          <a:stretch/>
        </p:blipFill>
        <p:spPr>
          <a:xfrm>
            <a:off x="2987640" y="4653000"/>
            <a:ext cx="2736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РДЕ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ита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dent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кусающий, острый) –  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АЯ МЕЛОДИЧЕСКАЯ ФИГУРА, СОСТОЯЩАЯ ИЗ ТРЁХ ЗВУ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ОЙ, СОСЕДНИЙ, ОСНОВ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ОБРАЖАЕТСЯ УСЛОВНЫМ ЗНАКОМ НАД НОТО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9" descr="МОРДЕНТ.jpg"/>
          <p:cNvPicPr/>
          <p:nvPr/>
        </p:nvPicPr>
        <p:blipFill>
          <a:blip r:embed="rId1"/>
          <a:srcRect l="0" t="58469" r="0" b="0"/>
          <a:stretch/>
        </p:blipFill>
        <p:spPr>
          <a:xfrm>
            <a:off x="826920" y="5084640"/>
            <a:ext cx="7436160" cy="136872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6"/>
          <p:cNvSpPr/>
          <p:nvPr/>
        </p:nvSpPr>
        <p:spPr>
          <a:xfrm>
            <a:off x="324000" y="3716280"/>
            <a:ext cx="86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ПЕРЕЧЁРКНУТОМ МОРДЕНТ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ПОЛНЯЕТСЯ СОСЕДНИЙ ЗВУК СВЕРХУ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ЕРЕЧЁРКНУТО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СПОМОГАТЕЛЬНАЯ НОТА С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0" descr="1dd7ff8a65e74a19f0b0e2c08e79aaf4.jpg"/>
          <p:cNvPicPr/>
          <p:nvPr/>
        </p:nvPicPr>
        <p:blipFill>
          <a:blip r:embed="rId2"/>
          <a:srcRect l="2758" t="45801" r="44446" b="42650"/>
          <a:stretch/>
        </p:blipFill>
        <p:spPr>
          <a:xfrm>
            <a:off x="2916360" y="2708280"/>
            <a:ext cx="2735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2T08:44:36Z</dcterms:created>
  <dc:creator>User</dc:creator>
  <dc:description/>
  <dc:language>en-US</dc:language>
  <cp:lastModifiedBy>User</cp:lastModifiedBy>
  <dcterms:modified xsi:type="dcterms:W3CDTF">2020-05-12T11:27:59Z</dcterms:modified>
  <cp:revision>15</cp:revision>
  <dc:subject/>
  <dc:title>МЕЛИЗМЫ</dc:title>
</cp:coreProperties>
</file>