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2EA-A5D8-43D4-A86D-513486EB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F87-8056-4F22-9D43-280AD05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0D3-73F9-45D8-A46B-7B9A5361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A55-0A6F-4143-A5EC-4AA76921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4809-2765-4172-AA8C-B8304EA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6530-83FC-4060-9F61-88B86C9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3F7-C22C-47B7-9A97-FF92267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A8D-FEE6-4F56-98D5-453B2FE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B660-A484-4C54-86A2-15913160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327-3FE7-4831-8DDB-DB51ED8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6E6B-660A-4FB0-B67A-8264288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DDF-D251-4BA3-BDBB-92B9A97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A29-884C-496A-A203-00CD767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4D2A-F6BE-4B21-91A4-B853109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730-9910-459B-A8A6-43BD6AE6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5856-C363-486E-BBD8-6536ECC0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C9A8-82F5-4CBC-AD21-672C8855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D3B-B71D-430F-B63D-D66C679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B7D-DA7D-4BDB-B747-7D825AE1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3FC-A327-40EC-8DA4-B7BAC91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7C0-F158-488F-A760-78452EA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879-D596-47B8-9E62-35DF9DC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4F0-D4D5-48D5-BC0F-DFAC45C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15E-6DD8-4DE2-88A7-091F881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AEF-5354-4211-B585-3179E26A56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09B-3D41-4FAB-A14B-F1780B9B29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редставление чисел в компьюте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«Лицея №36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лоцкая Ин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тировать все разряды – получ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38280" y="1981080"/>
          <a:ext cx="3962520" cy="92232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438280" y="3429000"/>
          <a:ext cx="3962520" cy="92232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94"/>
          <p:cNvSpPr/>
          <p:nvPr/>
        </p:nvSpPr>
        <p:spPr>
          <a:xfrm>
            <a:off x="24382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6"/>
          <p:cNvSpPr/>
          <p:nvPr/>
        </p:nvSpPr>
        <p:spPr>
          <a:xfrm>
            <a:off x="248904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38280" y="3429000"/>
          <a:ext cx="3962520" cy="92232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олученному числу прибавить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0" y="2057400"/>
          <a:ext cx="3962520" cy="92232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000"/>
                <a:gridCol w="495360"/>
                <a:gridCol w="495360"/>
                <a:gridCol w="495360"/>
                <a:gridCol w="49536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20"/>
          <p:cNvSpPr/>
          <p:nvPr/>
        </p:nvSpPr>
        <p:spPr>
          <a:xfrm>
            <a:off x="57913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9"/>
          <p:cNvSpPr/>
          <p:nvPr/>
        </p:nvSpPr>
        <p:spPr>
          <a:xfrm>
            <a:off x="1676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0" y="3124080"/>
          <a:ext cx="3962520" cy="92232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000"/>
                <a:gridCol w="495360"/>
                <a:gridCol w="495360"/>
                <a:gridCol w="495360"/>
                <a:gridCol w="49536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AutoShape 198"/>
          <p:cNvSpPr/>
          <p:nvPr/>
        </p:nvSpPr>
        <p:spPr>
          <a:xfrm>
            <a:off x="990720" y="5257800"/>
            <a:ext cx="7696080" cy="685800"/>
          </a:xfrm>
          <a:prstGeom prst="wedgeRectCallout">
            <a:avLst>
              <a:gd name="adj1" fmla="val -16583"/>
              <a:gd name="adj2" fmla="val -1833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од десятичного числа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лучить дополнительный код числа -5 для шестнадцатиразрядной ячей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7772400" cy="133020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838080" y="3429000"/>
          <a:ext cx="7772400" cy="59544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78"/>
          <p:cNvSpPr/>
          <p:nvPr/>
        </p:nvSpPr>
        <p:spPr>
          <a:xfrm>
            <a:off x="807732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9"/>
          <p:cNvSpPr/>
          <p:nvPr/>
        </p:nvSpPr>
        <p:spPr>
          <a:xfrm>
            <a:off x="380880" y="3809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4724280"/>
          <a:ext cx="7772400" cy="595440"/>
        </p:xfrm>
        <a:graphic>
          <a:graphicData uri="http://schemas.openxmlformats.org/drawingml/2006/table">
            <a:tbl>
              <a:tblPr/>
              <a:tblGrid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амостояте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е прямые коды байтового представления следующих десят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е дополнительные коды байтового представления  следующих десят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олучение значения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целого отрицательного числа по дополнительному коду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дополнительного числа вычесть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ртировать полученный  к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ести полученный код в десят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полученным числом поставить знак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мер 1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десятичный эквивалент знакового числа, которое хранится в бай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95480" y="1981080"/>
          <a:ext cx="3581640" cy="1101960"/>
        </p:xfrm>
        <a:graphic>
          <a:graphicData uri="http://schemas.openxmlformats.org/drawingml/2006/table">
            <a:tbl>
              <a:tblPr/>
              <a:tblGrid>
                <a:gridCol w="447840"/>
                <a:gridCol w="447480"/>
                <a:gridCol w="447840"/>
                <a:gridCol w="447840"/>
                <a:gridCol w="447480"/>
                <a:gridCol w="447840"/>
                <a:gridCol w="447480"/>
                <a:gridCol w="447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43"/>
          <p:cNvSpPr/>
          <p:nvPr/>
        </p:nvSpPr>
        <p:spPr>
          <a:xfrm>
            <a:off x="609480" y="32767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оложительное, т.к. знаковый разряд содержит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ем его в восьмеричную систему счисления: 1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шестнадцатеричную систему: 7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ем его в десятичную систем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*8*8+7*8+2=64+56+2=12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7*16+10=112+10=12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сятичный эквивалент знакового байтового числа 111010 равен 1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мер 2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десятичный эквивалент знакового числа, которое хранится в бай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362320" y="2057400"/>
          <a:ext cx="3581280" cy="1101600"/>
        </p:xfrm>
        <a:graphic>
          <a:graphicData uri="http://schemas.openxmlformats.org/drawingml/2006/table">
            <a:tbl>
              <a:tblPr/>
              <a:tblGrid>
                <a:gridCol w="447480"/>
                <a:gridCol w="447840"/>
                <a:gridCol w="447480"/>
                <a:gridCol w="447840"/>
                <a:gridCol w="447480"/>
                <a:gridCol w="447840"/>
                <a:gridCol w="447480"/>
                <a:gridCol w="447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42"/>
          <p:cNvSpPr/>
          <p:nvPr/>
        </p:nvSpPr>
        <p:spPr>
          <a:xfrm>
            <a:off x="609480" y="32767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трицательное, т.к. знаковый разряд содержи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таем из него 1 и инвертиру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09680" y="4114800"/>
          <a:ext cx="3581640" cy="1646280"/>
        </p:xfrm>
        <a:graphic>
          <a:graphicData uri="http://schemas.openxmlformats.org/drawingml/2006/table">
            <a:tbl>
              <a:tblPr/>
              <a:tblGrid>
                <a:gridCol w="447840"/>
                <a:gridCol w="447480"/>
                <a:gridCol w="447840"/>
                <a:gridCol w="447840"/>
                <a:gridCol w="447480"/>
                <a:gridCol w="447840"/>
                <a:gridCol w="447480"/>
                <a:gridCol w="447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81"/>
          <p:cNvSpPr/>
          <p:nvPr/>
        </p:nvSpPr>
        <p:spPr>
          <a:xfrm>
            <a:off x="53341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09680" y="5715000"/>
          <a:ext cx="3581640" cy="544680"/>
        </p:xfrm>
        <a:graphic>
          <a:graphicData uri="http://schemas.openxmlformats.org/drawingml/2006/table">
            <a:tbl>
              <a:tblPr/>
              <a:tblGrid>
                <a:gridCol w="447840"/>
                <a:gridCol w="447480"/>
                <a:gridCol w="447840"/>
                <a:gridCol w="447840"/>
                <a:gridCol w="447480"/>
                <a:gridCol w="447840"/>
                <a:gridCol w="447480"/>
                <a:gridCol w="4478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6313320"/>
          <a:ext cx="3581640" cy="544680"/>
        </p:xfrm>
        <a:graphic>
          <a:graphicData uri="http://schemas.openxmlformats.org/drawingml/2006/table">
            <a:tbl>
              <a:tblPr/>
              <a:tblGrid>
                <a:gridCol w="447840"/>
                <a:gridCol w="447480"/>
                <a:gridCol w="447840"/>
                <a:gridCol w="447840"/>
                <a:gridCol w="447480"/>
                <a:gridCol w="447840"/>
                <a:gridCol w="447480"/>
                <a:gridCol w="4478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мер 2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09680" y="1828800"/>
          <a:ext cx="3581640" cy="1101600"/>
        </p:xfrm>
        <a:graphic>
          <a:graphicData uri="http://schemas.openxmlformats.org/drawingml/2006/table">
            <a:tbl>
              <a:tblPr/>
              <a:tblGrid>
                <a:gridCol w="447840"/>
                <a:gridCol w="447480"/>
                <a:gridCol w="447840"/>
                <a:gridCol w="447840"/>
                <a:gridCol w="447480"/>
                <a:gridCol w="447840"/>
                <a:gridCol w="447480"/>
                <a:gridCol w="447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42"/>
          <p:cNvSpPr/>
          <p:nvPr/>
        </p:nvSpPr>
        <p:spPr>
          <a:xfrm>
            <a:off x="609480" y="3276720"/>
            <a:ext cx="8534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ем его в восьмеричную систему счисления: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шестнадцатеричную систему: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ем его в десятичную систем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10 или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удем, что число отриц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сятичный эквивалент знакового байтового числа 1111010 равен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25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3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е Х, Х1, Х2 и Х3 имеют размер  байт, тип – знаковы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естнадцатеричной системе счисления Х1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2=E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3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чение выражения Х=(Х1-Х2)*Х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сятичной систем счисления равно 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ение задачи 2.3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ем исходные числа в байтовое представление двоичной  системы счисл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8800" y="3200400"/>
          <a:ext cx="5791320" cy="1635120"/>
        </p:xfrm>
        <a:graphic>
          <a:graphicData uri="http://schemas.openxmlformats.org/drawingml/2006/table">
            <a:tbl>
              <a:tblPr/>
              <a:tblGrid>
                <a:gridCol w="982800"/>
                <a:gridCol w="599760"/>
                <a:gridCol w="601920"/>
                <a:gridCol w="601560"/>
                <a:gridCol w="600120"/>
                <a:gridCol w="601560"/>
                <a:gridCol w="601920"/>
                <a:gridCol w="599760"/>
                <a:gridCol w="6019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3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ые числа без знака, под которые отводится 1 бай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значение числа отводятся  все разряды в б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429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3520" y="5029200"/>
            <a:ext cx="2057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2666880"/>
          <a:ext cx="6248520" cy="1862280"/>
        </p:xfrm>
        <a:graphic>
          <a:graphicData uri="http://schemas.openxmlformats.org/drawingml/2006/table">
            <a:tbl>
              <a:tblPr/>
              <a:tblGrid>
                <a:gridCol w="17528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перация вычитания в компьютере реализуется путем сложения с дополнительным кодом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=(Х1-Х2)*Х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яем вычитание сложением с дополнительным кодом. Для этого определяем дополнительный код числа Х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3048120"/>
          <a:ext cx="7391520" cy="2987640"/>
        </p:xfrm>
        <a:graphic>
          <a:graphicData uri="http://schemas.openxmlformats.org/drawingml/2006/table">
            <a:tbl>
              <a:tblPr/>
              <a:tblGrid>
                <a:gridCol w="1697040"/>
                <a:gridCol w="711360"/>
                <a:gridCol w="711000"/>
                <a:gridCol w="712800"/>
                <a:gridCol w="711360"/>
                <a:gridCol w="712800"/>
                <a:gridCol w="712800"/>
                <a:gridCol w="709560"/>
                <a:gridCol w="712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Х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=(Х1+ доп.Х2)*Х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2514600"/>
          <a:ext cx="7924680" cy="2166840"/>
        </p:xfrm>
        <a:graphic>
          <a:graphicData uri="http://schemas.openxmlformats.org/drawingml/2006/table">
            <a:tbl>
              <a:tblPr/>
              <a:tblGrid>
                <a:gridCol w="1850760"/>
                <a:gridCol w="757440"/>
                <a:gridCol w="760320"/>
                <a:gridCol w="760320"/>
                <a:gridCol w="757440"/>
                <a:gridCol w="760320"/>
                <a:gridCol w="760320"/>
                <a:gridCol w="757440"/>
                <a:gridCol w="76032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Х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1+доп. Х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=(Х1+ доп.Х2)*Х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600200"/>
          <a:ext cx="7772400" cy="502920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9120"/>
                <a:gridCol w="517680"/>
                <a:gridCol w="517320"/>
                <a:gridCol w="519120"/>
                <a:gridCol w="517680"/>
                <a:gridCol w="519120"/>
                <a:gridCol w="517320"/>
                <a:gridCol w="517680"/>
                <a:gridCol w="519120"/>
                <a:gridCol w="517320"/>
                <a:gridCol w="519120"/>
                <a:gridCol w="5176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1+доп. Х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0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0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0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ое число является отриц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м для какого числа оно служит дополнительным к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3276720"/>
          <a:ext cx="6934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520"/>
                <a:gridCol w="866880"/>
                <a:gridCol w="866880"/>
                <a:gridCol w="866880"/>
                <a:gridCol w="866520"/>
                <a:gridCol w="866880"/>
                <a:gridCol w="8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88"/>
          <p:cNvSpPr/>
          <p:nvPr/>
        </p:nvSpPr>
        <p:spPr>
          <a:xfrm>
            <a:off x="106668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*8+7=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6+7=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0"/>
          <p:cNvSpPr/>
          <p:nvPr/>
        </p:nvSpPr>
        <p:spPr>
          <a:xfrm>
            <a:off x="548640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удем, что число отрицатель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вет к задаче 2.3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Х, Х1, Х2 и Х3 имеют размер  байт, тип – знаковы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 счисления Х1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2=E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3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выражения Х=(Х1-Х2)*Х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сятичной систем счисления равно -2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дставление вещественных чисе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дставление вещественных чисе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, 25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0, 225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0, 000225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85800" y="3962520"/>
            <a:ext cx="3352680" cy="1371600"/>
          </a:xfrm>
          <a:prstGeom prst="wedgeRectCallout">
            <a:avLst>
              <a:gd name="adj1" fmla="val -17236"/>
              <a:gd name="adj2" fmla="val -12141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с фиксированной 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181480" y="4648320"/>
            <a:ext cx="3353040" cy="1295280"/>
          </a:xfrm>
          <a:prstGeom prst="wedgeRectCallout">
            <a:avLst>
              <a:gd name="adj1" fmla="val -76087"/>
              <a:gd name="adj2" fmla="val -17267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с плавающей 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исло с плавающей точк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, 225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0, 000225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62120" y="5410080"/>
            <a:ext cx="3352680" cy="533520"/>
          </a:xfrm>
          <a:prstGeom prst="wedgeRectCallout">
            <a:avLst>
              <a:gd name="adj1" fmla="val -13305"/>
              <a:gd name="adj2" fmla="val -4622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ти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800600" y="4876920"/>
            <a:ext cx="3352680" cy="533160"/>
          </a:xfrm>
          <a:prstGeom prst="wedgeRectCallout">
            <a:avLst>
              <a:gd name="adj1" fmla="val -105351"/>
              <a:gd name="adj2" fmla="val -4139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бщий вид числа с плавающей точк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1752480" y="2362320"/>
                <a:ext cx="51055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±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Text Box 6"/>
          <p:cNvSpPr/>
          <p:nvPr/>
        </p:nvSpPr>
        <p:spPr>
          <a:xfrm>
            <a:off x="2362320" y="4267080"/>
            <a:ext cx="5486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нти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ие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ые числа без знака, хранящиеся в 2 байта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значение числа отводятся  все разряды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429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3520" y="5029200"/>
            <a:ext cx="2057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3352680"/>
          <a:ext cx="9296280" cy="1919520"/>
        </p:xfrm>
        <a:graphic>
          <a:graphicData uri="http://schemas.openxmlformats.org/drawingml/2006/table">
            <a:tbl>
              <a:tblPr/>
              <a:tblGrid>
                <a:gridCol w="900000"/>
                <a:gridCol w="443160"/>
                <a:gridCol w="442800"/>
                <a:gridCol w="442800"/>
                <a:gridCol w="443160"/>
                <a:gridCol w="442800"/>
                <a:gridCol w="442800"/>
                <a:gridCol w="443160"/>
                <a:gridCol w="442800"/>
                <a:gridCol w="442800"/>
                <a:gridCol w="442800"/>
                <a:gridCol w="443160"/>
                <a:gridCol w="442800"/>
                <a:gridCol w="442800"/>
                <a:gridCol w="443160"/>
                <a:gridCol w="442800"/>
                <a:gridCol w="442800"/>
                <a:gridCol w="13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55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205"/>
          <p:cNvSpPr/>
          <p:nvPr/>
        </p:nvSpPr>
        <p:spPr>
          <a:xfrm>
            <a:off x="914400" y="2590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приме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3886200" y="0"/>
                <a:ext cx="457200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±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" name="Text Box 4"/>
          <p:cNvSpPr/>
          <p:nvPr/>
        </p:nvSpPr>
        <p:spPr>
          <a:xfrm>
            <a:off x="5562720" y="2362320"/>
            <a:ext cx="35812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04880" indent="-627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нти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4880" indent="-627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ие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4880" indent="-627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3520" y="2133720"/>
            <a:ext cx="36576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 0234*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 0234*9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4*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 0234*1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8120" indent="-7081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ормализованные числа с плавающей запят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называется нормализованным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3429000" y="2438280"/>
                <a:ext cx="3809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p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 Box 6"/>
          <p:cNvSpPr/>
          <p:nvPr/>
        </p:nvSpPr>
        <p:spPr>
          <a:xfrm>
            <a:off x="1523880" y="4419720"/>
            <a:ext cx="5791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123*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рмализова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0123*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3*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,0*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щественный тип 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ы тип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нимают в памяти 4 байта, т.е. 32 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90720" y="2971800"/>
          <a:ext cx="7467480" cy="1719360"/>
        </p:xfrm>
        <a:graphic>
          <a:graphicData uri="http://schemas.openxmlformats.org/drawingml/2006/table">
            <a:tbl>
              <a:tblPr/>
              <a:tblGrid>
                <a:gridCol w="1866960"/>
                <a:gridCol w="1028520"/>
                <a:gridCol w="1752480"/>
                <a:gridCol w="2819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б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б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ти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88"/>
          <p:cNvSpPr/>
          <p:nvPr/>
        </p:nvSpPr>
        <p:spPr>
          <a:xfrm>
            <a:off x="533520" y="5029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нтисс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точность представления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диапазон подставляем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к чис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 – число полож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число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ря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95280" y="2590920"/>
          <a:ext cx="6400800" cy="45720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  <a:gridCol w="799920"/>
                <a:gridCol w="800280"/>
                <a:gridCol w="799920"/>
                <a:gridCol w="800280"/>
                <a:gridCol w="799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26"/>
          <p:cNvSpPr/>
          <p:nvPr/>
        </p:nvSpPr>
        <p:spPr>
          <a:xfrm>
            <a:off x="990720" y="198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рядок = порядок 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4343400"/>
          <a:ext cx="7696080" cy="457200"/>
        </p:xfrm>
        <a:graphic>
          <a:graphicData uri="http://schemas.openxmlformats.org/drawingml/2006/table">
            <a:tbl>
              <a:tblPr/>
              <a:tblGrid>
                <a:gridCol w="961920"/>
                <a:gridCol w="962280"/>
                <a:gridCol w="961920"/>
                <a:gridCol w="961920"/>
                <a:gridCol w="961920"/>
                <a:gridCol w="962280"/>
                <a:gridCol w="961920"/>
                <a:gridCol w="961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47"/>
          <p:cNvSpPr/>
          <p:nvPr/>
        </p:nvSpPr>
        <p:spPr>
          <a:xfrm>
            <a:off x="1143720" y="33526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рядок = 0 -127=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1449720" y="556272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рядок = 255 -127=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00400" y="609480"/>
          <a:ext cx="4876920" cy="4572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антисс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тисса представляется в нормализованном виде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ххххххххххххххххххххх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638680" y="3276720"/>
            <a:ext cx="2667240" cy="990360"/>
          </a:xfrm>
          <a:prstGeom prst="wedgeRoundRectCallout">
            <a:avLst>
              <a:gd name="adj1" fmla="val -152439"/>
              <a:gd name="adj2" fmla="val -7772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 двоичных раз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1 или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3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еременной А  представлено в форме с плавающей точкой в шестнадцатеричной системе счисления А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860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п переменн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singl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язы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ое значение числа А равно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ение задачи 2.3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двоичный код числа 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860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00 00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0 0110 0000 0000 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триц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равен: 10000101=2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*64+5=1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рядок равен 133-127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тисса равна:1, 00001100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число, учитывая истинный поряд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 0000110000000000000*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0011,0000000000000= 10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4+3=6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ответ с учетом знака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1295280" y="2514600"/>
            <a:ext cx="5335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1676520" y="2362320"/>
            <a:ext cx="190476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971800" y="2133720"/>
            <a:ext cx="52578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18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еременной А представлено в форме с плавающей точкой в шестнадцатеричной системе счислени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43610000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переменной  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язы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есятичное значение числа А равно 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ение задачи 2.18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=436100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100 0011 0110 0001 0000 0000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полож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=10000110=206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*64+6=134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ый порядок= 134-127=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тисса равн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110 0001 0000 0000 0000 0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, с учетом порядка, рав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1100001*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11000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4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*64+4*8+1=225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с учетом знак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дставление целых чисел со знак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18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=С357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-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ение задачи 2.18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=С357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00 0011 0101 0111 0000 0000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отрица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000 110=206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8+6=134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ый порядок=134-127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тисс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101 0111 0000 0000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, с учетом порядка,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101 0111 0000 0000 0000 0000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1 010 111=327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*64+2*8+7=215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ем ответ с учетом зн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-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18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F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-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2.18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F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0 0010 1111 0010 0000 0000 0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триц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0 0101=8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8*16+5=1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рядок=133-127=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тисса равн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111 0010 0000 0000 0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, с учетом порядка,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111 0010 0000 0000 0000 0000*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11 1001=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7*16+9=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с учетом знака = -1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ямой код целых чисел со знак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2514600"/>
          <a:ext cx="8001000" cy="36162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1092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AutoShape 233"/>
          <p:cNvSpPr/>
          <p:nvPr/>
        </p:nvSpPr>
        <p:spPr>
          <a:xfrm>
            <a:off x="838080" y="1523880"/>
            <a:ext cx="2971800" cy="685800"/>
          </a:xfrm>
          <a:prstGeom prst="wedgeRoundRectCallout">
            <a:avLst>
              <a:gd name="adj1" fmla="val -25481"/>
              <a:gd name="adj2" fmla="val 13379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: 1- 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 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полнительный  код целых чисел со знак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2514600"/>
          <a:ext cx="8001000" cy="36162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1092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AutoShape 104"/>
          <p:cNvSpPr/>
          <p:nvPr/>
        </p:nvSpPr>
        <p:spPr>
          <a:xfrm>
            <a:off x="838080" y="1523880"/>
            <a:ext cx="2971800" cy="685800"/>
          </a:xfrm>
          <a:prstGeom prst="wedgeRoundRectCallout">
            <a:avLst>
              <a:gd name="adj1" fmla="val -25481"/>
              <a:gd name="adj2" fmla="val 13379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: 1- 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 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полнительный код положительного числ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ый код положительного числа равен прямому коду положитель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3429000"/>
          <a:ext cx="7848360" cy="219708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  <a:gridCol w="871560"/>
                <a:gridCol w="873000"/>
                <a:gridCol w="871560"/>
                <a:gridCol w="871560"/>
                <a:gridCol w="873000"/>
                <a:gridCol w="8715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полнительный код отрицательного числ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ый код отрицательного числа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666880" y="2971800"/>
                <a:ext cx="35053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AutoShape 5"/>
          <p:cNvSpPr/>
          <p:nvPr/>
        </p:nvSpPr>
        <p:spPr>
          <a:xfrm>
            <a:off x="1066680" y="5105520"/>
            <a:ext cx="2413080" cy="1066680"/>
          </a:xfrm>
          <a:prstGeom prst="borderCallout1">
            <a:avLst>
              <a:gd name="adj1" fmla="val 18750"/>
              <a:gd name="adj2" fmla="val -8333"/>
              <a:gd name="adj3" fmla="val -88097"/>
              <a:gd name="adj4" fmla="val 10315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рядов для хранения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715000" y="5029200"/>
            <a:ext cx="2817720" cy="609480"/>
          </a:xfrm>
          <a:prstGeom prst="borderCallout1">
            <a:avLst>
              <a:gd name="adj1" fmla="val 18750"/>
              <a:gd name="adj2" fmla="val -8333"/>
              <a:gd name="adj3" fmla="val -96092"/>
              <a:gd name="adj4" fmla="val -535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 отрицательн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пределение дополнительного кода отрицательного числа -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6201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модуль числа в двоичную систему счисления: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исать число в заданное количество разря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3505320"/>
          <a:ext cx="3809880" cy="1143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280"/>
                <a:gridCol w="476280"/>
                <a:gridCol w="476280"/>
                <a:gridCol w="4762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066680" y="5029200"/>
          <a:ext cx="7315200" cy="10191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erkaololondona@gmail.com</cp:lastModifiedBy>
  <dcterms:modified xsi:type="dcterms:W3CDTF">2020-05-26T10:24:3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