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2A6-2C81-47EF-8073-F1B8E67F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2D9-5894-4D59-9FA4-D9C8EEE8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014-BAB9-49FF-8769-DC2C3C17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503-53A1-409F-85AC-D1F4A58D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AA66-02D0-4BED-9BDA-C7EA1E3D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23BE-2A0B-469D-9DE0-86573BCF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2DA7-6563-473A-8990-9E2CCD3C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2649-D159-4858-AF31-7FD1BBB1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992E-EB0D-400D-8709-0DA21757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BBE4-9DD1-480E-8F37-D3D6B69D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23CD-A2C5-482D-BD8B-7CA88146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3EC-69D8-45D5-B033-90433FAA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0854-B3B2-4B9B-98BB-6665289F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8502-4CDF-4D93-850E-097D9BDD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F60F-0064-4024-8EFC-46AFE480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8E82-79F9-419C-AFCD-CCA410E7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9F36-1934-4BE4-B188-08E86C76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FE0-1E7A-48A8-AB11-24EB68CE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1EA-FEED-482E-9F5D-B2125EBD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CFF-4635-4442-A900-73A5EA2B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F45-59FB-471A-B5DF-6CC6C0B8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6C0-31EE-4037-94EB-02FB3A9F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44E-6F89-4FC5-8811-3A34E76D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EE4-EE04-47B3-92D0-50859314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330A-DE7E-4A4A-9FFC-CC8345334B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2B9E-E461-4CC7-8BE2-7C09ACA112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eec94"/>
                </a:solidFill>
                <a:latin typeface="Times New Roman"/>
              </a:rPr>
              <a:t>Двуликий Янус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02" name="Picture 4" descr="15 двуликий янус"/>
          <p:cNvPicPr/>
          <p:nvPr/>
        </p:nvPicPr>
        <p:blipFill>
          <a:blip r:embed="rId1"/>
          <a:stretch/>
        </p:blipFill>
        <p:spPr>
          <a:xfrm>
            <a:off x="228600" y="228600"/>
            <a:ext cx="4354560" cy="525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6"/>
          <p:cNvPicPr/>
          <p:nvPr/>
        </p:nvPicPr>
        <p:blipFill>
          <a:blip r:embed="rId2"/>
          <a:stretch/>
        </p:blipFill>
        <p:spPr>
          <a:xfrm>
            <a:off x="5638680" y="304920"/>
            <a:ext cx="30495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станки"/>
          <p:cNvPicPr/>
          <p:nvPr/>
        </p:nvPicPr>
        <p:blipFill>
          <a:blip r:embed="rId1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токарня"/>
          <p:cNvPicPr/>
          <p:nvPr/>
        </p:nvPicPr>
        <p:blipFill>
          <a:blip r:embed="rId2"/>
          <a:stretch/>
        </p:blipFill>
        <p:spPr>
          <a:xfrm>
            <a:off x="0" y="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/>
          <p:cNvSpPr/>
          <p:nvPr/>
        </p:nvSpPr>
        <p:spPr>
          <a:xfrm rot="10800000">
            <a:off x="761760" y="4572000"/>
            <a:ext cx="2895480" cy="838080"/>
          </a:xfrm>
          <a:prstGeom prst="wedgeRoundRectCallout">
            <a:avLst>
              <a:gd name="adj1" fmla="val -31912"/>
              <a:gd name="adj2" fmla="val 158898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кар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6095880" y="1752480"/>
            <a:ext cx="2819520" cy="1143000"/>
          </a:xfrm>
          <a:prstGeom prst="wedgeRoundRectCallout">
            <a:avLst>
              <a:gd name="adj1" fmla="val -40597"/>
              <a:gd name="adj2" fmla="val 92222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ка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19 кофейный"/>
          <p:cNvPicPr/>
          <p:nvPr/>
        </p:nvPicPr>
        <p:blipFill>
          <a:blip r:embed="rId1"/>
          <a:stretch/>
        </p:blipFill>
        <p:spPr>
          <a:xfrm>
            <a:off x="0" y="0"/>
            <a:ext cx="5715000" cy="3643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0" y="28195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фейный домик.      К.И.Рос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17а"/>
          <p:cNvPicPr/>
          <p:nvPr/>
        </p:nvPicPr>
        <p:blipFill>
          <a:blip r:embed="rId2"/>
          <a:stretch/>
        </p:blipFill>
        <p:spPr>
          <a:xfrm>
            <a:off x="3276720" y="245736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3124080" y="6338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айный домик.  Л.И.Шарлема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21вазу вернут осенью 2011года"/>
          <p:cNvPicPr/>
          <p:nvPr/>
        </p:nvPicPr>
        <p:blipFill>
          <a:blip r:embed="rId3"/>
          <a:stretch/>
        </p:blipFill>
        <p:spPr>
          <a:xfrm>
            <a:off x="21337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0" descr="Martishka_zerkalo01.jpg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893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24 Крылов"/>
          <p:cNvPicPr/>
          <p:nvPr/>
        </p:nvPicPr>
        <p:blipFill>
          <a:blip r:embed="rId2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762120" y="569736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амятник  И.А.Крыло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Архитектор   П.И.Клод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11" descr="i_kalend3-fev2004_3.jpg"/>
          <p:cNvPicPr/>
          <p:nvPr/>
        </p:nvPicPr>
        <p:blipFill>
          <a:blip r:embed="rId3"/>
          <a:stretch/>
        </p:blipFill>
        <p:spPr>
          <a:xfrm rot="21012000">
            <a:off x="5638320" y="1599840"/>
            <a:ext cx="1905120" cy="2666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4" descr="стрекоза и муравей.jpg"/>
          <p:cNvPicPr/>
          <p:nvPr/>
        </p:nvPicPr>
        <p:blipFill>
          <a:blip r:embed="rId4"/>
          <a:stretch/>
        </p:blipFill>
        <p:spPr>
          <a:xfrm rot="1165800">
            <a:off x="7162560" y="2514240"/>
            <a:ext cx="1628640" cy="24382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8" descr="Lebed_chuka_rak03.jpg"/>
          <p:cNvPicPr/>
          <p:nvPr/>
        </p:nvPicPr>
        <p:blipFill>
          <a:blip r:embed="rId5"/>
          <a:stretch/>
        </p:blipFill>
        <p:spPr>
          <a:xfrm>
            <a:off x="6172200" y="4832280"/>
            <a:ext cx="26668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28"/>
          <p:cNvPicPr/>
          <p:nvPr/>
        </p:nvPicPr>
        <p:blipFill>
          <a:blip r:embed="rId2"/>
          <a:stretch/>
        </p:blipFill>
        <p:spPr>
          <a:xfrm>
            <a:off x="152280" y="-14400"/>
            <a:ext cx="8839440" cy="668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7"/>
          <p:cNvPicPr/>
          <p:nvPr/>
        </p:nvPicPr>
        <p:blipFill>
          <a:blip r:embed="rId3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" descr="191993700087007e36bdd531c4a344bffc53869a63.jpg"/>
          <p:cNvPicPr/>
          <p:nvPr/>
        </p:nvPicPr>
        <p:blipFill>
          <a:blip r:embed="rId4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Летнем саду сохранилось единственное здание петровских времён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тний дворец.Его начали строить в1710 году по проект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6880" y="19051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Доменико  Трез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23585"/>
          <p:cNvPicPr/>
          <p:nvPr/>
        </p:nvPicPr>
        <p:blipFill>
          <a:blip r:embed="rId1"/>
          <a:stretch/>
        </p:blipFill>
        <p:spPr>
          <a:xfrm>
            <a:off x="2895480" y="2666880"/>
            <a:ext cx="6248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comic"/>
              </a:rPr>
              <a:t>Внешне здание мало напоминает дворец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7а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6"/>
          <p:cNvSpPr/>
          <p:nvPr/>
        </p:nvSpPr>
        <p:spPr>
          <a:xfrm>
            <a:off x="6934320" y="3124080"/>
            <a:ext cx="1981080" cy="9907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Гладкие отштукатуренн-ые ст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429000" y="2590920"/>
            <a:ext cx="1981080" cy="761760"/>
          </a:xfrm>
          <a:prstGeom prst="wedgeRectCallout">
            <a:avLst>
              <a:gd name="adj1" fmla="val -43518"/>
              <a:gd name="adj2" fmla="val 879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кна с мелкой расстеклов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4038480" y="990720"/>
            <a:ext cx="2286000" cy="1143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ысокая четырёхскатная кры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 rot="10800000">
            <a:off x="1142640" y="4495680"/>
            <a:ext cx="2895480" cy="1067040"/>
          </a:xfrm>
          <a:prstGeom prst="wedgeRectCallout">
            <a:avLst>
              <a:gd name="adj1" fmla="val 23023"/>
              <a:gd name="adj2" fmla="val 9717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Фриз из 29 барельефов   прославляющих  мощь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1" descr="барельеф"/>
          <p:cNvPicPr/>
          <p:nvPr/>
        </p:nvPicPr>
        <p:blipFill>
          <a:blip r:embed="rId2"/>
          <a:stretch/>
        </p:blipFill>
        <p:spPr>
          <a:xfrm>
            <a:off x="228600" y="4495680"/>
            <a:ext cx="3886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219320" y="251460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Интерьеры  дворц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930"/>
          <p:cNvPicPr/>
          <p:nvPr/>
        </p:nvPicPr>
        <p:blipFill>
          <a:blip r:embed="rId1"/>
          <a:stretch/>
        </p:blipFill>
        <p:spPr>
          <a:xfrm>
            <a:off x="0" y="0"/>
            <a:ext cx="4724280" cy="3505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4563"/>
          <p:cNvPicPr/>
          <p:nvPr/>
        </p:nvPicPr>
        <p:blipFill>
          <a:blip r:embed="rId2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989"/>
          <p:cNvPicPr/>
          <p:nvPr/>
        </p:nvPicPr>
        <p:blipFill>
          <a:blip r:embed="rId3"/>
          <a:stretch/>
        </p:blipFill>
        <p:spPr>
          <a:xfrm>
            <a:off x="0" y="3486240"/>
            <a:ext cx="4648320" cy="3371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спальня"/>
          <p:cNvPicPr/>
          <p:nvPr/>
        </p:nvPicPr>
        <p:blipFill>
          <a:blip r:embed="rId4"/>
          <a:stretch/>
        </p:blipFill>
        <p:spPr>
          <a:xfrm>
            <a:off x="4648320" y="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поварня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590920" y="6338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"/>
              </a:rPr>
              <a:t>Повар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ni Lady</dc:creator>
  <dc:description/>
  <dc:language>en-US</dc:language>
  <cp:lastModifiedBy>Пользователь Windows</cp:lastModifiedBy>
  <dcterms:modified xsi:type="dcterms:W3CDTF">2020-05-26T05:53:50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