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6EAF-AA67-4A4F-89FF-E21194AFD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C81A-88F5-4580-87B5-0813763B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1E9C-C89F-468F-AD75-A1E996F83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9FF2-3A75-4ED2-8FE4-F84A1EE91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A5F9-8DC9-43EF-AEB7-4CB5A11E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52E7-82AB-45C4-86B2-5EA59536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119A-DEA5-455D-B1B8-A027200B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0A19-6347-46F1-9955-9299229B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55AF-B05B-45F1-88CB-B80DD762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E4D8-0985-4ADE-8AFB-030CB6E4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AE0C-99D9-4065-B187-7D6B46B9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80F4-0B42-4E9F-AB86-7ABC3407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5FB2-8D33-4168-9392-E96F3C56AEA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етский сад «Светлячок»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В гостях у сказ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ладший дошкольный возрас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ила: Найман ТатьянаЛюдвик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. Заводоуковс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033edc779ede"/>
          <p:cNvPicPr/>
          <p:nvPr/>
        </p:nvPicPr>
        <p:blipFill>
          <a:blip r:embed="rId1"/>
          <a:stretch/>
        </p:blipFill>
        <p:spPr>
          <a:xfrm>
            <a:off x="-541440" y="0"/>
            <a:ext cx="10153800" cy="68454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4" descr="48253d2f7464"/>
          <p:cNvPicPr/>
          <p:nvPr/>
        </p:nvPicPr>
        <p:blipFill>
          <a:blip r:embed="rId1"/>
          <a:stretch/>
        </p:blipFill>
        <p:spPr>
          <a:xfrm>
            <a:off x="0" y="0"/>
            <a:ext cx="9144000" cy="7532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Что нёс медведь бабушке и дедушке в деревню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ле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т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рог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4" descr="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4" descr="0002-002-Teremok"/>
          <p:cNvPicPr/>
          <p:nvPr/>
        </p:nvPicPr>
        <p:blipFill>
          <a:blip r:embed="rId1"/>
          <a:stretch/>
        </p:blipFill>
        <p:spPr>
          <a:xfrm>
            <a:off x="0" y="0"/>
            <a:ext cx="9144000" cy="7677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то сломал теремок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ш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двед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я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5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5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5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5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5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5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5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4" descr="6(4)"/>
          <p:cNvPicPr/>
          <p:nvPr/>
        </p:nvPicPr>
        <p:blipFill>
          <a:blip r:embed="rId1"/>
          <a:stretch/>
        </p:blipFill>
        <p:spPr>
          <a:xfrm>
            <a:off x="-324000" y="0"/>
            <a:ext cx="9649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4" descr="Untitled-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301680" y="220680"/>
            <a:ext cx="8510400" cy="134136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2" descr=""/>
          <p:cNvPicPr/>
          <p:nvPr/>
        </p:nvPicPr>
        <p:blipFill>
          <a:blip r:embed="rId2"/>
          <a:stretch/>
        </p:blipFill>
        <p:spPr>
          <a:xfrm>
            <a:off x="301680" y="1676520"/>
            <a:ext cx="8540640" cy="51051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 А Г А Д К А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от дедушки уше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от бабушки уше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меня румяный б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зовусь я ………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общение детей к устному народному творчеству.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должать знакомить детей с русским народным творчеством сказк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вать умение детей использовать в собственной речи отрывки из сказ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итывать умение слушать внимательно, узнавать знакомое произведение, узнавать героев сказ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буждать детей выражать удовольствие от встречи с литературным героем, радость  эмоционального сотрудничества и сопережи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 О Л О Б О К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4" descr="16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итрая плуто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ыжая голо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ушистый хвост-кра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зовут ёё 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Лис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4" descr="i"/>
          <p:cNvPicPr/>
          <p:nvPr/>
        </p:nvPicPr>
        <p:blipFill>
          <a:blip r:embed="rId1"/>
          <a:stretch/>
        </p:blipFill>
        <p:spPr>
          <a:xfrm>
            <a:off x="2411280" y="1268280"/>
            <a:ext cx="4392720" cy="5300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за зверь лес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тал, как столбик, под сос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стоял среди трав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ши больше голов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яц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1237403409_khrabryjj_zajac015310210617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56480" cy="577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Молодцы!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4" descr="aafa7022f3f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Кто разбил яйцо в сказке «Курочка Ряба?»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роч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Ш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БУШ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ДУШ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03labl8m412204654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4" descr="repk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60-01-0105"/>
          <p:cNvPicPr/>
          <p:nvPr/>
        </p:nvPicPr>
        <p:blipFill>
          <a:blip r:embed="rId1"/>
          <a:stretch/>
        </p:blipFill>
        <p:spPr>
          <a:xfrm>
            <a:off x="0" y="0"/>
            <a:ext cx="96854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Что вытянули из земли дед, бабка, внучка, Жучка, кошка, мышка?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рков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ёкл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п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у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4" descr="581395-fa1561534eb262b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16:25:32Z</dcterms:created>
  <dc:creator>Мама</dc:creator>
  <dc:description/>
  <dc:language>en-US</dc:language>
  <cp:lastModifiedBy>Nord</cp:lastModifiedBy>
  <dcterms:modified xsi:type="dcterms:W3CDTF">2020-05-26T09:08:02Z</dcterms:modified>
  <cp:revision>20</cp:revision>
  <dc:subject/>
  <dc:title>В И К Т О Р И Н 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342</vt:lpwstr>
  </property>
</Properties>
</file>