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C4F-4882-45BD-A41F-C23A5569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897-A6FF-4DC3-BD58-D3FEF5B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1F6-5CF2-48DA-AC05-5AD636BD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C72-BDB4-4DAF-83FE-68E10C19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271-D511-423F-8B26-13F41A5F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F60-6C57-4096-85E1-46DF5A7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F98-1547-4BE5-AAC4-0F50B969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55D-3520-43DB-A565-6FC3B49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A71-57AD-49C4-A3A1-4CA8FBB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25A-A563-4E1B-A90F-103FB609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CB7-32C5-407C-9201-264827E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778-7279-4DAF-AF80-3D269DA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AF8E-037A-4D26-BC64-5B5D8EE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B7F-58B9-4574-BEED-911C2A4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F680-0E08-4043-B3C6-51A7495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76D6-C499-4918-B518-37B2D2A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4DF-AFF8-43C6-9595-EDDC1D8D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D32-2018-4B0F-841E-21408D3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CEC-52AE-4135-B57A-F8A7A909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50E-2346-4C33-AC61-14E0B7C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B86-75B2-4AA6-91BF-312F6A9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85A-07FE-4269-81EE-B4433D0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89F-107B-4C36-A3C2-B012BD3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004-43FD-4F51-869C-C868658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213-3336-478E-93B7-A34B22844A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2947-8723-4261-99AC-C7B086BF9F2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898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сследовательский проект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на тему: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Times New Roman"/>
              </a:rPr>
              <a:t>«Спорт и здоровье – неразделимые понятия !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284720" y="3933360"/>
            <a:ext cx="356400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полнил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учающийся  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б класс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абдрахманов Адел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sport011"/>
          <p:cNvPicPr/>
          <p:nvPr/>
        </p:nvPicPr>
        <p:blipFill>
          <a:blip r:embed="rId1"/>
          <a:stretch/>
        </p:blipFill>
        <p:spPr>
          <a:xfrm>
            <a:off x="1258920" y="3645000"/>
            <a:ext cx="2233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1052640"/>
            <a:ext cx="7386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В ходе исследования я выяснил, что спорт является неотъемлемой частью здорового образа жизни, который нужно формировать в школьном возраст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Из своей работы я сделал вывод, что для того чтобы дети занимались спортом, они должны знать о работе кружков как можно больш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Проведя исследовательскую работу, посетив наши спортивные кружки, я узнал много интересного и полезного для себя и попыталася донести информацию до одноклассников</a:t>
            </a: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 . 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Уроки физической культуры: учитель Галиев Азат Гильмуллович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5" descr="C:\Users\азбон\Desktop\Фото видио материалы с телефона\IMG-20170217-WA0000.jpg"/>
          <p:cNvPicPr/>
          <p:nvPr/>
        </p:nvPicPr>
        <p:blipFill>
          <a:blip r:embed="rId1"/>
          <a:stretch/>
        </p:blipFill>
        <p:spPr>
          <a:xfrm>
            <a:off x="0" y="1598760"/>
            <a:ext cx="78120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Лыжная и горнолыжная подготовка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4" descr="C:\Users\азбон\Desktop\Фото видио материалы с телефона\IMG-20170209-WA0001.jpg"/>
          <p:cNvPicPr/>
          <p:nvPr/>
        </p:nvPicPr>
        <p:blipFill>
          <a:blip r:embed="rId1"/>
          <a:stretch/>
        </p:blipFill>
        <p:spPr>
          <a:xfrm>
            <a:off x="0" y="620640"/>
            <a:ext cx="3851280" cy="266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азбон\Desktop\Фото видио материалы с телефона\08.03.2017\IMG-20170308-WA0045.jpg"/>
          <p:cNvPicPr/>
          <p:nvPr/>
        </p:nvPicPr>
        <p:blipFill>
          <a:blip r:embed="rId2"/>
          <a:stretch/>
        </p:blipFill>
        <p:spPr>
          <a:xfrm>
            <a:off x="3995640" y="620640"/>
            <a:ext cx="3745080" cy="266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азбон\Desktop\Фото видио материалы с телефона\08.03.2017\IMG-20170308-WA0078.jpg"/>
          <p:cNvPicPr/>
          <p:nvPr/>
        </p:nvPicPr>
        <p:blipFill>
          <a:blip r:embed="rId3"/>
          <a:stretch/>
        </p:blipFill>
        <p:spPr>
          <a:xfrm>
            <a:off x="3995640" y="3429000"/>
            <a:ext cx="3745080" cy="266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:\Users\азбон\фото\100MEDIA\IMAG0049.jpg"/>
          <p:cNvPicPr/>
          <p:nvPr/>
        </p:nvPicPr>
        <p:blipFill>
          <a:blip r:embed="rId4"/>
          <a:stretch/>
        </p:blipFill>
        <p:spPr>
          <a:xfrm>
            <a:off x="0" y="3427560"/>
            <a:ext cx="3851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Участие в различных  соревнованиях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2" descr="C:\Users\азбон\Веломарафон 6 мая 2015года\Марафон 2015\print_665147_981740.jpg"/>
          <p:cNvPicPr/>
          <p:nvPr/>
        </p:nvPicPr>
        <p:blipFill>
          <a:blip r:embed="rId1"/>
          <a:stretch/>
        </p:blipFill>
        <p:spPr>
          <a:xfrm>
            <a:off x="0" y="1268280"/>
            <a:ext cx="3929040" cy="2551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азбон\Веломарафон 6 мая 2015года\view_662386_969865.jpg"/>
          <p:cNvPicPr/>
          <p:nvPr/>
        </p:nvPicPr>
        <p:blipFill>
          <a:blip r:embed="rId2"/>
          <a:stretch/>
        </p:blipFill>
        <p:spPr>
          <a:xfrm>
            <a:off x="4140360" y="1268280"/>
            <a:ext cx="3720960" cy="2521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азбон\фото\100MEDIA\IMAG0172.jpg"/>
          <p:cNvPicPr/>
          <p:nvPr/>
        </p:nvPicPr>
        <p:blipFill>
          <a:blip r:embed="rId3"/>
          <a:stretch/>
        </p:blipFill>
        <p:spPr>
          <a:xfrm>
            <a:off x="0" y="4003560"/>
            <a:ext cx="3924360" cy="2665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азбон\Desktop\Фото видио материалы с телефона\08.03.2017\IMG-20170105-WA0002.jpg"/>
          <p:cNvPicPr/>
          <p:nvPr/>
        </p:nvPicPr>
        <p:blipFill>
          <a:blip r:embed="rId4"/>
          <a:stretch/>
        </p:blipFill>
        <p:spPr>
          <a:xfrm>
            <a:off x="4140360" y="400536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Волейбол: тренер Шайхелисламов Булат Фанитович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2" descr="C:\Users\Максим\Desktop\voleybol.jpg"/>
          <p:cNvPicPr/>
          <p:nvPr/>
        </p:nvPicPr>
        <p:blipFill>
          <a:blip r:embed="rId1"/>
          <a:stretch/>
        </p:blipFill>
        <p:spPr>
          <a:xfrm>
            <a:off x="0" y="1392120"/>
            <a:ext cx="77407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АНИМАНИЕ!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УДЬТЕ ЗДОРОВЫ!!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i?id=90471100-36-72&amp;n=21"/>
          <p:cNvPicPr/>
          <p:nvPr/>
        </p:nvPicPr>
        <p:blipFill>
          <a:blip r:embed="rId2"/>
          <a:stretch/>
        </p:blipFill>
        <p:spPr>
          <a:xfrm>
            <a:off x="2627280" y="2349360"/>
            <a:ext cx="26528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Что такое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здоровый образ жизни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9160" y="2852640"/>
            <a:ext cx="73868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 Black"/>
              </a:rPr>
              <a:t>Здоровый образ жизн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это комплексное понятие (занятие спортом, правильное питание, отказ от вредных привычек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 Black"/>
              </a:rPr>
              <a:t>Соблюдая их, мы сохраним свое здоровье на долгие годы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5" descr="i?id=343993403-45-72&amp;n=21"/>
          <p:cNvPicPr/>
          <p:nvPr/>
        </p:nvPicPr>
        <p:blipFill>
          <a:blip r:embed="rId1"/>
          <a:stretch/>
        </p:blipFill>
        <p:spPr>
          <a:xfrm>
            <a:off x="2916360" y="1495440"/>
            <a:ext cx="1293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блема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не у всех школьников сформирована  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отребность в формировани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здорового образа жизн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определение понятия здорового образа жизни у моих одноклассников и их отношения к спорту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сли все мои одноклассники будут придерживаться здорового образа жизни и полюбят спорт, то это положительно отразится на их здоровье.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98064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 Раскрыть понятие здорового образа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Выяснить, является ли спорт частью здорового образа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Изучить отношение одноклассников к спорт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 Познакомить одноклассников с основными спортивными кружками нашей шко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 Организовать с классным руководителем спортивный досуг через участие одноклассников в соревнованиях, спортивных играх, конкурсах, физкультурных минутка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 данным на сегодняшний день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клонения в здоровье - более 60% населе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меют вредные привычки - более 55%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мертность превышает рождаемость на 21 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чительная часть населения проживает в экологически неблагоприятных местностя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нимаются физической культурой и спортом лишь10,6%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Анке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Ведёшь ли ты здоровый образ жизн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Н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Какой вид спорта тебе нравится?          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Каким видом спорта ты занимаешся сейча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Какие виды спорта развиты в нашей школе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Где ты предпочитаешь заниматься спортом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в школ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в спортивная шко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Какие спортивные передачи ты смотришь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.Знаешь ли ты олимпиицев нашей страны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Результаты анкетирования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3520" y="764640"/>
            <a:ext cx="7386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се мои одноклассники, считают, что ведут здоровый образ жиз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5% опрошенных - занимаются любимым видом спорта и считают, что лучше всего это делать в спортивных кружка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0% – футбол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5% - занимаются в кружках не связанных со 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0%  вообще не занимаются никаким видом спорт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60 % моих одноклассников любят зимние виды спорта – катание на лыжах, коньках и санка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 телевизору смотрят спортивные передачи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60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% ученик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начит, большая часть класса пассивно, но все-таки интересуется спортом Наиболее любимые спортивные передачи - биатлон, футбол, фигурное катание, хокке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0%-знают победителей олимпийских иг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5:44:44Z</dcterms:created>
  <dc:creator>ADMIN</dc:creator>
  <dc:description/>
  <dc:language>en-US</dc:language>
  <cp:lastModifiedBy>азбон</cp:lastModifiedBy>
  <dcterms:modified xsi:type="dcterms:W3CDTF">2019-03-05T04:17:19Z</dcterms:modified>
  <cp:revision>36</cp:revision>
  <dc:subject/>
  <dc:title>Детский исследовательский проект на тему «Спорт и здоровье – неразделимые понятия !»</dc:title>
</cp:coreProperties>
</file>