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5.gif" ContentType="image/gif"/>
  <Override PartName="/ppt/media/image6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F243-D937-441B-843D-ADD35154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21DE-9A11-483E-8554-20FAAA8C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4CED-045C-4C09-A1CA-11D47FE4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1477-471B-4CE1-851B-B64E42AC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6C5A-EB36-41D1-B791-AD547390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4F11-A3B4-4B11-88AD-5310A54E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45D6-4E24-4822-B672-EB21A40A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82CC-3F7D-43C4-890C-4D6C615E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A2C7-43BD-4ECC-BDE2-581B2BD6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186E-B626-4C83-9AF1-6B4ACB73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2D02-94B6-4354-98DC-75D6A692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5CD0-560B-4993-A560-0594E639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0CD0-DB9B-4F2C-9590-6AE7E858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9193-ADB1-4FBB-B9F6-246BA7D9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8BB3-1A9B-4BEA-8376-FBB1EDB1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B01B-EE86-41B8-85EF-80CE85D3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E0BC-A0A1-405B-BF73-0367BA5D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C995-7E7B-4022-89DD-5BFA5586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FF1E-6939-42E2-B374-CC86E346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C83-313C-4C67-9D96-38AB8A6A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43A7-CEC9-49D7-84D1-BA49AFE9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F1DC-D132-4D5E-84A6-DE97D41D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5004-D7E0-4B56-86A7-0676246E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6C2E-56EB-414B-85A9-B129B97C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F9AF-D097-40E5-BB7E-E20B80F4FB2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2FCB-B360-41E8-A7B3-12564D673CA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143000"/>
            <a:ext cx="76230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6633"/>
                </a:solidFill>
                <a:latin typeface="Garamond"/>
              </a:rPr>
              <a:t>Сон и сновидения . Речь и сознание. Познавательные процессы.</a:t>
            </a:r>
            <a:br>
              <a:rPr sz="4600"/>
            </a:b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000160" y="400068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6" descr="mard3027big.jpg"/>
          <p:cNvPicPr/>
          <p:nvPr/>
        </p:nvPicPr>
        <p:blipFill>
          <a:blip r:embed="rId1"/>
          <a:stretch/>
        </p:blipFill>
        <p:spPr>
          <a:xfrm>
            <a:off x="5334120" y="30481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7" descr="x_f819a75c.jpg"/>
          <p:cNvPicPr/>
          <p:nvPr/>
        </p:nvPicPr>
        <p:blipFill>
          <a:blip r:embed="rId2"/>
          <a:stretch/>
        </p:blipFill>
        <p:spPr>
          <a:xfrm>
            <a:off x="0" y="3357720"/>
            <a:ext cx="52862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a6db9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Garamond"/>
              </a:rPr>
              <a:t>Речь и рефлекс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ffe08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на позволяет нам мысленно представить, что мы собираемся сделать, отобрать наилучший вариант, осуществить выбор, короче, действовать сознательно. Именно эти осознанные действия, обдуманные человеком, а не условные и безусловные рефлексы определяют его повед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знавательные процессы также связаны с речью. Она позволяет понять происходящее и сохранить в памяти пережитые человеком собы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ознавательные процессы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щущения, восприятия, представления, память, воображение, мышление являются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ознавательными процессам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Они неразрывно связаны друг с другом и все вместе участвуют в сборе, обработке и хранении информации. Благодаря этим процессам мы можем разобраться в окружающей нас обстановке и принять адекватные (соответствующие) реш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Garamond"/>
              </a:rPr>
              <a:t>Познавательная деятельност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adffd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знавательная деятельность человека начинается с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щуще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отдельных качеств предметов и явлений: твердости, гладкости, громкости, яркости –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осприят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ространства в целом и отдельных предметов в нем, действующих на органы чувств в данный момент. Эти впечатления фиксируются нашей память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d0eccb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Garamond"/>
              </a:rPr>
              <a:t>Памят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ffe08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амя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– это сохранение в сознании прошлого опыта, делающее его с помощью речи легко воспроизводимым в любой момент и возможным для повторного использования. Различают три основных процесса памяти: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сохранени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воспроизведени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Как заучить, как запомнить надолго и воспроизвести, т.е. вспомнить материал именно тогда, когда это нужно, – проблема многих люд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Виды памя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adffd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сихологи различают память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олговременную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раткосрочную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Допустим, вы захотели узнать номер телефона кинотеатра и позвонили в справочную. Вам ответили, вы набрали номер, занято. Повесили трубку, хотели набрать номер снова и ... не смогли – забыли его, потому что была установка на короткий срок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перативная памят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adffd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вонить еще раз вы не собирались. Такую краткосрочную память называю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перативно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поскольку она действует лишь на тот срок, который необходим для совершения операции (в нашем примере – набор телефонного номера кинотеатра). Долговременная память более прочна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Механическая и логическая памят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ffe08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личают также память механическую и логическую.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еханическа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амять действует, когда каждый факт заучивают отдельно.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Логическа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когда между фактами находят систему связей, которая позволяет последовательно извлекать нужную информацию, связывая ее с уже известн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амять, связанная с органами чувст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43600"/>
          </a:xfrm>
          <a:prstGeom prst="rect">
            <a:avLst/>
          </a:prstGeom>
          <a:solidFill>
            <a:srgbClr val="adffd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мять бывает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зритель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слухов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мотор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и у разных людей наиболее эффективной бывает одна, либо вторая, либо третья, либо какие-то сочетания из них. Зная это, надо решить для себя, что лучше: заучивать материал вслух, читать про себя или составить конспект прочитанного. Последний вариант будет полезен для многих, так как активная работа с учебным материалом позволит лучше запомнить нужную информаци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Полезные совет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adffd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запоминании не следует читать текст много раз подряд. Лучше прочесть один раз и попытаться мысленно или вслух его пересказать, заглядывая лишь в забытые места. Если у доски не удалось хорошо ответить материал, который вы дома учили, задумайтесь о причинах. Возможно, все дело было в том, что вы плохо представляли себе план ответа и учителю приходилось помогать вам наводящими вопроса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чины неудачи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подготовке к следующему уроку лучше записать план и попробовать ответить, используя этот план, а потом мысленно вспоминая его пункты. Возможно, причина неудачи в том, что было трудно отвечать из-за волнения. Одноклассники мешали сосредоточиться, срабатывал механизм безусловного торможения. Преодолеть этот недостаток можно только путем тренировки. Надо как можно чаще выступать перед аудиторией, чтобы привыкнуть к н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900000" y="189000"/>
            <a:ext cx="7128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Со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e0ab2"/>
                </a:solidFill>
                <a:latin typeface="Times New Roman"/>
              </a:rPr>
              <a:t>– отдых мозга, перестройка работы мозга, торможение основных отделов коры больших полушарий, восстановление работоспособности нейронов, упорядочивание полученной информации в период бодрствования, утрата активных связей с окружающей сре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900000" y="4221000"/>
            <a:ext cx="734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Физиологическая природа с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e0ab2"/>
                </a:solidFill>
                <a:latin typeface="Times New Roman"/>
              </a:rPr>
              <a:t>– в стволе мозга имеются группы нейронов, с которыми связаны бодрствование, сон, заторможенность движений во время 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Храп"/>
          <p:cNvPicPr/>
          <p:nvPr/>
        </p:nvPicPr>
        <p:blipFill>
          <a:blip r:embed="rId1"/>
          <a:stretch/>
        </p:blipFill>
        <p:spPr>
          <a:xfrm>
            <a:off x="8172360" y="620640"/>
            <a:ext cx="73656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Воображе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5cffa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мять всегда опирается на воображение и мышление.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– это создание представлений и мысленных ситуаций, ранее не воспринимавшихся человеком в действительности. Яркость и точность этих образов – основа развития творческой дея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Мышле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adffd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способность на основе известных знаний добывать новую информацию. Проснувшись утром, вы увидели мокрые крыши и заключили, что был дождь, хотя в данный момент дождя нет. Чтобы сделать такой вывод, надо было знать общие свойства воды – способность смачивать предметы. Это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обобщени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зволило вам узнать о событии, свидетелем которого вы не были. Мышление невозможно без обобщений, а они всегда связаны с речью, и потому любой человек, не задумываясь, назовет язык (или языки), на котором он думает, мысли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Значение мышле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229600" cy="578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ышление дает нам возможность точно обрабатывать полученную информацию и использовать ее для решения различных жизненных и познавательных пробле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3" descr="brain.gif"/>
          <p:cNvPicPr/>
          <p:nvPr/>
        </p:nvPicPr>
        <p:blipFill>
          <a:blip r:embed="rId1"/>
          <a:stretch/>
        </p:blipFill>
        <p:spPr>
          <a:xfrm>
            <a:off x="2500200" y="3114720"/>
            <a:ext cx="41911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Выво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5cffa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изиология высшей нервной деятельности – это наука о закономерностях головного мозга, влияющих на поведение животных и человека. Безусловные рефлексы, инстинкты, запечатления, как и многие приобретенные формы поведения (условные рефлексы, рассудочная деятельность), а также законы работы головного мозга (наличие безусловного и условного торможения, явления доминанты, закон взаимной индукции) едины для человека и животн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Познавательные процесс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ffe08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лавное отличие человека от животных – это сознание, владение речью, способность к трудовой деятельности и общественной жизн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 познавательным процессам относят ощущения, восприятие, память, воображение, мышление. Ощущения отражают отдельные качества предмета, восприятие – весь предмет и всю обстановку в целом. Память – это сохранение в сознании прошлого опыта. Воображение – это способность создавать мысленные образы реальных и нереальных предметов и событ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Речь и мышление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Содержимое 3" descr="doctor11-res.jpg"/>
          <p:cNvPicPr/>
          <p:nvPr/>
        </p:nvPicPr>
        <p:blipFill>
          <a:blip r:embed="rId1"/>
          <a:stretch/>
        </p:blipFill>
        <p:spPr>
          <a:xfrm>
            <a:off x="285840" y="1285920"/>
            <a:ext cx="85089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Мышление и реч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ышление – это способность на основе известных знаний и воображения добывать новую информацию. Мышление неразрывно связано с речью. В его основе лежит обобщение фактов, знание законов, умение логически обрабатывать информацию. Оно помогает нам организовать нашу деятельность и общаться с другими людь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омашнее задание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учить материал параграфов 55-5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учить материал презент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ать письменный ответ на вопросы 1-3, стр. 348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ать письменный ответ на вопросы 5, 6, 9, 10, стр. 35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24000" y="260280"/>
            <a:ext cx="8569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0aa6"/>
                </a:solidFill>
                <a:latin typeface="Times New Roman"/>
              </a:rPr>
              <a:t>Электрическую активность мозга можно регистрировать при помощи электроэнцефалографа. Электроэнцефалография показала, что головной мозг постоянно находится в состоянии активности, даже тогда, когда мы ни о чем не думаем. Наиболее регулярные проявления активности – так называемые альфа-волны – исходят из зрительных зон затылочной доли, когда человек находится в покое и глаза закрыты. Эти волны возникают ритмически с частотой 9-10 в секунду. Сон - единственное нормальное состояние, при котором электрическая активность мозга резко изменена. По мере углубления сна волны становятся медленнее и выше (т.е. потенциал их возрастает). При сновидениях регистрируются нерегулярные вол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755640" y="1147680"/>
            <a:ext cx="792000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Причины наступления с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0ab2"/>
                </a:solidFill>
                <a:latin typeface="Times New Roman"/>
              </a:rPr>
              <a:t>биологический ритм сна и бодрствования связан со  сменой дня и ночи, это естественное состояние человека, усталость способствует наступлению сна, условные раздражители – тоже могут быть причиной наступления сна (привычные действия, время отхода ко сну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тадии сна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1e0ab2"/>
                </a:solidFill>
                <a:latin typeface="Times New Roman"/>
              </a:rPr>
              <a:t>медленный сон и быстрый с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Мультяшки (4)"/>
          <p:cNvPicPr/>
          <p:nvPr/>
        </p:nvPicPr>
        <p:blipFill>
          <a:blip r:embed="rId1"/>
          <a:stretch/>
        </p:blipFill>
        <p:spPr>
          <a:xfrm>
            <a:off x="7740720" y="333360"/>
            <a:ext cx="1082520" cy="844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Мультяшки (2)"/>
          <p:cNvPicPr/>
          <p:nvPr/>
        </p:nvPicPr>
        <p:blipFill>
          <a:blip r:embed="rId2"/>
          <a:stretch/>
        </p:blipFill>
        <p:spPr>
          <a:xfrm>
            <a:off x="6516720" y="260280"/>
            <a:ext cx="892080" cy="1069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Смайлик (20)"/>
          <p:cNvPicPr/>
          <p:nvPr/>
        </p:nvPicPr>
        <p:blipFill>
          <a:blip r:embed="rId3"/>
          <a:stretch/>
        </p:blipFill>
        <p:spPr>
          <a:xfrm>
            <a:off x="250920" y="5157720"/>
            <a:ext cx="15112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Стадии 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620640"/>
          <a:ext cx="8642160" cy="4937040"/>
        </p:xfrm>
        <a:graphic>
          <a:graphicData uri="http://schemas.openxmlformats.org/drawingml/2006/table">
            <a:tbl>
              <a:tblPr/>
              <a:tblGrid>
                <a:gridCol w="3889440"/>
                <a:gridCol w="475272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387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e0ab2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1e0ab2"/>
                          </a:solidFill>
                          <a:latin typeface="Times New Roman"/>
                          <a:ea typeface="Times New Roman"/>
                        </a:rPr>
                        <a:t>Медленный сон (1-1,5 час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387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e0ab2"/>
                          </a:solidFill>
                          <a:latin typeface="Times New Roman"/>
                          <a:ea typeface="Times New Roman"/>
                        </a:rPr>
                        <a:t>Быстрый сон  (10-15 минут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09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8387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кие волны большой амплитуды, мышцы расслаблены, ровное дыхание, сердцебиение замедленно, глазные яблоки неподвижны, обмен веществ и температура понижаются, сновидений 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8387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ебания быстрые, ритм сердечной деятельности повышается, глазные яблоки подвижны, мышцы расслаблены, активизация деятельности всех внутренних органов, сокращение отдельных групп мышц, сновид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8387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утру продолжительность стадии увеличивается до 25-30 минут – активация функций к моменту пробужд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" name="Picture 48" descr="Смайлик (20)"/>
          <p:cNvPicPr/>
          <p:nvPr/>
        </p:nvPicPr>
        <p:blipFill>
          <a:blip r:embed="rId1"/>
          <a:stretch/>
        </p:blipFill>
        <p:spPr>
          <a:xfrm>
            <a:off x="6877080" y="5281560"/>
            <a:ext cx="179856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Речь и сознание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adffd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Физиология высшей нервной деятельност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это наука о закономерностях работы головного мозга, влияющих на поведение животных и человека. Безусловные рефлексы и инстинкты обеспечивают приспособление организма к стабильным условиям сред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e085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Garamond"/>
              </a:rPr>
              <a:t>Подсозна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a1da9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словные рефлексы и рассудочная деятельность приспосабливают организм к постоянно меняющимся событиям, но не они определяют основное поведение человека: многие инстинктивные побуждения часто просто не осознаются человеком и составляют его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одсознани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15600" cy="1417680"/>
          </a:xfrm>
          <a:prstGeom prst="rect">
            <a:avLst/>
          </a:prstGeom>
          <a:solidFill>
            <a:srgbClr val="ffd147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Garamond"/>
              </a:rPr>
              <a:t>Главное отличие человека от животных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71960"/>
          </a:xfrm>
          <a:prstGeom prst="rect">
            <a:avLst/>
          </a:prstGeom>
          <a:solidFill>
            <a:srgbClr val="a6db9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лавное отличие человека от других существ – это сознание и владение речью, способность к трудовой деятельности и общественной жизни. В головном мозге каждого человека имеются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речевые центр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Но на каком языке заговорит человек, зависит не от головного мозга, а от окружающей его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языковой сред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На каком языке его научат говорить, таким он и будет пользовать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чь возникла в процессе трудовой деятельности. Она позволила объединить действия многих людей, распределить обязанности между членами групп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adffd6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404040"/>
                </a:solidFill>
                <a:latin typeface="Garamond"/>
              </a:rPr>
              <a:t>Речь и ее значение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ffd14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чь возникла в процессе трудовой деятельности. Она позволила объединить действия многих людей, распределить обязанности между членами групп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чь, труд и общение во многом изменили и самого человека, содействовали развитию его сознания. Параллельно с развитием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нешней реч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у каждого человека формируется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нутренняя реч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4:18:12Z</dcterms:created>
  <dc:creator>54</dc:creator>
  <dc:description/>
  <dc:language>en-US</dc:language>
  <cp:lastModifiedBy>admin</cp:lastModifiedBy>
  <dcterms:modified xsi:type="dcterms:W3CDTF">2020-04-17T06:05:15Z</dcterms:modified>
  <cp:revision>8</cp:revision>
  <dc:subject/>
  <dc:title>§ 60. Особенности высшей нервной деятельности человека. Познавательные процессы </dc:title>
</cp:coreProperties>
</file>