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4.png" ContentType="image/png"/>
  <Override PartName="/ppt/media/image21.gif" ContentType="image/gif"/>
  <Override PartName="/ppt/media/image19.gif" ContentType="image/gif"/>
  <Override PartName="/ppt/media/image23.png" ContentType="image/png"/>
  <Override PartName="/ppt/media/image20.gif" ContentType="image/gif"/>
  <Override PartName="/ppt/media/image54.jpeg" ContentType="image/jpeg"/>
  <Override PartName="/ppt/media/image18.gif" ContentType="image/gif"/>
  <Override PartName="/ppt/media/image53.png" ContentType="image/png"/>
  <Override PartName="/ppt/media/image22.png" ContentType="image/png"/>
  <Override PartName="/ppt/media/image17.gif" ContentType="image/gif"/>
  <Override PartName="/ppt/media/image52.png" ContentType="image/png"/>
  <Override PartName="/ppt/media/image16.gif" ContentType="image/gif"/>
  <Override PartName="/ppt/media/image51.png" ContentType="image/png"/>
  <Override PartName="/ppt/media/image15.gif" ContentType="image/gif"/>
  <Override PartName="/ppt/media/image50.png" ContentType="image/png"/>
  <Override PartName="/ppt/media/image14.gif" ContentType="image/gif"/>
  <Override PartName="/ppt/media/image27.gif" ContentType="image/gif"/>
  <Override PartName="/ppt/media/image1.jpeg" ContentType="image/jpeg"/>
  <Override PartName="/ppt/media/image4.wmf" ContentType="image/x-wmf"/>
  <Override PartName="/ppt/media/image8.gif" ContentType="image/gif"/>
  <Override PartName="/ppt/media/image38.gif" ContentType="image/gif"/>
  <Override PartName="/ppt/media/image25.gif" ContentType="image/gif"/>
  <Override PartName="/ppt/media/image2.gif" ContentType="image/gif"/>
  <Override PartName="/ppt/media/image32.gif" ContentType="image/gif"/>
  <Override PartName="/ppt/media/image34.gif" ContentType="image/gif"/>
  <Override PartName="/ppt/media/image37.png" ContentType="image/png"/>
  <Override PartName="/ppt/media/image35.gif" ContentType="image/gif"/>
  <Override PartName="/ppt/media/image40.png" ContentType="image/png"/>
  <Override PartName="/ppt/media/image36.gif" ContentType="image/gif"/>
  <Override PartName="/ppt/media/image41.png" ContentType="image/png"/>
  <Override PartName="/ppt/media/image42.gif" ContentType="image/gif"/>
  <Override PartName="/ppt/media/image46.png" ContentType="image/png"/>
  <Override PartName="/ppt/media/image6.wmf" ContentType="image/x-wmf"/>
  <Override PartName="/ppt/media/image48.png" ContentType="image/png"/>
  <Override PartName="/ppt/media/image55.gif" ContentType="image/gif"/>
  <Override PartName="/ppt/media/image33.gif" ContentType="image/gif"/>
  <Override PartName="/ppt/media/image44.jpeg" ContentType="image/jpeg"/>
  <Override PartName="/ppt/media/image49.png" ContentType="image/png"/>
  <Override PartName="/ppt/media/image11.gif" ContentType="image/gif"/>
  <Override PartName="/ppt/media/image10.gif" ContentType="image/gif"/>
  <Override PartName="/ppt/media/image43.wmf" ContentType="image/x-wmf"/>
  <Override PartName="/ppt/media/image47.gif" ContentType="image/gif"/>
  <Override PartName="/ppt/media/image13.gif" ContentType="image/gif"/>
  <Override PartName="/ppt/media/image12.gif" ContentType="image/gif"/>
  <Override PartName="/ppt/media/image45.wmf" ContentType="image/x-wmf"/>
  <Override PartName="/ppt/media/image7.gif" ContentType="image/gif"/>
  <Override PartName="/ppt/media/image29.wmf" ContentType="image/x-wmf"/>
  <Override PartName="/ppt/media/image31.png" ContentType="image/png"/>
  <Override PartName="/ppt/media/image3.png" ContentType="image/png"/>
  <Override PartName="/ppt/media/image9.gif" ContentType="image/gif"/>
  <Override PartName="/ppt/media/image5.wmf" ContentType="image/x-wmf"/>
  <Override PartName="/ppt/media/image39.gif" ContentType="image/gif"/>
  <Override PartName="/ppt/media/image28.wmf" ContentType="image/x-wmf"/>
  <Override PartName="/ppt/media/image3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dt" idx="13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14A07-BD25-4B14-AD5F-634E22C99B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F4F03-5511-40B1-9EC9-020A905C78BB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9D77-ED0F-483C-9A91-AB3ED63A3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23DC-9F5C-46D1-9338-0EE30C20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DB2E-E35E-4292-B092-9077BB98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37F0-E09B-4B07-A274-A6BA7D9993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6448B-A1D9-4C4D-B023-B05B0E30B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EFB41-D046-4683-94B0-5B46324A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3F70F-F2AF-49AC-9FB6-087C543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124DB-38A1-46E0-813A-5EC8CD49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2226B-A16F-4FF3-92DF-C4E95C2E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36C34-0FF7-4240-8790-0EC25CDB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D4DB7-7A1F-455E-B86E-93C65BCA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440C-6584-4DD9-A7DF-31812E12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B2B84-4DA9-4588-8781-4DDE8F0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F7A2C-7DD4-4F7E-B3B8-B4980634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5A539-F7DE-4226-82DF-13F61A54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271B0-225F-406C-B57B-A11E419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2ADDE-187F-4B2A-81B2-266F92435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A750-353E-41ED-B702-05C3594F08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08DA-DB81-4FC8-A3E4-92EE8869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058F-9636-4626-9923-ADCCECD3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9FDC-78B6-431E-8B74-8E59AEBE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22DC-F5EF-4E63-8885-4DB2BDC9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5526-F5CB-4653-91C8-67BCE95B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D195-87D1-4F53-80D6-5C4E47B4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8A9F-2E6E-4BA7-8863-3A05AE0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12C1-5512-481E-9917-2332C3BE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D38F-ADF7-43AF-876A-B91524A3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EB61-DD93-4BC9-977B-522D3F88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188E-C3A7-4B5F-BB01-313AE33D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F002-7D17-44F1-9DC0-70B07DFD7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5D128-A23F-41F4-B0C2-8BC4DB42BB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DA9D4-9709-4169-A9AF-A0E6D611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0AD12-C719-4488-89B6-A15027C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FD7E-2D4B-44E0-AF65-D75ED36C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913DD-C40F-43E6-9817-AD917BEE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04B4B-5930-4F83-93DA-67535F6C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4A9CF-4504-4A58-953E-837440E9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9DCAF-9426-4387-9981-792C20F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1FD7E-1C70-451B-A927-3EB6B942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E8655-E064-4BA9-A618-D7E36093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FE3C8-C7C2-4352-AA84-39CBECAB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B8DF8-D715-433A-9499-E3871B7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1A2BA-0EBC-4622-9F5F-5CFFE4C87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A7175-B88E-46BF-A27B-C58F66E5DD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A120-9C74-49E7-ABDF-84AD7ED6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D699D5-EA4A-4DFF-9423-9F8E7AE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6295AF-1A3D-40CD-83A4-07BFA22F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19986-1B21-4091-A0D7-B0EC9596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3D1F5-A604-413A-A8E7-A6DD53BE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8604A-429F-4B30-962A-AA97C071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C6ABC-E1B9-4FC8-BB81-1B107737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50702-3E65-4927-89B9-C51B9F90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B9973-3CD0-4796-A4AE-82B9406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5D453B-F212-4EA8-89B9-D679105F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B6110-4A35-4597-BB9F-CAC70F70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CF48-4261-434F-A6B3-BB908514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49FA3-4FED-4363-B575-E48950292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1C94-5BC9-4E7A-A49F-E3CF0C813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B8E85-3C04-4B94-9A69-14025BD5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14AB-50E7-4DF5-A683-D989C5AD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3803-B9E2-47F1-98B6-48E94427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BFC5-B3B3-40F1-AAB4-D34093B3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55F0-46BD-403A-A3E7-D828DE94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37E6-E49D-445D-944F-F5986127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301F-CF19-4409-9459-6245656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CC66-43E1-4CAA-8000-BBB65A46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69E1-C0A7-48B3-8D92-1694CEFE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BAFA-9A32-41CC-98F2-A48B37A6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3C6C-9597-4478-AEE6-EC774361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E402-D054-463A-B9FE-0F84F65AE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F6110-BF2C-4199-9516-EF024A09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AE64-9310-46F4-B629-9412A54E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1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74FB0-6454-4DA2-8217-9B83A59850C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704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2000"/>
          </a:bodyPr>
          <a:p>
            <a:pPr marL="41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.1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9536B2-C998-4081-9269-6D01273FCC04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.1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24F9B4-0F16-4DD8-B8DE-A259A16F0C51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.1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396EDE-DE8C-4727-B3B9-A04A3D128094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69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2160" y="2906280"/>
            <a:ext cx="7769520" cy="14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0000"/>
          </a:bodyPr>
          <a:p>
            <a:pPr marL="1026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2600" indent="-102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600" indent="-102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2600" indent="-102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02600" indent="-102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02600" indent="-102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02600" indent="-102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.1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2D4768-F00C-416A-B22A-B754833C9989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08400" cy="58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.1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0B71FC-78AF-4FE2-B9FC-76E63E35A113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24.png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9.wmf"/><Relationship Id="rId4" Type="http://schemas.openxmlformats.org/officeDocument/2006/relationships/image" Target="../media/image31.png"/><Relationship Id="rId5" Type="http://schemas.openxmlformats.org/officeDocument/2006/relationships/image" Target="../media/image10.gif"/><Relationship Id="rId6" Type="http://schemas.openxmlformats.org/officeDocument/2006/relationships/image" Target="../media/image39.gif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42.gif"/><Relationship Id="rId4" Type="http://schemas.openxmlformats.org/officeDocument/2006/relationships/image" Target="../media/image43.wmf"/><Relationship Id="rId5" Type="http://schemas.openxmlformats.org/officeDocument/2006/relationships/image" Target="../media/image44.jpeg"/><Relationship Id="rId6" Type="http://schemas.openxmlformats.org/officeDocument/2006/relationships/image" Target="../media/image45.wmf"/><Relationship Id="rId7" Type="http://schemas.openxmlformats.org/officeDocument/2006/relationships/image" Target="../media/image46.png"/><Relationship Id="rId8" Type="http://schemas.openxmlformats.org/officeDocument/2006/relationships/image" Target="../media/image47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26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24.png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png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24.png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643040" y="1571760"/>
            <a:ext cx="5695920" cy="34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9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dur="indefinite" fill="hold">
                      <p:stCondLst>
                        <p:cond delay="0"/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dur="indefinite" fill="hold">
                      <p:stCondLst>
                        <p:cond delay="indefinite"/>
                      </p:stCondLst>
                      <p:childTnLst>
                        <p:par>
                          <p:cTn id="4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8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dur="indefinite" restart="whenNotActive" nodeType="interactiveSeq" fill="hold">
                <p:stCondLst>
                  <p:cond delay="0"/>
                </p:stCondLst>
                <p:childTnLst>
                  <p:par>
                    <p:cTn id="489" dur="indefinite" fill="hold">
                      <p:stCondLst>
                        <p:cond delay="0"/>
                      </p:stCondLst>
                      <p:childTnLst>
                        <p:par>
                          <p:cTn id="4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dur="indefinite" restart="whenNotActive" nodeType="interactiveSeq" fill="hold">
                <p:stCondLst>
                  <p:cond delay="0"/>
                </p:stCondLst>
                <p:childTnLst>
                  <p:par>
                    <p:cTn id="495" dur="indefinite" fill="hold">
                      <p:stCondLst>
                        <p:cond delay="0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dur="indefinite" restart="whenNotActive" nodeType="interactiveSeq" fill="hold">
                <p:stCondLst>
                  <p:cond delay="0"/>
                </p:stCondLst>
                <p:childTnLst>
                  <p:par>
                    <p:cTn id="501" dur="indefinite" fill="hold">
                      <p:stCondLst>
                        <p:cond delay="0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0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dur="indefinite" restart="whenNotActive" nodeType="interactiveSeq" fill="hold">
                <p:stCondLst>
                  <p:cond delay="0"/>
                </p:stCondLst>
                <p:childTnLst>
                  <p:par>
                    <p:cTn id="507" dur="indefinite" fill="hold">
                      <p:stCondLst>
                        <p:cond delay="0"/>
                      </p:stCondLst>
                      <p:childTnLst>
                        <p:par>
                          <p:cTn id="5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1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dur="indefinite" restart="whenNotActive" nodeType="interactiveSeq" fill="hold">
                <p:stCondLst>
                  <p:cond delay="0"/>
                </p:stCondLst>
                <p:childTnLst>
                  <p:par>
                    <p:cTn id="513" dur="indefinite" fill="hold">
                      <p:stCondLst>
                        <p:cond delay="0"/>
                      </p:stCondLst>
                      <p:childTnLst>
                        <p:par>
                          <p:cTn id="5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1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dur="indefinite" restart="whenNotActive" nodeType="interactiveSeq" fill="hold">
                <p:stCondLst>
                  <p:cond delay="0"/>
                </p:stCondLst>
                <p:childTnLst>
                  <p:par>
                    <p:cTn id="519" dur="indefinite" fill="hold">
                      <p:stCondLst>
                        <p:cond delay="0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dur="indefinite" restart="whenNotActive" nodeType="interactiveSeq" fill="hold">
                <p:stCondLst>
                  <p:cond delay="0"/>
                </p:stCondLst>
                <p:childTnLst>
                  <p:par>
                    <p:cTn id="525" dur="indefinite" fill="hold">
                      <p:stCondLst>
                        <p:cond delay="0"/>
                      </p:stCondLst>
                      <p:childTnLst>
                        <p:par>
                          <p:cTn id="5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dur="indefinite" restart="whenNotActive" nodeType="interactiveSeq" fill="hold">
                <p:stCondLst>
                  <p:cond delay="0"/>
                </p:stCondLst>
                <p:childTnLst>
                  <p:par>
                    <p:cTn id="531" dur="indefinite" fill="hold">
                      <p:stCondLst>
                        <p:cond delay="0"/>
                      </p:stCondLst>
                      <p:childTnLst>
                        <p:par>
                          <p:cTn id="5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2843280" y="4724280"/>
            <a:ext cx="2663640" cy="1623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5867280" y="4653000"/>
            <a:ext cx="2752920" cy="15825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8"/>
          <a:stretch/>
        </p:blipFill>
        <p:spPr>
          <a:xfrm>
            <a:off x="7308720" y="2060640"/>
            <a:ext cx="1579680" cy="2317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9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dur="indefinite" fill="hold">
                      <p:stCondLst>
                        <p:cond delay="0"/>
                      </p:stCondLst>
                      <p:childTnLst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dur="indefinite" restart="whenNotActive" nodeType="interactiveSeq" fill="hold">
                <p:stCondLst>
                  <p:cond delay="0"/>
                </p:stCondLst>
                <p:childTnLst>
                  <p:par>
                    <p:cTn id="551" dur="indefinite" fill="hold">
                      <p:stCondLst>
                        <p:cond delay="0"/>
                      </p:stCondLst>
                      <p:childTnLst>
                        <p:par>
                          <p:cTn id="5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dur="indefinite" restart="whenNotActive" nodeType="interactiveSeq" fill="hold">
                <p:stCondLst>
                  <p:cond delay="0"/>
                </p:stCondLst>
                <p:childTnLst>
                  <p:par>
                    <p:cTn id="557" dur="indefinite" fill="hold">
                      <p:stCondLst>
                        <p:cond delay="0"/>
                      </p:stCondLst>
                      <p:childTnLst>
                        <p:par>
                          <p:cTn id="5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dur="indefinite" restart="whenNotActive" nodeType="interactiveSeq" fill="hold">
                <p:stCondLst>
                  <p:cond delay="0"/>
                </p:stCondLst>
                <p:childTnLst>
                  <p:par>
                    <p:cTn id="563" dur="indefinite" fill="hold">
                      <p:stCondLst>
                        <p:cond delay="0"/>
                      </p:stCondLst>
                      <p:childTnLst>
                        <p:par>
                          <p:cTn id="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dur="indefinite" restart="whenNotActive" nodeType="interactiveSeq" fill="hold">
                <p:stCondLst>
                  <p:cond delay="0"/>
                </p:stCondLst>
                <p:childTnLst>
                  <p:par>
                    <p:cTn id="569" dur="indefinite" fill="hold">
                      <p:stCondLst>
                        <p:cond delay="0"/>
                      </p:stCondLst>
                      <p:childTnLst>
                        <p:par>
                          <p:cTn id="5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dur="indefinite" restart="whenNotActive" nodeType="interactiveSeq" fill="hold">
                <p:stCondLst>
                  <p:cond delay="0"/>
                </p:stCondLst>
                <p:childTnLst>
                  <p:par>
                    <p:cTn id="575" dur="indefinite" fill="hold">
                      <p:stCondLst>
                        <p:cond delay="0"/>
                      </p:stCondLst>
                      <p:childTnLst>
                        <p:par>
                          <p:cTn id="5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dur="indefinite" restart="whenNotActive" nodeType="interactiveSeq" fill="hold">
                <p:stCondLst>
                  <p:cond delay="0"/>
                </p:stCondLst>
                <p:childTnLst>
                  <p:par>
                    <p:cTn id="581" dur="indefinite" fill="hold">
                      <p:stCondLst>
                        <p:cond delay="0"/>
                      </p:stCondLst>
                      <p:childTnLst>
                        <p:par>
                          <p:cTn id="5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dur="indefinite" restart="whenNotActive" nodeType="interactiveSeq" fill="hold">
                <p:stCondLst>
                  <p:cond delay="0"/>
                </p:stCondLst>
                <p:childTnLst>
                  <p:par>
                    <p:cTn id="587" dur="indefinite" fill="hold">
                      <p:stCondLst>
                        <p:cond delay="0"/>
                      </p:stCondLst>
                      <p:childTnLst>
                        <p:par>
                          <p:cTn id="5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dur="indefinite" restart="whenNotActive" nodeType="interactiveSeq" fill="hold">
                <p:stCondLst>
                  <p:cond delay="0"/>
                </p:stCondLst>
                <p:childTnLst>
                  <p:par>
                    <p:cTn id="593" dur="indefinite" fill="hold">
                      <p:stCondLst>
                        <p:cond delay="0"/>
                      </p:stCondLst>
                      <p:childTnLst>
                        <p:par>
                          <p:cTn id="5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E6C47-987C-466B-AE4B-ACDB4304D3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m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dur="indefinite" fill="hold">
                      <p:stCondLst>
                        <p:cond delay="0"/>
                      </p:stCondLst>
                      <p:childTnLst>
                        <p:par>
                          <p:cTn id="6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65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dur="indefinite" restart="whenNotActive" nodeType="interactiveSeq" fill="hold">
                <p:stCondLst>
                  <p:cond delay="0"/>
                </p:stCondLst>
                <p:childTnLst>
                  <p:par>
                    <p:cTn id="671" dur="indefinite" fill="hold">
                      <p:stCondLst>
                        <p:cond delay="0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1000" fill="hold"/>
                                        <p:tgtEl>
                                          <p:spTgt spid="340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dur="indefinite" restart="whenNotActive" nodeType="interactiveSeq" fill="hold">
                <p:stCondLst>
                  <p:cond delay="0"/>
                </p:stCondLst>
                <p:childTnLst>
                  <p:par>
                    <p:cTn id="676" dur="indefinite" fill="hold">
                      <p:stCondLst>
                        <p:cond delay="0"/>
                      </p:stCondLst>
                      <p:childTnLst>
                        <p:par>
                          <p:cTn id="6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dur="indefinite" restart="whenNotActive" nodeType="interactiveSeq" fill="hold">
                <p:stCondLst>
                  <p:cond delay="0"/>
                </p:stCondLst>
                <p:childTnLst>
                  <p:par>
                    <p:cTn id="682" dur="indefinite" fill="hold">
                      <p:stCondLst>
                        <p:cond delay="0"/>
                      </p:stCondLst>
                      <p:childTnLst>
                        <p:par>
                          <p:cTn id="6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dur="indefinite" restart="whenNotActive" nodeType="interactiveSeq" fill="hold">
                <p:stCondLst>
                  <p:cond delay="0"/>
                </p:stCondLst>
                <p:childTnLst>
                  <p:par>
                    <p:cTn id="688" dur="indefinite" fill="hold">
                      <p:stCondLst>
                        <p:cond delay="0"/>
                      </p:stCondLst>
                      <p:childTnLst>
                        <p:par>
                          <p:cTn id="6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dur="indefinite" restart="whenNotActive" nodeType="interactiveSeq" fill="hold">
                <p:stCondLst>
                  <p:cond delay="0"/>
                </p:stCondLst>
                <p:childTnLst>
                  <p:par>
                    <p:cTn id="694" dur="indefinite" fill="hold">
                      <p:stCondLst>
                        <p:cond delay="0"/>
                      </p:stCondLst>
                      <p:childTnLst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dur="indefinite" restart="whenNotActive" nodeType="interactiveSeq" fill="hold">
                <p:stCondLst>
                  <p:cond delay="0"/>
                </p:stCondLst>
                <p:childTnLst>
                  <p:par>
                    <p:cTn id="700" dur="indefinite" fill="hold">
                      <p:stCondLst>
                        <p:cond delay="0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dur="indefinite" restart="whenNotActive" nodeType="interactiveSeq" fill="hold">
                <p:stCondLst>
                  <p:cond delay="0"/>
                </p:stCondLst>
                <p:childTnLst>
                  <p:par>
                    <p:cTn id="706" dur="indefinite" fill="hold">
                      <p:stCondLst>
                        <p:cond delay="0"/>
                      </p:stCondLst>
                      <p:childTnLst>
                        <p:par>
                          <p:cTn id="7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dur="indefinite" restart="whenNotActive" nodeType="interactiveSeq" fill="hold">
                <p:stCondLst>
                  <p:cond delay="0"/>
                </p:stCondLst>
                <p:childTnLst>
                  <p:par>
                    <p:cTn id="712" dur="indefinite" fill="hold">
                      <p:stCondLst>
                        <p:cond delay="0"/>
                      </p:stCondLst>
                      <p:childTnLst>
                        <p:par>
                          <p:cTn id="7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dur="indefinite" restart="whenNotActive" nodeType="interactiveSeq" fill="hold">
                <p:stCondLst>
                  <p:cond delay="0"/>
                </p:stCondLst>
                <p:childTnLst>
                  <p:par>
                    <p:cTn id="718" dur="indefinite" fill="hold">
                      <p:stCondLst>
                        <p:cond delay="0"/>
                      </p:stCondLst>
                      <p:childTnLst>
                        <p:par>
                          <p:cTn id="7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sandw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dur="indefinite" fill="hold">
                      <p:stCondLst>
                        <p:cond delay="0"/>
                      </p:stCondLst>
                      <p:childTnLst>
                        <p:par>
                          <p:cTn id="7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dur="indefinite" fill="hold">
                      <p:stCondLst>
                        <p:cond delay="indefinite"/>
                      </p:stCondLst>
                      <p:childTnLst>
                        <p:par>
                          <p:cTn id="7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dur="indefinite" restart="whenNotActive" nodeType="interactiveSeq" fill="hold">
                <p:stCondLst>
                  <p:cond delay="0"/>
                </p:stCondLst>
                <p:childTnLst>
                  <p:par>
                    <p:cTn id="747" dur="indefinite" fill="hold">
                      <p:stCondLst>
                        <p:cond delay="0"/>
                      </p:stCondLst>
                      <p:childTnLst>
                        <p:par>
                          <p:cTn id="7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0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dur="indefinite" restart="whenNotActive" nodeType="interactiveSeq" fill="hold">
                <p:stCondLst>
                  <p:cond delay="0"/>
                </p:stCondLst>
                <p:childTnLst>
                  <p:par>
                    <p:cTn id="752" dur="indefinite" fill="hold">
                      <p:stCondLst>
                        <p:cond delay="0"/>
                      </p:stCondLst>
                      <p:childTnLst>
                        <p:par>
                          <p:cTn id="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dur="indefinite" restart="whenNotActive" nodeType="interactiveSeq" fill="hold">
                <p:stCondLst>
                  <p:cond delay="0"/>
                </p:stCondLst>
                <p:childTnLst>
                  <p:par>
                    <p:cTn id="758" dur="indefinite" fill="hold">
                      <p:stCondLst>
                        <p:cond delay="0"/>
                      </p:stCondLst>
                      <p:childTnLst>
                        <p:par>
                          <p:cTn id="7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dur="indefinite" restart="whenNotActive" nodeType="interactiveSeq" fill="hold">
                <p:stCondLst>
                  <p:cond delay="0"/>
                </p:stCondLst>
                <p:childTnLst>
                  <p:par>
                    <p:cTn id="764" dur="indefinite" fill="hold">
                      <p:stCondLst>
                        <p:cond delay="0"/>
                      </p:stCondLst>
                      <p:childTnLst>
                        <p:par>
                          <p:cTn id="7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dur="indefinite" restart="whenNotActive" nodeType="interactiveSeq" fill="hold">
                <p:stCondLst>
                  <p:cond delay="0"/>
                </p:stCondLst>
                <p:childTnLst>
                  <p:par>
                    <p:cTn id="770" dur="indefinite" fill="hold">
                      <p:stCondLst>
                        <p:cond delay="0"/>
                      </p:stCondLst>
                      <p:childTnLst>
                        <p:par>
                          <p:cTn id="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dur="indefinite" restart="whenNotActive" nodeType="interactiveSeq" fill="hold">
                <p:stCondLst>
                  <p:cond delay="0"/>
                </p:stCondLst>
                <p:childTnLst>
                  <p:par>
                    <p:cTn id="776" dur="indefinite" fill="hold">
                      <p:stCondLst>
                        <p:cond delay="0"/>
                      </p:stCondLst>
                      <p:childTnLst>
                        <p:par>
                          <p:cTn id="7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dur="indefinite" restart="whenNotActive" nodeType="interactiveSeq" fill="hold">
                <p:stCondLst>
                  <p:cond delay="0"/>
                </p:stCondLst>
                <p:childTnLst>
                  <p:par>
                    <p:cTn id="782" dur="indefinite" fill="hold">
                      <p:stCondLst>
                        <p:cond delay="0"/>
                      </p:stCondLst>
                      <p:childTnLst>
                        <p:par>
                          <p:cTn id="7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dur="indefinite" restart="whenNotActive" nodeType="interactiveSeq" fill="hold">
                <p:stCondLst>
                  <p:cond delay="0"/>
                </p:stCondLst>
                <p:childTnLst>
                  <p:par>
                    <p:cTn id="788" dur="indefinite" fill="hold">
                      <p:stCondLst>
                        <p:cond delay="0"/>
                      </p:stCondLst>
                      <p:childTnLst>
                        <p:par>
                          <p:cTn id="7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714240" y="357120"/>
          <a:ext cx="7718040" cy="6325920"/>
        </p:xfrm>
        <a:graphic>
          <a:graphicData uri="http://schemas.openxmlformats.org/drawingml/2006/table">
            <a:tbl>
              <a:tblPr/>
              <a:tblGrid>
                <a:gridCol w="3858120"/>
                <a:gridCol w="3859920"/>
              </a:tblGrid>
              <a:tr h="535320">
                <a:tc>
                  <a:txBody>
                    <a:bodyPr anchor="t">
                      <a:noAutofit/>
                    </a:bodyPr>
                    <a:p>
                      <a:pPr marL="343080" indent="-3398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lem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анана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be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 оливковое ма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ma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) сах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bu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) бо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cocon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) лим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fl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) сливочное ма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pineap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) кок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olive 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) пер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) помид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sa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) му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pe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) ман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tom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) с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cxnSp>
        <p:nvCxnSpPr>
          <p:cNvPr id="355" name=""/>
          <p:cNvCxnSpPr/>
          <p:nvPr/>
        </p:nvCxnSpPr>
        <p:spPr>
          <a:xfrm>
            <a:off x="2142720" y="642960"/>
            <a:ext cx="2500920" cy="1929600"/>
          </a:xfrm>
          <a:prstGeom prst="bentConnector3">
            <a:avLst>
              <a:gd name="adj1" fmla="val 50000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56" name=""/>
          <p:cNvCxnSpPr/>
          <p:nvPr/>
        </p:nvCxnSpPr>
        <p:spPr>
          <a:xfrm>
            <a:off x="2071440" y="1143000"/>
            <a:ext cx="2572200" cy="1000800"/>
          </a:xfrm>
          <a:prstGeom prst="bentConnector3">
            <a:avLst>
              <a:gd name="adj1" fmla="val 50000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57" name=""/>
          <p:cNvCxnSpPr/>
          <p:nvPr/>
        </p:nvCxnSpPr>
        <p:spPr>
          <a:xfrm flipH="1" rot="16200000">
            <a:off x="1393920" y="2463480"/>
            <a:ext cx="4072320" cy="2574000"/>
          </a:xfrm>
          <a:prstGeom prst="bentConnector3">
            <a:avLst>
              <a:gd name="adj1" fmla="val 49986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58" name=""/>
          <p:cNvCxnSpPr/>
          <p:nvPr/>
        </p:nvCxnSpPr>
        <p:spPr>
          <a:xfrm>
            <a:off x="2071440" y="2214360"/>
            <a:ext cx="2572200" cy="929160"/>
          </a:xfrm>
          <a:prstGeom prst="bentConnector3">
            <a:avLst>
              <a:gd name="adj1" fmla="val 50000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59" name=""/>
          <p:cNvCxnSpPr/>
          <p:nvPr/>
        </p:nvCxnSpPr>
        <p:spPr>
          <a:xfrm>
            <a:off x="2357280" y="2714760"/>
            <a:ext cx="2216880" cy="1000800"/>
          </a:xfrm>
          <a:prstGeom prst="bentConnector3">
            <a:avLst>
              <a:gd name="adj1" fmla="val 49975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60" name=""/>
          <p:cNvCxnSpPr/>
          <p:nvPr/>
        </p:nvCxnSpPr>
        <p:spPr>
          <a:xfrm>
            <a:off x="1856880" y="3286080"/>
            <a:ext cx="2786760" cy="1929600"/>
          </a:xfrm>
          <a:prstGeom prst="bentConnector3">
            <a:avLst>
              <a:gd name="adj1" fmla="val 50000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61" name=""/>
          <p:cNvCxnSpPr/>
          <p:nvPr/>
        </p:nvCxnSpPr>
        <p:spPr>
          <a:xfrm flipH="1" flipV="1" rot="5400000">
            <a:off x="1996560" y="1071360"/>
            <a:ext cx="3007440" cy="2286720"/>
          </a:xfrm>
          <a:prstGeom prst="bentConnector3">
            <a:avLst>
              <a:gd name="adj1" fmla="val 49994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62" name=""/>
          <p:cNvCxnSpPr/>
          <p:nvPr/>
        </p:nvCxnSpPr>
        <p:spPr>
          <a:xfrm flipH="1" flipV="1" rot="5400000">
            <a:off x="2032560" y="1535760"/>
            <a:ext cx="2935800" cy="2429640"/>
          </a:xfrm>
          <a:prstGeom prst="bentConnector3">
            <a:avLst>
              <a:gd name="adj1" fmla="val 50000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63" name=""/>
          <p:cNvCxnSpPr/>
          <p:nvPr/>
        </p:nvCxnSpPr>
        <p:spPr>
          <a:xfrm flipH="1" flipV="1" rot="5400000">
            <a:off x="1782360" y="1928520"/>
            <a:ext cx="3007440" cy="2715120"/>
          </a:xfrm>
          <a:prstGeom prst="bentConnector3">
            <a:avLst>
              <a:gd name="adj1" fmla="val 49982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64" name=""/>
          <p:cNvCxnSpPr/>
          <p:nvPr/>
        </p:nvCxnSpPr>
        <p:spPr>
          <a:xfrm>
            <a:off x="1856880" y="5285880"/>
            <a:ext cx="2786760" cy="1002600"/>
          </a:xfrm>
          <a:prstGeom prst="bentConnector3">
            <a:avLst>
              <a:gd name="adj1" fmla="val 50000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65" name=""/>
          <p:cNvCxnSpPr/>
          <p:nvPr/>
        </p:nvCxnSpPr>
        <p:spPr>
          <a:xfrm flipV="1">
            <a:off x="2428920" y="4282200"/>
            <a:ext cx="2286720" cy="1507320"/>
          </a:xfrm>
          <a:prstGeom prst="bentConnector3">
            <a:avLst>
              <a:gd name="adj1" fmla="val 49976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366" name=""/>
          <p:cNvCxnSpPr/>
          <p:nvPr/>
        </p:nvCxnSpPr>
        <p:spPr>
          <a:xfrm flipV="1">
            <a:off x="2428560" y="4853880"/>
            <a:ext cx="2215080" cy="1507320"/>
          </a:xfrm>
          <a:prstGeom prst="bentConnector3">
            <a:avLst>
              <a:gd name="adj1" fmla="val 50000"/>
            </a:avLst>
          </a:prstGeom>
          <a:ln w="9360">
            <a:solidFill>
              <a:srgbClr val="be4b48"/>
            </a:solidFill>
            <a:round/>
            <a:tailEnd len="med" type="arrow" w="med"/>
          </a:ln>
        </p:spPr>
      </p:cxn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dur="indefinite" fill="hold">
                      <p:stCondLst>
                        <p:cond delay="indefinite"/>
                      </p:stCondLst>
                      <p:childTnLst>
                        <p:par>
                          <p:cTn id="7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dur="indefinite" fill="hold">
                      <p:stCondLst>
                        <p:cond delay="indefinite"/>
                      </p:stCondLst>
                      <p:childTnLst>
                        <p:par>
                          <p:cTn id="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dur="indefinite" fill="hold">
                      <p:stCondLst>
                        <p:cond delay="indefinite"/>
                      </p:stCondLst>
                      <p:childTnLst>
                        <p:par>
                          <p:cTn id="8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dur="indefinite" fill="hold">
                      <p:stCondLst>
                        <p:cond delay="indefinite"/>
                      </p:stCondLst>
                      <p:childTnLst>
                        <p:par>
                          <p:cTn id="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dur="indefinite" fill="hold">
                      <p:stCondLst>
                        <p:cond delay="indefinite"/>
                      </p:stCondLst>
                      <p:childTnLst>
                        <p:par>
                          <p:cTn id="8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dur="indefinite" fill="hold">
                      <p:stCondLst>
                        <p:cond delay="indefinite"/>
                      </p:stCondLst>
                      <p:childTnLst>
                        <p:par>
                          <p:cTn id="8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dur="indefinite" fill="hold">
                      <p:stCondLst>
                        <p:cond delay="indefinite"/>
                      </p:stCondLst>
                      <p:childTnLst>
                        <p:par>
                          <p:cTn id="8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dur="indefinite" fill="hold">
                      <p:stCondLst>
                        <p:cond delay="indefinite"/>
                      </p:stCondLst>
                      <p:childTnLst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fill="hold">
                      <p:stCondLst>
                        <p:cond delay="indefinite"/>
                      </p:stCondLst>
                      <p:childTnLst>
                        <p:par>
                          <p:cTn id="8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dur="indefinite" fill="hold">
                      <p:stCondLst>
                        <p:cond delay="indefinite"/>
                      </p:stCondLst>
                      <p:childTnLst>
                        <p:par>
                          <p:cTn id="8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dur="indefinite" fill="hold">
                      <p:stCondLst>
                        <p:cond delay="indefinite"/>
                      </p:stCondLst>
                      <p:childTnLst>
                        <p:par>
                          <p:cTn id="8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dur="indefinite" fill="hold">
                      <p:stCondLst>
                        <p:cond delay="indefinite"/>
                      </p:stCondLst>
                      <p:childTnLst>
                        <p:par>
                          <p:cTn id="8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 в доме Баркеров накрыт к завтраку. Послушай запись, (106), и посмотри на рисунок. В чём художник ошиб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8160" cy="4524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936720" y="1415880"/>
            <a:ext cx="7199280" cy="4127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60360" y="5256360"/>
            <a:ext cx="83628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re is no juice on the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re are some bananas and oranges on the table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dur="indefinite" fill="hold">
                      <p:stCondLst>
                        <p:cond delay="indefinite"/>
                      </p:stCondLst>
                      <p:childTnLst>
                        <p:par>
                          <p:cTn id="8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28760" y="3003480"/>
            <a:ext cx="8001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28880" y="500040"/>
            <a:ext cx="47862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8760" y="601560"/>
            <a:ext cx="821052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It’s seven o’clock in the morning. Mary (is/are) making sandwiches for breakfas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(Do/Does) Margaret like chocolate? — No, she (don't/ doesn’t.) 3) What (do/does) you usually have for breakfast? — Some yogurt and a hamburger. 4) (Are/is) there any tomatoes at home? 5) I (like/likes) sandwiches and hamburgers, but pizza (is/are) my favourite.6) What (is/are) the girls doing? — They (is/are) making omelette. They often (have/are having) omelette for breakfast. 7) Mr Nelson (begin/ begins) his day with some mineral wat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8) They usually (make/are making) salad for lunch. But now mum (cooks/is cooking) so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0000" y="1871640"/>
            <a:ext cx="72072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7640" y="1871640"/>
            <a:ext cx="72072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36720" y="1440000"/>
            <a:ext cx="50328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3280" y="3816360"/>
            <a:ext cx="36036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52360" y="2664000"/>
            <a:ext cx="50328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43640" y="2664000"/>
            <a:ext cx="64800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68720" y="3456000"/>
            <a:ext cx="36036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60720" y="5400720"/>
            <a:ext cx="86364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3816360"/>
            <a:ext cx="165600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75280" y="4248000"/>
            <a:ext cx="93672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16360" y="5040360"/>
            <a:ext cx="172872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56360" y="720720"/>
            <a:ext cx="503280" cy="360360"/>
          </a:xfrm>
          <a:prstGeom prst="roundRect">
            <a:avLst>
              <a:gd name="adj" fmla="val 44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dur="indefinite" fill="hold">
                      <p:stCondLst>
                        <p:cond delay="indefinite"/>
                      </p:stCondLst>
                      <p:childTnLst>
                        <p:par>
                          <p:cTn id="8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dur="indefinite" fill="hold">
                      <p:stCondLst>
                        <p:cond delay="indefinite"/>
                      </p:stCondLst>
                      <p:childTnLst>
                        <p:par>
                          <p:cTn id="8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dur="indefinite" fill="hold">
                      <p:stCondLst>
                        <p:cond delay="indefinite"/>
                      </p:stCondLst>
                      <p:childTnLst>
                        <p:par>
                          <p:cTn id="8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dur="indefinite" fill="hold">
                      <p:stCondLst>
                        <p:cond delay="indefinite"/>
                      </p:stCondLst>
                      <p:childTnLst>
                        <p:par>
                          <p:cTn id="8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dur="indefinite" fill="hold">
                      <p:stCondLst>
                        <p:cond delay="indefinite"/>
                      </p:stCondLst>
                      <p:childTnLst>
                        <p:par>
                          <p:cTn id="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dur="indefinite" fill="hold">
                      <p:stCondLst>
                        <p:cond delay="indefinite"/>
                      </p:stCondLst>
                      <p:childTnLst>
                        <p:par>
                          <p:cTn id="8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dur="indefinite" fill="hold">
                      <p:stCondLst>
                        <p:cond delay="indefinite"/>
                      </p:stCondLst>
                      <p:childTnLst>
                        <p:par>
                          <p:cTn id="8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dur="indefinite" fill="hold">
                      <p:stCondLst>
                        <p:cond delay="indefinite"/>
                      </p:stCondLst>
                      <p:childTnLst>
                        <p:par>
                          <p:cTn id="8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dur="indefinite" fill="hold">
                      <p:stCondLst>
                        <p:cond delay="indefinite"/>
                      </p:stCondLst>
                      <p:childTnLst>
                        <p:par>
                          <p:cTn id="8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dur="indefinite" fill="hold">
                      <p:stCondLst>
                        <p:cond delay="indefinite"/>
                      </p:stCondLst>
                      <p:childTnLst>
                        <p:par>
                          <p:cTn id="9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dur="indefinite" fill="hold">
                      <p:stCondLst>
                        <p:cond delay="indefinite"/>
                      </p:stCondLst>
                      <p:childTnLst>
                        <p:par>
                          <p:cTn id="9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dur="indefinite" fill="hold">
                      <p:stCondLst>
                        <p:cond delay="indefinite"/>
                      </p:stCondLst>
                      <p:childTnLst>
                        <p:par>
                          <p:cTn id="9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224000" y="503280"/>
            <a:ext cx="6408720" cy="5904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319640" y="647640"/>
            <a:ext cx="1511280" cy="2592360"/>
          </a:xfrm>
          <a:prstGeom prst="line">
            <a:avLst/>
          </a:prstGeom>
          <a:ln w="36000">
            <a:solidFill>
              <a:srgbClr val="ff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56360" y="1224000"/>
            <a:ext cx="502920" cy="3743280"/>
          </a:xfrm>
          <a:prstGeom prst="line">
            <a:avLst/>
          </a:prstGeom>
          <a:ln w="36000">
            <a:solidFill>
              <a:srgbClr val="00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887640" y="1727280"/>
            <a:ext cx="1871640" cy="218880"/>
          </a:xfrm>
          <a:prstGeom prst="line">
            <a:avLst/>
          </a:prstGeom>
          <a:ln w="36000">
            <a:solidFill>
              <a:srgbClr val="66ff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80000" y="2664000"/>
            <a:ext cx="1152360" cy="1655640"/>
          </a:xfrm>
          <a:prstGeom prst="line">
            <a:avLst/>
          </a:prstGeom>
          <a:ln w="36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0000" y="4464000"/>
            <a:ext cx="1079280" cy="10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6360" y="1077840"/>
            <a:ext cx="431640" cy="4035600"/>
          </a:xfrm>
          <a:prstGeom prst="line">
            <a:avLst/>
          </a:prstGeom>
          <a:ln w="3600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11640" y="2446200"/>
            <a:ext cx="863640" cy="3314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84720" y="3600360"/>
            <a:ext cx="432000" cy="2592360"/>
          </a:xfrm>
          <a:prstGeom prst="line">
            <a:avLst/>
          </a:prstGeom>
          <a:ln w="36000">
            <a:solidFill>
              <a:srgbClr val="ff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dur="indefinite" fill="hold">
                      <p:stCondLst>
                        <p:cond delay="indefinite"/>
                      </p:stCondLst>
                      <p:childTnLst>
                        <p:par>
                          <p:cTn id="9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dur="indefinite" fill="hold">
                      <p:stCondLst>
                        <p:cond delay="indefinite"/>
                      </p:stCondLst>
                      <p:childTnLst>
                        <p:par>
                          <p:cTn id="9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dur="indefinite" fill="hold">
                      <p:stCondLst>
                        <p:cond delay="indefinite"/>
                      </p:stCondLst>
                      <p:childTnLst>
                        <p:par>
                          <p:cTn id="9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dur="indefinite" fill="hold">
                      <p:stCondLst>
                        <p:cond delay="indefinite"/>
                      </p:stCondLst>
                      <p:childTnLst>
                        <p:par>
                          <p:cTn id="9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dur="indefinite" fill="hold">
                      <p:stCondLst>
                        <p:cond delay="indefinite"/>
                      </p:stCondLst>
                      <p:childTnLst>
                        <p:par>
                          <p:cTn id="9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dur="indefinite" fill="hold">
                      <p:stCondLst>
                        <p:cond delay="indefinite"/>
                      </p:stCondLst>
                      <p:childTnLst>
                        <p:par>
                          <p:cTn id="9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dur="indefinite" fill="hold">
                      <p:stCondLst>
                        <p:cond delay="indefinite"/>
                      </p:stCondLst>
                      <p:childTnLst>
                        <p:par>
                          <p:cTn id="9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dur="indefinite" fill="hold">
                      <p:stCondLst>
                        <p:cond delay="indefinite"/>
                      </p:stCondLst>
                      <p:childTnLst>
                        <p:par>
                          <p:cTn id="9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2597040" y="3887640"/>
            <a:ext cx="4386240" cy="24526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сказать по-английски «холодно», «жарко», «интересно», «славно» и т. д., Нужно начать предложение с It is(It's), а затем добавить необходимое по смыслу прилагательное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е предложения являются безличными. К ним также относятся фразы о времен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усским предложениям «Зима», «Осень», «Утро», «Вечер», также соответствуютанглийские безличные предлож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60360" y="360360"/>
            <a:ext cx="835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 Как ты охарактеризуешь эти ситуации? Выбери подходящий к случаю вариан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47640" y="129528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It’s four o’clock in the mo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9160" y="1641600"/>
            <a:ext cx="140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c)  It is 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1200" y="2030400"/>
            <a:ext cx="4097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Look! The sun is in the sky again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63640" y="2317680"/>
            <a:ext cx="1914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d) It is wonder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1640" y="2678040"/>
            <a:ext cx="5185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The book is about a boy and his dog 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79640" y="302436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a) It’s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6440" y="3398760"/>
            <a:ext cx="4346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My granddad is very-very sick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92000" y="3743280"/>
            <a:ext cx="1663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) It’s very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1640" y="4118040"/>
            <a:ext cx="597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We can have lunch and go to the cinema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9960" y="4478400"/>
            <a:ext cx="1994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g) It is very good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59280" y="1224000"/>
            <a:ext cx="266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Robin is late again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61240" y="1598760"/>
            <a:ext cx="1311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e) It is b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27640" y="2016000"/>
            <a:ext cx="331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They always give me lots of wonderful pres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24480" y="2678040"/>
            <a:ext cx="23511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f) It is very pleasan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27640" y="3240000"/>
            <a:ext cx="3240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I can drive you to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23000" y="3672000"/>
            <a:ext cx="2095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h) It is nice of you.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dur="indefinite" fill="hold">
                      <p:stCondLst>
                        <p:cond delay="indefinite"/>
                      </p:stCondLst>
                      <p:childTnLst>
                        <p:par>
                          <p:cTn id="9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dur="indefinite" fill="hold">
                      <p:stCondLst>
                        <p:cond delay="indefinite"/>
                      </p:stCondLst>
                      <p:childTnLst>
                        <p:par>
                          <p:cTn id="9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dur="indefinite" fill="hold">
                      <p:stCondLst>
                        <p:cond delay="indefinite"/>
                      </p:stCondLst>
                      <p:childTnLst>
                        <p:par>
                          <p:cTn id="9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dur="indefinite" fill="hold">
                      <p:stCondLst>
                        <p:cond delay="indefinite"/>
                      </p:stCondLst>
                      <p:childTnLst>
                        <p:par>
                          <p:cTn id="9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dur="indefinite" fill="hold">
                      <p:stCondLst>
                        <p:cond delay="indefinite"/>
                      </p:stCondLst>
                      <p:childTnLst>
                        <p:par>
                          <p:cTn id="9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dur="indefinite" fill="hold">
                      <p:stCondLst>
                        <p:cond delay="indefinite"/>
                      </p:stCondLst>
                      <p:childTnLst>
                        <p:par>
                          <p:cTn id="9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dur="indefinite" fill="hold">
                      <p:stCondLst>
                        <p:cond delay="indefinite"/>
                      </p:stCondLst>
                      <p:childTnLst>
                        <p:par>
                          <p:cTn id="9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dur="indefinite" fill="hold">
                      <p:stCondLst>
                        <p:cond delay="indefinite"/>
                      </p:stCondLst>
                      <p:childTnLst>
                        <p:par>
                          <p:cTn id="9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429080" y="192888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28760" y="1571760"/>
            <a:ext cx="397188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[ʤ]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перед гласными e, i,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[g]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во всех остальных случа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47640" y="576360"/>
            <a:ext cx="799164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1152360" y="647640"/>
            <a:ext cx="6696360" cy="5378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76360" y="1368360"/>
            <a:ext cx="3124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ец: There are six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2960" y="2303640"/>
            <a:ext cx="344340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here is some h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here are two tomatoes.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here is some ju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here is some yogu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here is some ice cream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here is some bac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here are some grap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here is some mineral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dur="indefinite" fill="hold">
                      <p:stCondLst>
                        <p:cond delay="indefinite"/>
                      </p:stCondLst>
                      <p:childTnLst>
                        <p:par>
                          <p:cTn id="9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dur="indefinite" fill="hold">
                      <p:stCondLst>
                        <p:cond delay="indefinite"/>
                      </p:stCondLst>
                      <p:childTnLst>
                        <p:par>
                          <p:cTn id="9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dur="indefinite" fill="hold">
                      <p:stCondLst>
                        <p:cond delay="indefinite"/>
                      </p:stCondLst>
                      <p:childTnLst>
                        <p:par>
                          <p:cTn id="9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dur="indefinite" fill="hold">
                      <p:stCondLst>
                        <p:cond delay="indefinite"/>
                      </p:stCondLst>
                      <p:childTnLst>
                        <p:par>
                          <p:cTn id="9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dur="indefinite" fill="hold">
                      <p:stCondLst>
                        <p:cond delay="indefinite"/>
                      </p:stCondLst>
                      <p:childTnLst>
                        <p:par>
                          <p:cTn id="10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dur="indefinite" fill="hold">
                      <p:stCondLst>
                        <p:cond delay="indefinite"/>
                      </p:stCondLst>
                      <p:childTnLst>
                        <p:par>
                          <p:cTn id="10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dur="indefinite" fill="hold">
                      <p:stCondLst>
                        <p:cond delay="indefinite"/>
                      </p:stCondLst>
                      <p:childTnLst>
                        <p:par>
                          <p:cTn id="10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dur="indefinite" fill="hold">
                      <p:stCondLst>
                        <p:cond delay="indefinite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2143080" y="1500120"/>
            <a:ext cx="46148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643040" y="1500120"/>
            <a:ext cx="5672160" cy="38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5840" y="263520"/>
            <a:ext cx="6645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87280" y="1511280"/>
          <a:ext cx="8400600" cy="4613040"/>
        </p:xfrm>
        <a:graphic>
          <a:graphicData uri="http://schemas.openxmlformats.org/drawingml/2006/table">
            <a:tbl>
              <a:tblPr/>
              <a:tblGrid>
                <a:gridCol w="4199400"/>
                <a:gridCol w="4201200"/>
              </a:tblGrid>
              <a:tr h="65880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3/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g/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6633"/>
                    </a:solidFill>
                  </a:tcPr>
                </a:tc>
              </a:tr>
              <a:tr h="659160">
                <a:tc>
                  <a:txBody>
                    <a:bodyPr lIns="90000" rIns="90000" tIns="112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59160">
                <a:tc>
                  <a:txBody>
                    <a:bodyPr lIns="90000" rIns="90000" tIns="112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58800">
                <a:tc>
                  <a:txBody>
                    <a:bodyPr lIns="90000" rIns="90000" tIns="112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59160">
                <a:tc>
                  <a:txBody>
                    <a:bodyPr lIns="90000" rIns="90000" tIns="112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591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58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843280" cy="3649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733480" cy="2376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268360" y="2347920"/>
            <a:ext cx="2733840" cy="2376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445080" y="206064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2066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6372360" y="4292640"/>
            <a:ext cx="3203280" cy="2349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250920" y="50594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9"/>
          <a:stretch/>
        </p:blipFill>
        <p:spPr>
          <a:xfrm>
            <a:off x="7812000" y="-387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276720" y="4581360"/>
            <a:ext cx="28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4CF85-6DEC-4002-8634-5FC1C98E6231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792000" y="489600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7308720" y="148428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2016360" cy="1312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324000" y="2852640"/>
            <a:ext cx="1412640" cy="2089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6659640" y="4365720"/>
            <a:ext cx="2031840" cy="1706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195640" y="3112920"/>
            <a:ext cx="5256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sau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100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dur="indefinite" restart="whenNotActive" nodeType="interactiveSeq" fill="hold">
                <p:stCondLst>
                  <p:cond delay="0"/>
                </p:stCondLst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dur="indefinite" restart="whenNotActive" nodeType="interactiveSeq" fill="hold">
                <p:stCondLst>
                  <p:cond delay="0"/>
                </p:stCondLst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dur="indefinite" restart="whenNotActive" nodeType="interactiveSeq" fill="hold">
                <p:stCondLst>
                  <p:cond delay="0"/>
                </p:stCondLst>
                <p:childTnLst>
                  <p:par>
                    <p:cTn id="61" dur="indefinite" fill="hold">
                      <p:stCondLst>
                        <p:cond delay="0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dur="indefinite" restart="whenNotActive" nodeType="interactiveSeq" fill="hold">
                <p:stCondLst>
                  <p:cond delay="0"/>
                </p:stCondLst>
                <p:childTnLst>
                  <p:par>
                    <p:cTn id="68" dur="indefinite" fill="hold">
                      <p:stCondLst>
                        <p:cond delay="0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dur="indefinite" restart="whenNotActive" nodeType="interactiveSeq" fill="hold">
                <p:stCondLst>
                  <p:cond delay="0"/>
                </p:stCondLst>
                <p:childTnLst>
                  <p:par>
                    <p:cTn id="75" dur="indefinite" fill="hold">
                      <p:stCondLst>
                        <p:cond delay="0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dur="indefinite" restart="whenNotActive" nodeType="interactiveSeq" fill="hold">
                <p:stCondLst>
                  <p:cond delay="0"/>
                </p:stCondLst>
                <p:childTnLst>
                  <p:par>
                    <p:cTn id="82" dur="indefinite" fill="hold">
                      <p:stCondLst>
                        <p:cond delay="0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dur="indefinite" restart="whenNotActive" nodeType="interactiveSeq" fill="hold">
                <p:stCondLst>
                  <p:cond evt="onNext"/>
                </p:stCondLst>
                <p:childTnLst>
                  <p:par>
                    <p:cTn id="89" dur="indefinite" fill="hold">
                      <p:stCondLst>
                        <p:cond evt="onNext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dur="indefinite" restart="whenNotActive" nodeType="interactiveSeq" fill="hold">
                <p:stCondLst>
                  <p:cond delay="0"/>
                </p:stCondLst>
                <p:childTnLst>
                  <p:par>
                    <p:cTn id="96" dur="indefinite" fill="hold">
                      <p:stCondLst>
                        <p:cond delay="0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dur="indefinite" restart="whenNotActive" nodeType="interactiveSeq" fill="hold">
                <p:stCondLst>
                  <p:cond evt="onNext"/>
                </p:stCondLst>
                <p:childTnLst>
                  <p:par>
                    <p:cTn id="103" dur="indefinite" fill="hold">
                      <p:stCondLst>
                        <p:cond evt="onNext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10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110D8-19CC-494B-B6FB-5352A2E5AF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0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dur="indefinite" restart="whenNotActive" nodeType="interactiveSeq" fill="hold">
                <p:stCondLst>
                  <p:cond delay="0"/>
                </p:stCondLst>
                <p:childTnLst>
                  <p:par>
                    <p:cTn id="115" dur="indefinite" fill="hold">
                      <p:stCondLst>
                        <p:cond delay="0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1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dur="indefinite" restart="whenNotActive" nodeType="interactiveSeq" fill="hold">
                <p:stCondLst>
                  <p:cond delay="0"/>
                </p:stCondLst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dur="indefinite" restart="whenNotActive" nodeType="interactiveSeq" fill="hold">
                <p:stCondLst>
                  <p:cond delay="0"/>
                </p:stCondLst>
                <p:childTnLst>
                  <p:par>
                    <p:cTn id="126" dur="indefinite" fill="hold">
                      <p:stCondLst>
                        <p:cond delay="0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dur="indefinite" restart="whenNotActive" nodeType="interactiveSeq" fill="hold">
                <p:stCondLst>
                  <p:cond delay="0"/>
                </p:stCondLst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dur="indefinite" restart="whenNotActive" nodeType="interactiveSeq" fill="hold">
                <p:stCondLst>
                  <p:cond delay="0"/>
                </p:stCondLst>
                <p:childTnLst>
                  <p:par>
                    <p:cTn id="138" dur="indefinite" fill="hold">
                      <p:stCondLst>
                        <p:cond delay="0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dur="indefinite" restart="whenNotActive" nodeType="interactiveSeq" fill="hold">
                <p:stCondLst>
                  <p:cond delay="0"/>
                </p:stCondLst>
                <p:childTnLst>
                  <p:par>
                    <p:cTn id="144" dur="indefinite" fill="hold">
                      <p:stCondLst>
                        <p:cond delay="0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dur="indefinite" restart="whenNotActive" nodeType="interactiveSeq" fill="hold">
                <p:stCondLst>
                  <p:cond delay="0"/>
                </p:stCondLst>
                <p:childTnLst>
                  <p:par>
                    <p:cTn id="150" dur="indefinite" fill="hold">
                      <p:stCondLst>
                        <p:cond delay="0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dur="indefinite" restart="whenNotActive" nodeType="interactiveSeq" fill="hold">
                <p:stCondLst>
                  <p:cond delay="0"/>
                </p:stCondLst>
                <p:childTnLst>
                  <p:par>
                    <p:cTn id="156" dur="indefinite" fill="hold">
                      <p:stCondLst>
                        <p:cond delay="0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dur="indefinite" restart="whenNotActive" nodeType="interactiveSeq" fill="hold">
                <p:stCondLst>
                  <p:cond delay="0"/>
                </p:stCondLst>
                <p:childTnLst>
                  <p:par>
                    <p:cTn id="162" dur="indefinite" fill="hold">
                      <p:stCondLst>
                        <p:cond delay="0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car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0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dur="indefinite" restart="whenNotActive" nodeType="interactiveSeq" fill="hold">
                <p:stCondLst>
                  <p:cond delay="0"/>
                </p:stCondLst>
                <p:childTnLst>
                  <p:par>
                    <p:cTn id="225" dur="indefinite" fill="hold">
                      <p:stCondLst>
                        <p:cond delay="0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dur="indefinite" restart="whenNotActive" nodeType="interactiveSeq" fill="hold">
                <p:stCondLst>
                  <p:cond delay="0"/>
                </p:stCondLst>
                <p:childTnLst>
                  <p:par>
                    <p:cTn id="234" dur="indefinite" fill="hold">
                      <p:stCondLst>
                        <p:cond delay="0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dur="indefinite" restart="whenNotActive" nodeType="interactiveSeq" fill="hold">
                <p:stCondLst>
                  <p:cond delay="0"/>
                </p:stCondLst>
                <p:childTnLst>
                  <p:par>
                    <p:cTn id="243" dur="indefinite" fill="hold">
                      <p:stCondLst>
                        <p:cond delay="0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dur="indefinite" restart="whenNotActive" nodeType="interactiveSeq" fill="hold">
                <p:stCondLst>
                  <p:cond delay="0"/>
                </p:stCondLst>
                <p:childTnLst>
                  <p:par>
                    <p:cTn id="252" dur="indefinite" fill="hold">
                      <p:stCondLst>
                        <p:cond delay="0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dur="indefinite" restart="whenNotActive" nodeType="interactiveSeq" fill="hold">
                <p:stCondLst>
                  <p:cond delay="0"/>
                </p:stCondLst>
                <p:childTnLst>
                  <p:par>
                    <p:cTn id="261" dur="indefinite" fill="hold">
                      <p:stCondLst>
                        <p:cond delay="0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dur="indefinite" restart="whenNotActive" nodeType="interactiveSeq" fill="hold">
                <p:stCondLst>
                  <p:cond delay="0"/>
                </p:stCondLst>
                <p:childTnLst>
                  <p:par>
                    <p:cTn id="270" dur="indefinite" fill="hold">
                      <p:stCondLst>
                        <p:cond delay="0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dur="indefinite" restart="whenNotActive" nodeType="interactiveSeq" fill="hold">
                <p:stCondLst>
                  <p:cond delay="0"/>
                </p:stCondLst>
                <p:childTnLst>
                  <p:par>
                    <p:cTn id="279" dur="indefinite" fill="hold">
                      <p:stCondLst>
                        <p:cond delay="0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dur="indefinite" restart="whenNotActive" nodeType="interactiveSeq" fill="hold">
                <p:stCondLst>
                  <p:cond delay="0"/>
                </p:stCondLst>
                <p:childTnLst>
                  <p:par>
                    <p:cTn id="288" dur="indefinite" fill="hold">
                      <p:stCondLst>
                        <p:cond delay="0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24000" y="4227480"/>
            <a:ext cx="2663640" cy="2106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611280" y="404640"/>
            <a:ext cx="5362560" cy="1371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1584360" y="244440"/>
            <a:ext cx="1557360" cy="1916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3203640" y="4600440"/>
            <a:ext cx="2520720" cy="16891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6912000" y="1655640"/>
            <a:ext cx="159048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dur="indefinite" fill="hold">
                      <p:stCondLst>
                        <p:cond delay="0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dur="indefinite" restart="whenNotActive" nodeType="interactiveSeq" fill="hold">
                <p:stCondLst>
                  <p:cond delay="0"/>
                </p:stCondLst>
                <p:childTnLst>
                  <p:par>
                    <p:cTn id="309" dur="indefinite" fill="hold">
                      <p:stCondLst>
                        <p:cond delay="0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dur="indefinite" restart="whenNotActive" nodeType="interactiveSeq" fill="hold">
                <p:stCondLst>
                  <p:cond delay="0"/>
                </p:stCondLst>
                <p:childTnLst>
                  <p:par>
                    <p:cTn id="317" dur="indefinite" fill="hold">
                      <p:stCondLst>
                        <p:cond delay="0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dur="indefinite" restart="whenNotActive" nodeType="interactiveSeq" fill="hold">
                <p:stCondLst>
                  <p:cond delay="0"/>
                </p:stCondLst>
                <p:childTnLst>
                  <p:par>
                    <p:cTn id="325" dur="indefinite" fill="hold">
                      <p:stCondLst>
                        <p:cond delay="0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dur="indefinite" restart="whenNotActive" nodeType="interactiveSeq" fill="hold">
                <p:stCondLst>
                  <p:cond delay="0"/>
                </p:stCondLst>
                <p:childTnLst>
                  <p:par>
                    <p:cTn id="333" dur="indefinite" fill="hold">
                      <p:stCondLst>
                        <p:cond delay="0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dur="indefinite" restart="whenNotActive" nodeType="interactiveSeq" fill="hold">
                <p:stCondLst>
                  <p:cond delay="0"/>
                </p:stCondLst>
                <p:childTnLst>
                  <p:par>
                    <p:cTn id="341" dur="indefinite" fill="hold">
                      <p:stCondLst>
                        <p:cond delay="0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dur="indefinite" restart="whenNotActive" nodeType="interactiveSeq" fill="hold">
                <p:stCondLst>
                  <p:cond delay="0"/>
                </p:stCondLst>
                <p:childTnLst>
                  <p:par>
                    <p:cTn id="349" dur="indefinite" fill="hold">
                      <p:stCondLst>
                        <p:cond delay="0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dur="indefinite" fill="hold">
                      <p:stCondLst>
                        <p:cond delay="0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dur="indefinite" restart="whenNotActive" nodeType="interactiveSeq" fill="hold">
                <p:stCondLst>
                  <p:cond delay="0"/>
                </p:stCondLst>
                <p:childTnLst>
                  <p:par>
                    <p:cTn id="423" dur="indefinite" fill="hold">
                      <p:stCondLst>
                        <p:cond delay="0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dur="indefinite" restart="whenNotActive" nodeType="interactiveSeq" fill="hold">
                <p:stCondLst>
                  <p:cond delay="0"/>
                </p:stCondLst>
                <p:childTnLst>
                  <p:par>
                    <p:cTn id="429" dur="indefinite" fill="hold">
                      <p:stCondLst>
                        <p:cond delay="0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3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dur="indefinite" restart="whenNotActive" nodeType="interactiveSeq" fill="hold">
                <p:stCondLst>
                  <p:cond delay="0"/>
                </p:stCondLst>
                <p:childTnLst>
                  <p:par>
                    <p:cTn id="435" dur="indefinite" fill="hold">
                      <p:stCondLst>
                        <p:cond delay="0"/>
                      </p:stCondLst>
                      <p:childTnLst>
                        <p:par>
                          <p:cTn id="4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3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dur="indefinite" restart="whenNotActive" nodeType="interactiveSeq" fill="hold">
                <p:stCondLst>
                  <p:cond delay="0"/>
                </p:stCondLst>
                <p:childTnLst>
                  <p:par>
                    <p:cTn id="441" dur="indefinite" fill="hold">
                      <p:stCondLst>
                        <p:cond delay="0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dur="indefinite" restart="whenNotActive" nodeType="interactiveSeq" fill="hold">
                <p:stCondLst>
                  <p:cond delay="0"/>
                </p:stCondLst>
                <p:childTnLst>
                  <p:par>
                    <p:cTn id="447" dur="indefinite" fill="hold">
                      <p:stCondLst>
                        <p:cond delay="0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dur="indefinite" restart="whenNotActive" nodeType="interactiveSeq" fill="hold">
                <p:stCondLst>
                  <p:cond delay="0"/>
                </p:stCondLst>
                <p:childTnLst>
                  <p:par>
                    <p:cTn id="453" dur="indefinite" fill="hold">
                      <p:stCondLst>
                        <p:cond delay="0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dur="indefinite" restart="whenNotActive" nodeType="interactiveSeq" fill="hold">
                <p:stCondLst>
                  <p:cond delay="0"/>
                </p:stCondLst>
                <p:childTnLst>
                  <p:par>
                    <p:cTn id="459" dur="indefinite" fill="hold">
                      <p:stCondLst>
                        <p:cond delay="0"/>
                      </p:stCondLst>
                      <p:childTnLst>
                        <p:par>
                          <p:cTn id="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6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dur="indefinite" restart="whenNotActive" nodeType="interactiveSeq" fill="hold">
                <p:stCondLst>
                  <p:cond delay="0"/>
                </p:stCondLst>
                <p:childTnLst>
                  <p:par>
                    <p:cTn id="465" dur="indefinite" fill="hold">
                      <p:stCondLst>
                        <p:cond delay="0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