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.wmf" ContentType="image/x-wmf"/>
  <Override PartName="/ppt/media/image26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41A-A08D-4709-937A-1D98C238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702-E1EF-43CA-ADA4-7E9EDAC6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A2D-0242-45BD-ABA3-429999C4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455-B339-4E3C-A8CC-C58EFC58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F86-CEF0-4280-9AB4-1BFCD1F0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682-2DFD-4A7F-99C4-3F3EFF35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467-38DE-4166-B1A3-0BBF272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FBF-5C86-4762-972E-B829744C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D31-1BC1-4641-A242-E44786E5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7A3-FE4C-4A01-AB99-6E393422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536-FF90-41A0-A879-55757A4E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BB8-9839-4D27-9269-702EDB3D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D491-DAD1-49E7-A329-2C5D27CF0521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isdoms.ru/avt/b237.html" TargetMode="External"/><Relationship Id="rId2" Type="http://schemas.openxmlformats.org/officeDocument/2006/relationships/hyperlink" Target="http://www.wisdoms.ru/avt/b237.html" TargetMode="External"/><Relationship Id="rId3" Type="http://schemas.openxmlformats.org/officeDocument/2006/relationships/hyperlink" Target="http://www.wisdoms.ru/avt/b207.html" TargetMode="External"/><Relationship Id="rId4" Type="http://schemas.openxmlformats.org/officeDocument/2006/relationships/hyperlink" Target="http://www.wisdoms.ru/avt/b207.html" TargetMode="External"/><Relationship Id="rId5" Type="http://schemas.openxmlformats.org/officeDocument/2006/relationships/hyperlink" Target="http://www.wisdoms.ru/avt/b207.html" TargetMode="External"/><Relationship Id="rId6" Type="http://schemas.openxmlformats.org/officeDocument/2006/relationships/hyperlink" Target="http://www.wisdoms.ru/avt/b207.html" TargetMode="External"/><Relationship Id="rId7" Type="http://schemas.openxmlformats.org/officeDocument/2006/relationships/hyperlink" Target="http://www.wisdoms.ru/avt/b158.html" TargetMode="External"/><Relationship Id="rId8" Type="http://schemas.openxmlformats.org/officeDocument/2006/relationships/hyperlink" Target="http://www.wisdoms.ru/avt/b158.html" TargetMode="Externa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3640" y="4861080"/>
            <a:ext cx="25192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746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539640" y="-243000"/>
            <a:ext cx="7647120" cy="7775640"/>
          </a:xfrm>
          <a:prstGeom prst="rect">
            <a:avLst/>
          </a:prstGeom>
          <a:ln w="0">
            <a:noFill/>
          </a:ln>
        </p:spPr>
      </p:pic>
      <p:sp>
        <p:nvSpPr>
          <p:cNvPr id="103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 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1809600">
            <a:off x="5400720" y="3573000"/>
            <a:ext cx="3743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ый способ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зрешения конфликта то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 котором выигрывают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е сторон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й себе минуту на размышление и, что бы ни произошло, не бросайся сразу в 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читай до десяти, сконцентрируй внимание на своем дых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пробуй улыбнуться и подержи улыбку несколько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71640" y="1599840"/>
            <a:ext cx="576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ксон Чарльз. Конфликт. Семь шагов к мир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игорьева Т.Г., Усольцева Т.П. Основы конструктивного обще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429000"/>
            <a:ext cx="8964720" cy="3670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всегда старался не раздражаться и уступать в ссо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Толстой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Руссо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 Ж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ан-Жак</a:t>
            </a: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1700280"/>
            <a:ext cx="7993080" cy="20160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Монтень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25" name="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взгля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бл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971640" y="450864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онфликт - это 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толчок к 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развитию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3280" y="4581360"/>
            <a:ext cx="33195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фликт - это 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рушающая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ла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1125360"/>
            <a:ext cx="8280360" cy="547236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ждение в группе длится 7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Каждый имеет право голоса. Во время обсу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ываются мнения всех участников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Группа выбирает секретаря, который запис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гументы в защиту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Участники каждой группы определяют «спикер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торый будет представлять результат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д оппонентами и судь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На защиту своей точки зрения отв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более 3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01080" y="1557360"/>
            <a:ext cx="419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Правила работы в груп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5414600">
            <a:off x="1485000" y="248328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фликт. Примеры конфлик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1720800" cy="216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2232000" cy="16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1819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16720" y="4532400"/>
            <a:ext cx="2411280" cy="1582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ащита своей точки зр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84280"/>
            <a:ext cx="5904000" cy="79236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кер группы зачитывает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щиту своей позиции (не более з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2421000"/>
            <a:ext cx="6694560" cy="79200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выступления спикера группа оппон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выдвинуть  контраргументы ( не более тре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300640"/>
            <a:ext cx="6192720" cy="790560"/>
          </a:xfrm>
          <a:prstGeom prst="rect">
            <a:avLst/>
          </a:pr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некорректное поведение во время дискус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шители лишаются права гол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3633600">
            <a:off x="6822000" y="1612080"/>
            <a:ext cx="677880" cy="568440"/>
          </a:xfrm>
          <a:custGeom>
            <a:avLst/>
            <a:gdLst>
              <a:gd name="textAreaLeft" fmla="*/ 118440 w 677880"/>
              <a:gd name="textAreaRight" fmla="*/ 491400 w 67788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357720"/>
            <a:ext cx="6624720" cy="86328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группы, защищающие свою точку з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ут внести дополнительные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вет оппонентам (не более з репл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10800">
            <a:off x="971280" y="2565360"/>
            <a:ext cx="587160" cy="631800"/>
          </a:xfrm>
          <a:custGeom>
            <a:avLst/>
            <a:gdLst>
              <a:gd name="textAreaLeft" fmla="*/ 78480 w 587160"/>
              <a:gd name="textAreaRight" fmla="*/ 508680 w 587160"/>
              <a:gd name="textAreaTop" fmla="*/ 110520 h 631800"/>
              <a:gd name="textAreaBottom" fmla="*/ 458280 h 6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437000"/>
            <a:ext cx="6264360" cy="719280"/>
          </a:xfrm>
          <a:prstGeom prst="rect">
            <a:avLst/>
          </a:pr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ьи следят за регламентом; фиксируют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их групп, не комментируя высту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3" name="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56" name="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фликт. 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79250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ичины и источники конфли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5573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Конфликт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то столкновения, серьезные разногласия, во время которых вас обуревают неприятные чувства или пережив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арльз Ликсон «Конфликт. 7 шагов к миру»</a:t>
            </a:r>
            <a:r>
              <a:rPr b="0" i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51640" y="5181480"/>
            <a:ext cx="1692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155592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76360" y="1413000"/>
            <a:ext cx="6550200" cy="20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делили апельсин,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439800">
            <a:off x="1547640" y="3499920"/>
            <a:ext cx="6670800" cy="252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вое нас, а он один...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11640" y="2924280"/>
            <a:ext cx="108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40000" y="404640"/>
            <a:ext cx="521316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р конфликт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2843280" y="2060640"/>
            <a:ext cx="33433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арианты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aarcishevskaia</cp:lastModifiedBy>
  <dcterms:modified xsi:type="dcterms:W3CDTF">2009-07-24T09:38:03Z</dcterms:modified>
  <cp:revision>342</cp:revision>
  <dc:subject/>
  <dc:title>Wat doen we er mee?</dc:title>
</cp:coreProperties>
</file>