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.wmf" ContentType="image/x-wmf"/>
  <Override PartName="/ppt/media/image26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3.jpeg" ContentType="image/jpeg"/>
  <Override PartName="/ppt/media/image12.png" ContentType="image/png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645-1E9C-4FF0-9489-73CBAA7D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0F1-F59E-4ED4-B114-BB1D5BB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E965-C03E-40F4-83E1-6BBE3784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3CA-D485-4D46-BCE5-07A40DDA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04B-A803-442F-86DD-E2588668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F32-DCE5-40BE-A283-59050A79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F23-F1D5-4DF7-8323-2D4B37AA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E4B8-2D24-4522-9B3D-652355DE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211-5AB6-42CD-9299-708B5A3C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802-2F8A-4005-B93B-31336E7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F633-5B19-4E57-8A69-A541A877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3FE-0AD5-4228-B4DF-F15AD485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8254-DBD7-44C9-B3F7-A801D8228247}" type="slidenum">
              <a:rPr b="0" lang="nl-B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wisdoms.ru/avt/b237.html" TargetMode="External"/><Relationship Id="rId2" Type="http://schemas.openxmlformats.org/officeDocument/2006/relationships/hyperlink" Target="http://www.wisdoms.ru/avt/b237.html" TargetMode="External"/><Relationship Id="rId3" Type="http://schemas.openxmlformats.org/officeDocument/2006/relationships/hyperlink" Target="http://www.wisdoms.ru/avt/b207.html" TargetMode="External"/><Relationship Id="rId4" Type="http://schemas.openxmlformats.org/officeDocument/2006/relationships/hyperlink" Target="http://www.wisdoms.ru/avt/b207.html" TargetMode="External"/><Relationship Id="rId5" Type="http://schemas.openxmlformats.org/officeDocument/2006/relationships/hyperlink" Target="http://www.wisdoms.ru/avt/b207.html" TargetMode="External"/><Relationship Id="rId6" Type="http://schemas.openxmlformats.org/officeDocument/2006/relationships/hyperlink" Target="http://www.wisdoms.ru/avt/b207.html" TargetMode="External"/><Relationship Id="rId7" Type="http://schemas.openxmlformats.org/officeDocument/2006/relationships/hyperlink" Target="http://www.wisdoms.ru/avt/b158.html" TargetMode="External"/><Relationship Id="rId8" Type="http://schemas.openxmlformats.org/officeDocument/2006/relationships/hyperlink" Target="http://www.wisdoms.ru/avt/b158.html" TargetMode="Externa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14212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Конфликт. Эффективные способы его разреше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3640" y="4861080"/>
            <a:ext cx="25192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ыбор способа разрешения конфли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540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пособ вы считаете наиболее эффективным в данн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ы так считаете?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умайте над последствиями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9680" y="3213000"/>
            <a:ext cx="34243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й опыт приобрели участники конфликт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4746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j0238203"/>
          <p:cNvPicPr/>
          <p:nvPr/>
        </p:nvPicPr>
        <p:blipFill>
          <a:blip r:embed="rId1"/>
          <a:srcRect l="0" t="0" r="0" b="2798"/>
          <a:stretch/>
        </p:blipFill>
        <p:spPr>
          <a:xfrm>
            <a:off x="539640" y="-243000"/>
            <a:ext cx="7647120" cy="7775640"/>
          </a:xfrm>
          <a:prstGeom prst="rect">
            <a:avLst/>
          </a:prstGeom>
          <a:ln w="0">
            <a:noFill/>
          </a:ln>
        </p:spPr>
      </p:pic>
      <p:sp>
        <p:nvSpPr>
          <p:cNvPr id="103" name="Oval 4"/>
          <p:cNvSpPr/>
          <p:nvPr/>
        </p:nvSpPr>
        <p:spPr>
          <a:xfrm>
            <a:off x="3059280" y="2205000"/>
            <a:ext cx="244764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48000" y="2637000"/>
            <a:ext cx="194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4 правила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ого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веден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конфликт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 rot="1536600">
            <a:off x="468000" y="692280"/>
            <a:ext cx="32162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ись!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торопись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агировать!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 rot="1809600">
            <a:off x="5400720" y="3573000"/>
            <a:ext cx="3743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ажись от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ановки: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да любой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ой.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20311800">
            <a:off x="200160" y="3346200"/>
            <a:ext cx="3563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последствиях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а!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 rot="20145600">
            <a:off x="5003640" y="475920"/>
            <a:ext cx="3598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й себе немного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ремени, чтобы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ценить ситуацию </a:t>
            </a:r>
            <a:endParaRPr b="0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4552920" cy="403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68360" y="260280"/>
            <a:ext cx="8207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ый способ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зрешения конфликта тот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и котором выигрывают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е сторон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гда ты очень раздражен, разгнева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628640"/>
            <a:ext cx="439236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8263"/>
              <a:gd name="adj5" fmla="val 196777"/>
              <a:gd name="adj6" fmla="val -5583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й себе минуту на размышление и, что бы ни произошло, не бросайся сразу в 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1834920" y="2812680"/>
            <a:ext cx="4460760" cy="906480"/>
          </a:xfrm>
          <a:prstGeom prst="borderCallout2">
            <a:avLst>
              <a:gd name="adj1" fmla="val 18750"/>
              <a:gd name="adj2" fmla="val -8333"/>
              <a:gd name="adj3" fmla="val 87388"/>
              <a:gd name="adj4" fmla="val -26513"/>
              <a:gd name="adj5" fmla="val 212606"/>
              <a:gd name="adj6" fmla="val -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считай до десяти, сконцентрируй внимание на своем дых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16360" y="3933720"/>
            <a:ext cx="4316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8759"/>
              <a:gd name="adj5" fmla="val 241875"/>
              <a:gd name="adj6" fmla="val -568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пробуй улыбнуться и подержи улыбку несколько секу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2052360" y="5013360"/>
            <a:ext cx="4389480" cy="977760"/>
          </a:xfrm>
          <a:prstGeom prst="borderCallout2">
            <a:avLst>
              <a:gd name="adj1" fmla="val 18750"/>
              <a:gd name="adj2" fmla="val -8333"/>
              <a:gd name="adj3" fmla="val 88310"/>
              <a:gd name="adj4" fmla="val -24995"/>
              <a:gd name="adj5" fmla="val 217856"/>
              <a:gd name="adj6" fmla="val -492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сли не удается справиться с раздражением, уйди и побудь наедине с собой некотор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оветуем почитать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71640" y="1599840"/>
            <a:ext cx="576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ксон Чарльз. Конфликт. Семь шагов к мир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Пб.: Питер Паблишинг, 1997–(Серия «Гений общ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игорьева Т.Г., Усольцева Т.П. Основы конструктивного обще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естоматия. – 2-е изд., испр. И доп. – Новосибирск: Изд-во Новосиб. ун-та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2151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3429000"/>
            <a:ext cx="8964720" cy="3670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всегда старался не раздражаться и уступать в ссо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м и достигал умиротворения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же в спокойном состоянии дело улажив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о собой. Почти всегда приходится жал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ссора не была прекращена внач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Толстой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 Л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0"/>
            <a:ext cx="6840720" cy="1584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корбления — это доводы непра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3"/>
              </a:rPr>
              <a:t>Руссо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4"/>
              </a:rPr>
              <a:t> Ж</a:t>
            </a:r>
            <a:r>
              <a:rPr b="0" lang="ru-RU" sz="1600" spc="-1" strike="noStrike" u="sng">
                <a:solidFill>
                  <a:srgbClr val="996666"/>
                </a:solidFill>
                <a:uFillTx/>
                <a:latin typeface="Arial"/>
                <a:hlinkClick r:id="rId5"/>
              </a:rPr>
              <a:t>ан-Жак</a:t>
            </a:r>
            <a:r>
              <a:rPr b="0" lang="en-US" sz="2400" spc="-1" strike="noStrike" u="sng">
                <a:solidFill>
                  <a:srgbClr val="996666"/>
                </a:solidFill>
                <a:uFillTx/>
                <a:latin typeface="Arial"/>
                <a:hlinkClick r:id="rId6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1700280"/>
            <a:ext cx="7993080" cy="20160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рямство и чрезмерный пыл в спор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нейший признак глу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7"/>
              </a:rPr>
              <a:t>Монтень</a:t>
            </a:r>
            <a:r>
              <a:rPr b="0" lang="en-US" sz="1600" spc="-1" strike="noStrike" u="sng">
                <a:solidFill>
                  <a:srgbClr val="996666"/>
                </a:solidFill>
                <a:uFillTx/>
                <a:latin typeface="Arial"/>
                <a:hlinkClick r:id="rId8"/>
              </a:rPr>
              <a:t>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авайте поразмышляе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до ли избегать конфликтов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627280" y="3357720"/>
            <a:ext cx="3629160" cy="2622240"/>
            <a:chOff x="2627280" y="3357720"/>
            <a:chExt cx="3629160" cy="2622240"/>
          </a:xfrm>
        </p:grpSpPr>
        <p:grpSp>
          <p:nvGrpSpPr>
            <p:cNvPr id="125" name=""/>
            <p:cNvGrpSpPr/>
            <p:nvPr/>
          </p:nvGrpSpPr>
          <p:grpSpPr>
            <a:xfrm>
              <a:off x="2627280" y="3357720"/>
              <a:ext cx="3629160" cy="2622240"/>
              <a:chOff x="2627280" y="3357720"/>
              <a:chExt cx="3629160" cy="262224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27280" y="3357720"/>
                <a:ext cx="3629160" cy="26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 txBox="1"/>
              <p:nvPr/>
            </p:nvSpPr>
            <p:spPr>
              <a:xfrm>
                <a:off x="3132000" y="4437000"/>
                <a:ext cx="150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5508720" y="4365720"/>
              <a:ext cx="21744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КОНФЛИК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ва взгля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пробл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4160" y="4941720"/>
            <a:ext cx="1239840" cy="1916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971640" y="4508640"/>
            <a:ext cx="316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Конфликт - это </a:t>
            </a:r>
            <a:endParaRPr b="1" lang="en-US" sz="10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толчок к </a:t>
            </a:r>
            <a:endParaRPr b="1" lang="en-US" sz="10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развитию</a:t>
            </a:r>
            <a:endParaRPr b="1" lang="en-US" sz="10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3280" y="4581360"/>
            <a:ext cx="331956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фликт - это </a:t>
            </a:r>
            <a:endParaRPr b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азрушающая</a:t>
            </a:r>
            <a:endParaRPr b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ила</a:t>
            </a:r>
            <a:endParaRPr b="1" lang="en-US" sz="1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/>
          <p:nvPr/>
        </p:nvSpPr>
        <p:spPr>
          <a:xfrm rot="1003800">
            <a:off x="2781000" y="3499920"/>
            <a:ext cx="360360" cy="1008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0398200">
            <a:off x="5940360" y="3499920"/>
            <a:ext cx="360360" cy="8668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560 h 866880"/>
              <a:gd name="textAreaBottom" fmla="*/ 6285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40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80" y="1125360"/>
            <a:ext cx="8280360" cy="547236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бсуждение в группе длится 7 мину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2. Каждый имеет право голоса. Во время обсу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ываются мнения всех участников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. Группа выбирает секретаря, который записыв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ргументы в защиту 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. Участники каждой группы определяют «спикер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торый будет представлять результат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д оппонентами и судь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5. На защиту своей точки зрения отвод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 более 3 мин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иск аргументов в защиту своей поз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01080" y="1557360"/>
            <a:ext cx="41979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80"/>
                </a:solidFill>
                <a:uFillTx/>
                <a:latin typeface="Arial"/>
              </a:rPr>
              <a:t>Правила работы в групп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6495000">
            <a:off x="4065480" y="2568600"/>
            <a:ext cx="2813040" cy="395928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5414600">
            <a:off x="1485000" y="2483280"/>
            <a:ext cx="2881440" cy="4051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484280"/>
            <a:ext cx="2952720" cy="3673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фликт. Примеры конфлик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19640" y="1700280"/>
            <a:ext cx="1720800" cy="2162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308720" y="5877000"/>
            <a:ext cx="10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3860640"/>
            <a:ext cx="2232000" cy="1697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76720" y="3789360"/>
            <a:ext cx="18194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516720" y="4532400"/>
            <a:ext cx="2411280" cy="1582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4300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Защита своей точки зрен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484280"/>
            <a:ext cx="5904000" cy="792360"/>
          </a:xfrm>
          <a:prstGeom prst="rect">
            <a:avLst/>
          </a:prstGeom>
          <a:solidFill>
            <a:srgbClr val="99ff99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икер группы зачитывает арг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щиту своей позиции (не более з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2421000"/>
            <a:ext cx="6694560" cy="792000"/>
          </a:xfrm>
          <a:prstGeom prst="rect">
            <a:avLst/>
          </a:prstGeom>
          <a:solidFill>
            <a:srgbClr val="99ff99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выступления спикера группа оппонен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жет выдвинуть  контраргументы ( не более тре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300640"/>
            <a:ext cx="6192720" cy="790560"/>
          </a:xfrm>
          <a:prstGeom prst="rect">
            <a:avLst/>
          </a:pr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некорректное поведение во время дискусс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рушители лишаются права гол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3633600">
            <a:off x="6822000" y="1612080"/>
            <a:ext cx="677880" cy="568440"/>
          </a:xfrm>
          <a:custGeom>
            <a:avLst/>
            <a:gdLst>
              <a:gd name="textAreaLeft" fmla="*/ 118440 w 677880"/>
              <a:gd name="textAreaRight" fmla="*/ 491400 w 677880"/>
              <a:gd name="textAreaTop" fmla="*/ 75960 h 568440"/>
              <a:gd name="textAreaBottom" fmla="*/ 492480 h 56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3357720"/>
            <a:ext cx="6624720" cy="863280"/>
          </a:xfrm>
          <a:prstGeom prst="rect">
            <a:avLst/>
          </a:prstGeom>
          <a:solidFill>
            <a:srgbClr val="99ff99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стники группы, защищающие свою точку зр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гут внести дополнительные арг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твет оппонентам (не более з репл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110800">
            <a:off x="971280" y="2565360"/>
            <a:ext cx="587160" cy="631800"/>
          </a:xfrm>
          <a:custGeom>
            <a:avLst/>
            <a:gdLst>
              <a:gd name="textAreaLeft" fmla="*/ 78480 w 587160"/>
              <a:gd name="textAreaRight" fmla="*/ 508680 w 587160"/>
              <a:gd name="textAreaTop" fmla="*/ 110520 h 631800"/>
              <a:gd name="textAreaBottom" fmla="*/ 458280 h 63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4437000"/>
            <a:ext cx="6264360" cy="719280"/>
          </a:xfrm>
          <a:prstGeom prst="rect">
            <a:avLst/>
          </a:prstGeom>
          <a:solidFill>
            <a:srgbClr val="ff9966">
              <a:alpha val="8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дьи следят за регламентом; фиксируют аргумен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их групп, не комментируя высту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Times New Roman"/>
              </a:rPr>
              <a:t>ПОДВЕДЕНИЕ ИТОГОВ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5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ья позиция показалась более аргументирова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показалось наиболее важ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формулируйте общий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564000" y="3716280"/>
            <a:ext cx="2116080" cy="1255680"/>
            <a:chOff x="3564000" y="3716280"/>
            <a:chExt cx="2116080" cy="1255680"/>
          </a:xfrm>
        </p:grpSpPr>
        <p:grpSp>
          <p:nvGrpSpPr>
            <p:cNvPr id="153" name=""/>
            <p:cNvGrpSpPr/>
            <p:nvPr/>
          </p:nvGrpSpPr>
          <p:grpSpPr>
            <a:xfrm>
              <a:off x="3564000" y="3716280"/>
              <a:ext cx="2116080" cy="1255680"/>
              <a:chOff x="3564000" y="3716280"/>
              <a:chExt cx="2116080" cy="1255680"/>
            </a:xfrm>
          </p:grpSpPr>
          <p:pic>
            <p:nvPicPr>
              <p:cNvPr id="1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716280"/>
                <a:ext cx="2116080" cy="12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 txBox="1"/>
              <p:nvPr/>
            </p:nvSpPr>
            <p:spPr>
              <a:xfrm>
                <a:off x="3858120" y="4232880"/>
                <a:ext cx="87840" cy="29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56" name=""/>
            <p:cNvSpPr txBox="1"/>
            <p:nvPr/>
          </p:nvSpPr>
          <p:spPr>
            <a:xfrm>
              <a:off x="5244120" y="4199040"/>
              <a:ext cx="12672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фликт.  Причины и источники его возникнов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79250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ричины и источники конфли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речия между интересами, взгляд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оборство между лидерами, между  отдельными группами в коллек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темперамента, восприятия, уб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ки в общении (неумение слушать, правильно задавать вопросы, проявлять эмпатию, реагировать на критику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55736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Конфликт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 –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это столкновения, серьезные разногласия, во время которых вас обуревают неприятные чувства или пережив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Чарльз Ликсон «Конфликт. 7 шагов к миру»</a:t>
            </a:r>
            <a:r>
              <a:rPr b="0" i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451640" y="5181480"/>
            <a:ext cx="1692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155592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476360" y="1413000"/>
            <a:ext cx="6550200" cy="2087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ы делили апельсин,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1439800">
            <a:off x="1547640" y="3499920"/>
            <a:ext cx="6670800" cy="252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Двое нас, а он один...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11640" y="2924280"/>
            <a:ext cx="108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40000" y="404640"/>
            <a:ext cx="521316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мер конфликта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919840" y="0"/>
            <a:ext cx="3224160" cy="2581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904000" y="2205000"/>
            <a:ext cx="3240000" cy="2746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181080" y="0"/>
            <a:ext cx="3297240" cy="2638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-324000" y="2133720"/>
            <a:ext cx="3297240" cy="2639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843280" y="0"/>
            <a:ext cx="3166920" cy="2530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-324000" y="4437000"/>
            <a:ext cx="3224520" cy="2581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2843280" y="4365720"/>
            <a:ext cx="3286080" cy="2628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56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2843280" y="2060640"/>
            <a:ext cx="33433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1484280"/>
            <a:ext cx="4824720" cy="1944720"/>
          </a:xfrm>
          <a:prstGeom prst="downArrowCallout">
            <a:avLst>
              <a:gd name="adj1" fmla="val 62029"/>
              <a:gd name="adj2" fmla="val 62023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озникнов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43280" y="3573360"/>
            <a:ext cx="3168720" cy="792360"/>
          </a:xfrm>
          <a:prstGeom prst="downArrowCallout">
            <a:avLst>
              <a:gd name="adj1" fmla="val 99987"/>
              <a:gd name="adj2" fmla="val 99977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443700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436572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537372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ь 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1557360"/>
            <a:ext cx="5256000" cy="2087640"/>
          </a:xfrm>
          <a:prstGeom prst="cloudCallout">
            <a:avLst>
              <a:gd name="adj1" fmla="val -38430"/>
              <a:gd name="adj2" fmla="val 67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ли было  остановить перерастание проблемы в конфлик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кой мо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4149720"/>
            <a:ext cx="5040000" cy="2016000"/>
          </a:xfrm>
          <a:prstGeom prst="cloudCallout">
            <a:avLst>
              <a:gd name="adj1" fmla="val -82222"/>
              <a:gd name="adj2" fmla="val -4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омешало остановить перерастание проблемы в конфлик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вы думаете, каким мог быть результат данного конфли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05360" cy="320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1749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35280" y="5605560"/>
            <a:ext cx="1728720" cy="1252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Варианты поведения в конфликтных ситуациях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Избег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ронтац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ход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060640"/>
            <a:ext cx="1726920" cy="3600360"/>
          </a:xfrm>
          <a:prstGeom prst="downArrowCallout">
            <a:avLst>
              <a:gd name="adj1" fmla="val 25002"/>
              <a:gd name="adj2" fmla="val 25000"/>
              <a:gd name="adj3" fmla="val 3474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оловинчат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1413000"/>
            <a:ext cx="1871640" cy="3600360"/>
          </a:xfrm>
          <a:prstGeom prst="downArrowCallout">
            <a:avLst>
              <a:gd name="adj1" fmla="val 25002"/>
              <a:gd name="adj2" fmla="val 25000"/>
              <a:gd name="adj3" fmla="val 32061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трудн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честв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ре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их сто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80000" y="206064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Приспособ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интере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1672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ревнова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ы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2163600" cy="1067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-181080" y="4869000"/>
            <a:ext cx="1935360" cy="147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651640" y="5608800"/>
            <a:ext cx="1724040" cy="124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327800" y="5084640"/>
            <a:ext cx="1816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38:58Z</dcterms:created>
  <dc:creator>Maurits Wysmans</dc:creator>
  <dc:description/>
  <dc:language>en-US</dc:language>
  <cp:lastModifiedBy>aarcishevskaia</cp:lastModifiedBy>
  <dcterms:modified xsi:type="dcterms:W3CDTF">2009-07-24T09:38:03Z</dcterms:modified>
  <cp:revision>342</cp:revision>
  <dc:subject/>
  <dc:title>Wat doen we er mee?</dc:title>
</cp:coreProperties>
</file>