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398-A062-45F5-820F-6A5CC5B8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717-8C1E-4FDE-8305-847DD5AD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FE6-4D33-4865-B175-CD1DC30C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08C-C2A5-45F3-B6F3-37B32806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D47-D069-48D8-B007-04284E5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214-EB6C-447D-9C2E-F251A867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4D3-5999-4D3B-901E-6F7511A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02F-6D09-4DDE-BA5E-FDED04C3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AC1-93C4-41AD-9C70-F61C433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674-4BE2-45FA-9C24-EC75B8F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F88-B21E-4D5A-AA56-335252B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E20-2595-46F5-BC93-CDFE520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8F6E-FBA8-478D-85AA-B163BA114C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8893080" cy="746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Знакомство детей средней группы с мостами</a:t>
            </a:r>
            <a:br>
              <a:rPr sz="3200"/>
            </a:b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анкт -Петербурга»</a:t>
            </a:r>
            <a:br>
              <a:rPr sz="32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ГБДОУ детский сад №8 Калининского района  Санкт-Петербурга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спитатель средней группы Страхова А.К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863640" y="1700280"/>
            <a:ext cx="741672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24000" y="566640"/>
            <a:ext cx="287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В молочной сырости тум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Где тонут мысли и сло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Вдруг выплыли четыре ль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Четыре белых истука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И, опершись на парап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Держали берега канал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067280" y="476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Львиный мо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5545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03640" y="1506600"/>
            <a:ext cx="5472000" cy="4718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79280" y="206064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Дворцового м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ть секрет больш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нём, как все мосты, вис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чью- разводной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4211640" y="62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Дворцовый мост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»</a:t>
            </a:r>
            <a:r>
              <a:rPr b="1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20570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к на Банковском мо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ть грифоны на посту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Я грифонов не бою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мосту сто раз пройду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843280" y="54936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Банковский мо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140360" y="1463760"/>
            <a:ext cx="41767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4356000" y="1622520"/>
            <a:ext cx="4176720" cy="4054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24000" y="1461240"/>
            <a:ext cx="352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мидта лейтенанта 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д большой Невою в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мидт - морской был офиц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сем мальчишкам он прим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76720" y="404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Мост Лейтенанта Шмид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826920" y="1001160"/>
            <a:ext cx="83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Мы очень любим город свой.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Сияет солнце над Невой,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Или дожди стучат в окно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– 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Его мы любим все равно.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Мы в этом городе живём.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И он растёт, и мы раст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468360" y="4076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324000" y="1613160"/>
            <a:ext cx="431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давно в России цар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мудрый государ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троне не сиде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л за день по сто д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л побед немал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ходом был бывалы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 плотник, и кузнец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л царь тот удале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58000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Пётр </a:t>
            </a:r>
            <a:r>
              <a:rPr b="0" lang="en-US" sz="24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C:\Users\Андрей-Женя\Desktop\мосты спб\мосты фото\пётр 1 920.jpg"/>
          <p:cNvPicPr/>
          <p:nvPr/>
        </p:nvPicPr>
        <p:blipFill>
          <a:blip r:embed="rId1"/>
          <a:stretch/>
        </p:blipFill>
        <p:spPr>
          <a:xfrm>
            <a:off x="5003640" y="549360"/>
            <a:ext cx="3424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79280" y="1653480"/>
            <a:ext cx="32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ста лет тому наза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 заложен этот гра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евской дельте, средь бол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есь рождался русский фл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нкт-Петербур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843280" y="260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703 год-основание 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sinykova.ru/biblioteka/st-petersburg/plan-panorama-1913/spb_1913.files/image002.jpg"/>
          <p:cNvPicPr/>
          <p:nvPr/>
        </p:nvPicPr>
        <p:blipFill>
          <a:blip r:embed="rId1"/>
          <a:stretch/>
        </p:blipFill>
        <p:spPr>
          <a:xfrm>
            <a:off x="4067280" y="404640"/>
            <a:ext cx="4897440" cy="4248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79280" y="192168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болоте родил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ри раза крести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де разливается Н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реки, речки, рука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де островки и ост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лпятся у зал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де топь, болотная тра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де в дымке моря синев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ам Пётр Великий осно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олицу всем на д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Санкт-Петербур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-35280"/>
            <a:ext cx="360036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т город знаменит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реки Нева стоит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основан был царём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етром его зовё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 -памятник и сад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сторией богат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блокаду пережи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сть свою не урони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а ему менял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нинградом долго звал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еперь,как город звать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ите мне опя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336920" y="1341360"/>
            <a:ext cx="4394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50920" y="927000"/>
            <a:ext cx="345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встали очень ра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мною папа с мам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едем нынче всей семь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идеть Петербург родн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будем долго мы гуля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теплоходом наблюд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набережной вдоль ре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отражает огонь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река у нас теч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видим белый теплоход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4716360" y="47628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45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11280" y="719280"/>
            <a:ext cx="31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У красавицы Не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Ожерелье из лист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Из гранитов самых лучш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Сшито платье на 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Но совсем не белоруч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Знаменитая ре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Баржи, лодки, парох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На себе несет 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И в трубе водопровод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Calibri"/>
              </a:rPr>
              <a:t>Тоже плещется 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4968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95280" y="626400"/>
            <a:ext cx="576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вышли на Нев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ли на волн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лись широ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праздничной ре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ворцы глядятся в в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 счесть красот прир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кружатся над вол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ки громкою толп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ченька-р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особо дор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 один на св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ву все любят де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водна, ши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ак море, глуб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Разводка Троицкого моста.jpg"/>
          <p:cNvPicPr/>
          <p:nvPr/>
        </p:nvPicPr>
        <p:blipFill>
          <a:blip r:embed="rId1"/>
          <a:stretch/>
        </p:blipFill>
        <p:spPr>
          <a:xfrm>
            <a:off x="4572000" y="1052640"/>
            <a:ext cx="41054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578480" cy="4032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79280" y="1389600"/>
            <a:ext cx="3529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Четыре черных и громоздк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Неукрощенных  жереб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Влетели- каждый на подмостк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c"/>
                </a:solidFill>
                <a:latin typeface="Times New Roman"/>
                <a:ea typeface="Times New Roman"/>
              </a:rPr>
              <a:t>Под стянутой уздой лов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924360" y="836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Аничков</a:t>
            </a:r>
            <a:r>
              <a:rPr b="1" i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мост»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2:04Z</dcterms:created>
  <dc:creator>Компьютер</dc:creator>
  <dc:description/>
  <dc:language>en-US</dc:language>
  <cp:lastModifiedBy>Анжелика</cp:lastModifiedBy>
  <dcterms:modified xsi:type="dcterms:W3CDTF">2020-05-27T08:55:06Z</dcterms:modified>
  <cp:revision>56</cp:revision>
  <dc:subject/>
  <dc:title>Наш любимый  Санкт-Петербург</dc:title>
</cp:coreProperties>
</file>