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2E987C-1FFA-4AB4-B142-78BD5D9FF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ают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083DD0-F7B0-4C67-845E-3942EE49860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B3C-5B6E-4506-927A-F6F73CCE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35680"/>
            <a:ext cx="822924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F15-A021-4324-96D8-8FECF9F0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3568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3568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5A4-3497-4C97-816B-F47EA271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3568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3568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3568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CA7F-E0F0-47E3-A4D9-5792AE32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24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138A-0EF6-4524-9F69-ECC1814F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6C2-8E8D-4AE1-83BF-68E91FD7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D0C-49F0-440D-8B34-23C14D4D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665-1A54-43A6-879A-A9785FF8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00760"/>
            <a:ext cx="8229240" cy="31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2DE-C92C-4D58-84E9-68BE44A9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568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96B-7595-4B54-8371-B3C9048F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3568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8E9-916D-47C3-932C-29ED833F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5680"/>
            <a:ext cx="822924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6D4-0B91-4578-B8C0-71E688D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798"/>
            </a:gs>
            <a:gs pos="100000">
              <a:srgbClr val="ffda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a5644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a5644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solidFill>
              <a:srgbClr val="f0a22e"/>
            </a:solidFill>
          </a:ln>
        </p:spPr>
        <p:txBody>
          <a:bodyPr lIns="274320" rIns="90000" tIns="45000" bIns="4500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240" cy="426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ставка рисун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1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e3b3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e3b3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6"/>
          <p:cNvSpPr>
            <a:spLocks noGrp="1"/>
          </p:cNvSpPr>
          <p:nvPr>
            <p:ph type="sldNum" idx="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e3b3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DA762CA-0790-4717-8084-64AD17A967E8}" type="slidenum">
              <a:rPr b="0" lang="ru-RU" sz="1400" spc="-1" strike="noStrike">
                <a:solidFill>
                  <a:srgbClr val="4e3b3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ая соединительная линия 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a5644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Равнобедренный треугольник 8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Прямоугольник 9"/>
          <p:cNvSpPr/>
          <p:nvPr/>
        </p:nvSpPr>
        <p:spPr>
          <a:xfrm>
            <a:off x="457200" y="500760"/>
            <a:ext cx="182520" cy="68544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978440" cy="719640"/>
          </a:xfrm>
          <a:prstGeom prst="rect">
            <a:avLst/>
          </a:prstGeom>
          <a:noFill/>
          <a:ln w="0">
            <a:solidFill>
              <a:srgbClr val="f0a22e"/>
            </a:solidFill>
          </a:ln>
        </p:spPr>
        <p:txBody>
          <a:bodyPr lIns="274320" rIns="90000" tIns="45000" bIns="4500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азвитие речи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" name="Picture 2" descr="F:\DCIM\107PHOTO\группа №12\SAM_5551.JPG"/>
          <p:cNvPicPr/>
          <p:nvPr/>
        </p:nvPicPr>
        <p:blipFill>
          <a:blip r:embed="rId1"/>
          <a:stretch/>
        </p:blipFill>
        <p:spPr>
          <a:xfrm>
            <a:off x="467640" y="1340640"/>
            <a:ext cx="4499640" cy="3374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57" name="Picture 2" descr="F:\DCIM\107PHOTO\гр№12\SAM_5595.JPG"/>
          <p:cNvPicPr/>
          <p:nvPr/>
        </p:nvPicPr>
        <p:blipFill>
          <a:blip r:embed="rId2"/>
          <a:stretch/>
        </p:blipFill>
        <p:spPr>
          <a:xfrm>
            <a:off x="4679640" y="3069000"/>
            <a:ext cx="4032000" cy="3024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1362</TotalTime>
  <Application>LibreOffice/7.4.7.2$Linux_X86_64 LibreOffice_project/40$Build-2</Application>
  <AppVersion>15.0000</AppVersion>
  <Words>6</Words>
  <Paragraphs>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5:03:25Z</dcterms:created>
  <dc:creator>User</dc:creator>
  <dc:description/>
  <dc:language>en-US</dc:language>
  <cp:lastModifiedBy>demo</cp:lastModifiedBy>
  <dcterms:modified xsi:type="dcterms:W3CDTF">2020-05-27T03:14:07Z</dcterms:modified>
  <cp:revision>1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</vt:r8>
  </property>
</Properties>
</file>