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C4879E-E5D2-4E1E-B50F-CBD11B2A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ют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6258A5-8C85-46B0-9C8C-2D6C2E8A9C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72A-F460-4A7E-9776-2EDEC04B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568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118-7C3C-4E3D-B321-10663F4E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55D-1B25-4D60-A71E-F8200AA6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85B-5876-401E-9EA0-E365838D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CFC-D88F-4CB6-9129-6C6FAE6C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0BA-33D4-4800-A77A-DDA54830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DAE-E991-485D-8D8D-C327E854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EB4-CB45-4E2E-BEB3-14A27E6E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00760"/>
            <a:ext cx="8229240" cy="31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AB1-0264-4A41-B0A6-B26D8641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DF4-F1A3-4C9D-99E1-F387439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170-7BBF-4A94-92F4-87A05ABE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283-2329-4F88-A0A4-7AA9FC5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798"/>
            </a:gs>
            <a:gs pos="100000">
              <a:srgbClr val="ffda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solidFill>
              <a:srgbClr val="f0a22e"/>
            </a:solidFill>
          </a:ln>
        </p:spPr>
        <p:txBody>
          <a:bodyPr lIns="27432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e3b3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e3b3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e3b3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239DE79-9FF4-4F32-90D9-A161D50EA417}" type="slidenum">
              <a:rPr b="0" lang="ru-RU" sz="1400" spc="-1" strike="noStrike">
                <a:solidFill>
                  <a:srgbClr val="4e3b3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ая соединительная линия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Равнобедренный треугольник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Прямоугольник 9"/>
          <p:cNvSpPr/>
          <p:nvPr/>
        </p:nvSpPr>
        <p:spPr>
          <a:xfrm>
            <a:off x="457200" y="500760"/>
            <a:ext cx="182520" cy="68544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978440" cy="719640"/>
          </a:xfrm>
          <a:prstGeom prst="rect">
            <a:avLst/>
          </a:prstGeom>
          <a:noFill/>
          <a:ln w="0">
            <a:solidFill>
              <a:srgbClr val="f0a22e"/>
            </a:solidFill>
          </a:ln>
        </p:spPr>
        <p:txBody>
          <a:bodyPr lIns="27432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витие реч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" name="Picture 2" descr="F:\DCIM\107PHOTO\группа №12\SAM_5551.JPG"/>
          <p:cNvPicPr/>
          <p:nvPr/>
        </p:nvPicPr>
        <p:blipFill>
          <a:blip r:embed="rId1"/>
          <a:stretch/>
        </p:blipFill>
        <p:spPr>
          <a:xfrm>
            <a:off x="467640" y="1340640"/>
            <a:ext cx="4499640" cy="3374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57" name="Picture 2" descr="F:\DCIM\107PHOTO\гр№12\SAM_5595.JPG"/>
          <p:cNvPicPr/>
          <p:nvPr/>
        </p:nvPicPr>
        <p:blipFill>
          <a:blip r:embed="rId2"/>
          <a:stretch/>
        </p:blipFill>
        <p:spPr>
          <a:xfrm>
            <a:off x="4679640" y="3069000"/>
            <a:ext cx="4032000" cy="302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362</TotalTime>
  <Application>LibreOffice/7.4.7.2$Linux_X86_64 LibreOffice_project/40$Build-2</Application>
  <AppVersion>15.0000</AppVersion>
  <Words>6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03:25Z</dcterms:created>
  <dc:creator>User</dc:creator>
  <dc:description/>
  <dc:language>en-US</dc:language>
  <cp:lastModifiedBy>demo</cp:lastModifiedBy>
  <dcterms:modified xsi:type="dcterms:W3CDTF">2020-05-27T03:14:0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</vt:r8>
  </property>
</Properties>
</file>