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4797F0-61B7-4FF0-90E8-D20D16ED0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ают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A9416F-0572-42A1-B8F5-25EC92FD3ED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487-FB89-41F6-A982-A3BF2983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35680"/>
            <a:ext cx="822924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489-A649-4B2D-93C7-4643DD1F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3568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3568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B3D-4BA3-47CA-99CC-4CD12B24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3568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3568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35680"/>
            <a:ext cx="26496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F6E-C628-4FFC-98A2-D8A9D8A4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24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E4C-973C-4719-878D-BAAB75BE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0C7-DA75-4DD0-88B6-40329DB5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7D0-2F78-4DEC-B50C-433B5EF1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7AE-2C8B-44A3-AEAC-355F66E7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00760"/>
            <a:ext cx="8229240" cy="31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3C9-A337-43A4-AA44-89DF9F67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568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FAF-820E-44C9-A573-C7941BDA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3568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2F6-5949-44BF-ACF0-689F8608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5680"/>
            <a:ext cx="8229240" cy="20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F72-2791-46EC-88F5-70F31C0F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798"/>
            </a:gs>
            <a:gs pos="100000">
              <a:srgbClr val="ffda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a5644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a5644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00760"/>
            <a:ext cx="8229240" cy="674280"/>
          </a:xfrm>
          <a:prstGeom prst="rect">
            <a:avLst/>
          </a:prstGeom>
          <a:noFill/>
          <a:ln w="0">
            <a:solidFill>
              <a:srgbClr val="f0a22e"/>
            </a:solidFill>
          </a:ln>
        </p:spPr>
        <p:txBody>
          <a:bodyPr lIns="274320" rIns="90000" tIns="45000" bIns="4500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240" cy="426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ставка рисун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1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e3b3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e3b3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6"/>
          <p:cNvSpPr>
            <a:spLocks noGrp="1"/>
          </p:cNvSpPr>
          <p:nvPr>
            <p:ph type="sldNum" idx="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e3b3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DF94376-C2EA-47A1-BD8A-FBEE41A7469B}" type="slidenum">
              <a:rPr b="0" lang="ru-RU" sz="1400" spc="-1" strike="noStrike">
                <a:solidFill>
                  <a:srgbClr val="4e3b3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ая соединительная линия 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a5644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Равнобедренный треугольник 8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Прямоугольник 9"/>
          <p:cNvSpPr/>
          <p:nvPr/>
        </p:nvSpPr>
        <p:spPr>
          <a:xfrm>
            <a:off x="457200" y="500760"/>
            <a:ext cx="182520" cy="68544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978440" cy="719640"/>
          </a:xfrm>
          <a:prstGeom prst="rect">
            <a:avLst/>
          </a:prstGeom>
          <a:noFill/>
          <a:ln w="0">
            <a:solidFill>
              <a:srgbClr val="f0a22e"/>
            </a:solidFill>
          </a:ln>
        </p:spPr>
        <p:txBody>
          <a:bodyPr lIns="274320" rIns="90000" tIns="45000" bIns="4500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азвитие речи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" name="Picture 2" descr="F:\DCIM\107PHOTO\группа №12\SAM_5551.JPG"/>
          <p:cNvPicPr/>
          <p:nvPr/>
        </p:nvPicPr>
        <p:blipFill>
          <a:blip r:embed="rId1"/>
          <a:stretch/>
        </p:blipFill>
        <p:spPr>
          <a:xfrm>
            <a:off x="467640" y="1340640"/>
            <a:ext cx="4499640" cy="3374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57" name="Picture 2" descr="F:\DCIM\107PHOTO\гр№12\SAM_5595.JPG"/>
          <p:cNvPicPr/>
          <p:nvPr/>
        </p:nvPicPr>
        <p:blipFill>
          <a:blip r:embed="rId2"/>
          <a:stretch/>
        </p:blipFill>
        <p:spPr>
          <a:xfrm>
            <a:off x="4679640" y="3069000"/>
            <a:ext cx="4032000" cy="3024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1362</TotalTime>
  <Application>LibreOffice/7.4.7.2$Linux_X86_64 LibreOffice_project/40$Build-2</Application>
  <AppVersion>15.0000</AppVersion>
  <Words>6</Words>
  <Paragraphs>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5:03:25Z</dcterms:created>
  <dc:creator>User</dc:creator>
  <dc:description/>
  <dc:language>en-US</dc:language>
  <cp:lastModifiedBy>demo</cp:lastModifiedBy>
  <dcterms:modified xsi:type="dcterms:W3CDTF">2020-05-27T03:14:07Z</dcterms:modified>
  <cp:revision>1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</vt:r8>
  </property>
</Properties>
</file>