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F9F-E09B-4B56-8AB6-E97DE192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E41-A4EC-4B93-98C7-638404D3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026-AEA5-4062-94DF-EAFED378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B8A-BE0F-413B-87A9-2A7CC996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DC9B-FB0C-4714-80AD-907A7D44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8556-C3D4-49CC-97F0-01EAFCF7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6EE2-5348-4C1F-95AD-92CF1FCA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E313-12AC-49D8-A567-B61709AE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C131-E7CD-451C-BF2A-DE262872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77D5-FEEB-4D10-9197-694AD26B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FAB8-3D3D-4387-A7A3-CA24912C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D08-6A12-4535-A047-49B1FB53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2F30-D784-4376-957D-0B327DFB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7570-6EAA-4B4A-9EE5-4237C702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18A4-6B3C-4462-835D-ECA61793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DAB8-006E-4E0B-B9E9-30871CB6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419E-9A13-42F4-8D6B-0D62B8A8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94D69-54C5-4B82-8F71-F8D9C9CF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FAE50-12DE-4FBA-8825-BE0A9769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F75FB-DCB5-47E6-993B-5D7246B1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D8683-0D78-447A-AAE8-4180042E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CD4C6-D274-4C5C-BE3B-6573B6C7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F49-F015-4FC5-9BDC-57D3BFB6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6FEC2-3AA2-46AC-9443-E7F4ABD5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1416A-D5F9-4CB3-A156-AD3E67B8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4B20A-25DA-42B0-B440-0902D09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974D8-C333-4B00-9404-062E1052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AF7C8-97C1-4DB3-BBB0-B51B1AC6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32349-5D1E-4C50-9F85-60B5FA04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71116-ACC4-426D-BC56-95F33A44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566AC-AB43-4DA4-836E-74D7C6D5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9ED6-45DB-4354-A9B1-AB6B8ADB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7E146-E262-4A22-951C-3C8EF95C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B09-45DE-4924-B895-9BAE4A10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B83C-BE6A-4C44-8595-94778A7E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4E6A6-C3A1-4D4B-823A-A7939356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7245-D253-4471-9AB9-780D6126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563F5-F15F-4FE0-AB8E-88F0746A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BCA38-2BA8-4B52-91D0-15B5E697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56ED9-71AD-435F-8592-89EC81E7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40084-8A57-4476-8703-1F231570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DCE7C-C66F-46C6-A50A-C601CFCF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EE0FF-FC29-4905-85AC-550DA0D4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92C26-2361-4BB7-BC7E-3A039733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ADE-2A60-46D0-B55D-D945DF86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0DE03-6D0C-42AC-95D3-EDD982C2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BA2AA-2A7D-453C-8026-137868A7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0C5BF-0E07-4B20-9D46-CB5D1192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50E67-F26A-4AE8-B650-333DFE1E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B38DF-B57F-4960-8675-5EF96E25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C703F-66C7-4C14-B34C-256BFE5F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B2726D-6108-49A7-9852-924D86B9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A30B8-55DA-41CF-A132-F6221A29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DBD62-3318-4BA4-BBA3-4BAD1F25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F5EED-03CA-4F13-8958-C8308A3B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702-D5BB-4E2F-B846-3373E3CC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83814-5BDC-4EA7-920D-BAB04338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0C55D-BAEF-46FE-B508-89D4AFFE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C8C50-76C2-4A67-9F43-280CDE7A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A2B0B-3A03-43EB-A619-84A1844E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8852D-EBEE-47E8-81E4-046686D2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1D28E-2F2C-4FB3-B7E1-332D61FA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74D82-0C00-4530-BA5F-BD49964A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77532-40F6-40C5-AD48-2B339CAE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58F46-B2CA-41DB-935E-AA426F5C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8AF17-8C56-4B7B-92FD-C3E9AF98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E50-0968-4D30-9678-CE7BDAED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D5C6F-F87D-4743-B0FF-6330FB1B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3DD51-7248-4584-9526-25C85A99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0D0C4-64DB-4966-AB49-54CA584A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D3600-FF76-4B85-830B-251CE96F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D97537-E012-4EB2-B80C-32298BF3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5E6B57-9444-4510-8A33-3FCBE586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09216-6614-4101-BAAB-597E93A6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AB3B90-9C6A-4062-8828-737F0FE2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DC4569-3B20-44CB-A7DD-257E75B5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AD0DD-7484-4C05-91CE-F92FD5B5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31C-6F2D-4793-B1BB-C97BBF92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9D4A6-CBDB-443C-B8AF-8C5C93ED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E5D4B-76F8-4A48-B2C0-C94ED1DA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6D5AE-B2A3-42AE-B9B3-C9D8165B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FDD7A-C74A-473D-B5EA-4489EB61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2C3BF-3426-4C81-961A-8C1A2988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53A7B-099A-48D0-90E4-9C95703D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6C350-AC28-4A94-90F3-23BBD61D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EDBA8-411F-476C-95B3-3FB34200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B3F98-88AC-4FAC-AE44-B2B9A7A6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AE70B-D5FF-42D0-B850-A9F86F58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7D2-FD31-48B6-8A75-72A8CFF5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F1EF8-E438-4D09-A8B1-E6D38376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C2E76-6E78-4640-AA8B-7BD37D8F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997EE-389B-4CA2-909A-9025141E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76EC7-1E4F-4E7C-85A8-01F33FB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8F498-D779-4218-AFF3-DC289C93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2AE87-3024-4372-902E-0690F63A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81723-5982-49F8-9843-A1A44B93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AAD3-FB74-488F-A1C9-949D284772E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29D9-2737-441B-B3BC-8C8DD1BF109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3106-7436-4C4F-AAEF-381787C69E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0839-8D1B-4C57-B0B0-179E6DC7D6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28E4-878C-4627-BE33-C48EE6C0389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CC92-8FCF-45F4-8140-00ACC73F4E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5312-A244-466B-B273-4EA4369C996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D021-12BA-49A8-95F9-0B9778B1CE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entury Schoolbook"/>
              </a:rPr>
              <a:t>Третье март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entury Schoolbook"/>
              </a:rPr>
              <a:t>Классная работ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1" descr="D:\Мои документы\Мои рисунки\КАРТИНКИ\SOL.GIF"/>
          <p:cNvPicPr/>
          <p:nvPr/>
        </p:nvPicPr>
        <p:blipFill>
          <a:blip r:embed="rId1"/>
          <a:stretch/>
        </p:blipFill>
        <p:spPr>
          <a:xfrm>
            <a:off x="5356080" y="2598840"/>
            <a:ext cx="20066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РАВНИТЕ ПРЕДЛОЖ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1295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Читать</a:t>
            </a:r>
            <a:r>
              <a:rPr b="1" lang="ru-RU" sz="2300" spc="-1" strike="noStrike">
                <a:solidFill>
                  <a:srgbClr val="ff3300"/>
                </a:solidFill>
                <a:latin typeface="Century Schoolbook"/>
              </a:rPr>
              <a:t>,</a:t>
            </a: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 лежа на кровати</a:t>
            </a:r>
            <a:r>
              <a:rPr b="1" lang="ru-RU" sz="2300" spc="-1" strike="noStrike">
                <a:solidFill>
                  <a:srgbClr val="ff3300"/>
                </a:solidFill>
                <a:latin typeface="Century Schoolbook"/>
              </a:rPr>
              <a:t>,</a:t>
            </a: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 вредно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Читать лежа вредно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3300"/>
                </a:solidFill>
                <a:latin typeface="Century Schoolboo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457200" y="32004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0" y="3048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тоя, сидя, лежа, молча, нехотя, шутя, не торопясь, не глядя, играя и т.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ВСТАВИТЬ НАРЕЧИЯ, ПО ФОРМЕ НАПОМИНАЮЩИЕ ДЕЕПРИЧАСТИЯ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560" y="16002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1.Папа …сидел в кресле качалке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2. Пёс …встал и пошёл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3.И мы…двинулись по тропинке в лес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4.-  Что я? Царь или дитя?  - Говорил он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5.В санях он… правит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И гонит всех, и давит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А ТЫ?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ХОДЯ В ДОМА ЛЮБЫЕ -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34544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 В СЕРЫЕ,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2190600" y="203688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И В ГОЛУБЫЕ,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СХОДЯ НА ЛЕСТНИЦЫ КРУТЫЕ,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6247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 КВАРТИРЫ, СВЕТОМ ЗАЛИТЫЕ,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2190600" y="2708280"/>
            <a:ext cx="4000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РИСЛУШИВАЯСЬ К ЗВОНУ КЛАВИШ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2190600" y="2732040"/>
            <a:ext cx="40006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 НА ВОПРОС ДАРЯ ОТВЕТ,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tretch/>
        </p:blipFill>
        <p:spPr>
          <a:xfrm>
            <a:off x="2190600" y="2708280"/>
            <a:ext cx="4000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СКАЖИ: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КАКОЙ ТЫ СЛЕД ОСТАВИШЬ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2190600" y="2703600"/>
            <a:ext cx="400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ОРФОГРАФИЧЕСКАЯ МИНУТК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914400" y="1600200"/>
          <a:ext cx="7238880" cy="9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  <a:gridCol w="723960"/>
                <a:gridCol w="7236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pic>
        <p:nvPicPr>
          <p:cNvPr id="403" name="Picture 4" descr="4329754_0009-024-ne-lovite-babochek-i-strekoz"/>
          <p:cNvPicPr/>
          <p:nvPr/>
        </p:nvPicPr>
        <p:blipFill>
          <a:blip r:embed="rId1"/>
          <a:stretch/>
        </p:blipFill>
        <p:spPr>
          <a:xfrm>
            <a:off x="6324480" y="2971800"/>
            <a:ext cx="1925640" cy="2895480"/>
          </a:xfrm>
          <a:prstGeom prst="rect">
            <a:avLst/>
          </a:prstGeom>
          <a:ln w="0">
            <a:noFill/>
          </a:ln>
        </p:spPr>
      </p:pic>
      <p:sp>
        <p:nvSpPr>
          <p:cNvPr id="404" name="WordArt 5"/>
          <p:cNvSpPr txBox="1"/>
          <p:nvPr/>
        </p:nvSpPr>
        <p:spPr>
          <a:xfrm>
            <a:off x="6781680" y="3962520"/>
            <a:ext cx="2001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СЛЕД,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ЧТОБЫ ВЫТЕРЛИ ПАРКЕТ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И ПОСМОТРЕЛИ КОСО ВСЛЕД,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8764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310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ИЛИ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НЕЗРИМЫЙ ПРОЧНЫЙ СЛЕД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 ЧУЖОЙ ДУШЕ НА МНОГО ЛЕТ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Picture 4" descr="Картинка 188 из 403438"/>
          <p:cNvPicPr/>
          <p:nvPr/>
        </p:nvPicPr>
        <p:blipFill>
          <a:blip r:embed="rId1"/>
          <a:stretch/>
        </p:blipFill>
        <p:spPr>
          <a:xfrm>
            <a:off x="1042920" y="1916280"/>
            <a:ext cx="720108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След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.Мартын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 т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ходя в дома любы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 в серы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 в голубы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сходя на лестницы крут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квартиры, светом залиты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слушиваясь к звону клавиш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 на вопрос даря отв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каж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акой ты след оставиш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лед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тобы вытерли парк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 посмотрели косо вслед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езримый прочный сле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чужой душе на много ле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РИСЕВ НА СКАМЕЙКУ, ГЛАЗА ДЕВОЧКИ НАПОЛНИЛИСЬ СЛЕЗАМ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0" name="Picture 7" descr="para-aweczka-zakochanych"/>
          <p:cNvPicPr/>
          <p:nvPr/>
        </p:nvPicPr>
        <p:blipFill>
          <a:blip r:embed="rId1"/>
          <a:stretch/>
        </p:blipFill>
        <p:spPr>
          <a:xfrm>
            <a:off x="1676520" y="1392120"/>
            <a:ext cx="556236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556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52" name="Picture 13" descr="1341083724_vetka_sakura"/>
          <p:cNvPicPr/>
          <p:nvPr/>
        </p:nvPicPr>
        <p:blipFill>
          <a:blip r:embed="rId1"/>
          <a:stretch/>
        </p:blipFill>
        <p:spPr>
          <a:xfrm>
            <a:off x="304920" y="228600"/>
            <a:ext cx="1612800" cy="25113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1341083724_vetka_sakura"/>
          <p:cNvPicPr/>
          <p:nvPr/>
        </p:nvPicPr>
        <p:blipFill>
          <a:blip r:embed="rId2"/>
          <a:stretch/>
        </p:blipFill>
        <p:spPr>
          <a:xfrm>
            <a:off x="6648480" y="2971800"/>
            <a:ext cx="2495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МАШНЕЕ ЗАДАНИЕ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уровень – упражнение 329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уровень – определить роль обособленных обстоятельств в поэме М.Ю Лермонтова «Мцыри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НАЛИЗ ПРЕДЛОЖЕНИ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Судить о человеке надо, наблюдая его повседневное существование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Солгав, ты потеряешь доверие люде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Опорный конспект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о теме «Обособленные обстоятельства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ru-RU" sz="4100" spc="-1" strike="noStrike">
                <a:solidFill>
                  <a:srgbClr val="0070c0"/>
                </a:solidFill>
                <a:latin typeface="Century Schoolbook"/>
              </a:rPr>
              <a:t>Условные знаки:</a:t>
            </a: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70c0"/>
                </a:solidFill>
                <a:latin typeface="Century Schoolbook"/>
              </a:rPr>
              <a:t>+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материал известен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- материал не знаю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?  материал, требующий уточнен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entury Schoolbook"/>
              </a:rPr>
              <a:t>СОБЕРИ РАССЫПАННЫЕ ФРАЗ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57200" y="1295280"/>
          <a:ext cx="8305920" cy="525780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20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Копая другому яму 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… </a:t>
                      </a:r>
                      <a:r>
                        <a:rPr b="0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соберись с духом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Принимаясь за дело 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… </a:t>
                      </a:r>
                      <a:r>
                        <a:rPr b="0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потерявши, плачем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Что имеем, не храним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… </a:t>
                      </a:r>
                      <a:r>
                        <a:rPr b="0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сам в нее попадешь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-360" y="99072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дееприч. о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Копая другому яму, сам в нее  попадешь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дееприч. о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Принимаясь за дело, соберись с духом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        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деепри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3. Что имеем, не храним, потерявши, плачем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685800" y="205740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4"/>
          <p:cNvSpPr/>
          <p:nvPr/>
        </p:nvSpPr>
        <p:spPr>
          <a:xfrm>
            <a:off x="609480" y="35812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5"/>
          <p:cNvSpPr/>
          <p:nvPr/>
        </p:nvSpPr>
        <p:spPr>
          <a:xfrm>
            <a:off x="5638680" y="45720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РАЗЕОЛОГИЗ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12189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entury Schoolbook"/>
              </a:rPr>
              <a:t>Во время школьной перемены не беги в столовую сломя голов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10" descr="водитьне"/>
          <p:cNvPicPr/>
          <p:nvPr/>
        </p:nvPicPr>
        <p:blipFill>
          <a:blip r:embed="rId1"/>
          <a:stretch/>
        </p:blipFill>
        <p:spPr>
          <a:xfrm>
            <a:off x="5791320" y="3581280"/>
            <a:ext cx="2617560" cy="20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920" y="228600"/>
            <a:ext cx="761976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entury Schoolbook"/>
              </a:rPr>
              <a:t>Выпишите из данных предложений фразеологизм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1) Не надо кричать не помня себ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2) Отвечай на вопросы собеседника не мудрствуя лукав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3) Трудись не покладая рук, тогда добьешься нужных результа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4) Собеседника надо слушать затаив дых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ловарик фразеологизм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.Не надо кричать </a:t>
            </a:r>
            <a:r>
              <a:rPr b="0" lang="ru-RU" sz="2800" spc="-1" strike="noStrike">
                <a:solidFill>
                  <a:srgbClr val="ff3300"/>
                </a:solidFill>
                <a:latin typeface="Century Schoolbook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помня себ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.Отвечай на вопросы собеседника </a:t>
            </a:r>
            <a:r>
              <a:rPr b="0" lang="ru-RU" sz="2800" spc="-1" strike="noStrike">
                <a:solidFill>
                  <a:srgbClr val="ff3300"/>
                </a:solidFill>
                <a:latin typeface="Century Schoolbook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мудрствуя лукав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.Нельзя сидеть сложа рук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4.Трудись </a:t>
            </a:r>
            <a:r>
              <a:rPr b="0" lang="ru-RU" sz="2800" spc="-1" strike="noStrike">
                <a:solidFill>
                  <a:srgbClr val="ff3300"/>
                </a:solidFill>
                <a:latin typeface="Century Schoolbook"/>
              </a:rPr>
              <a:t>не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кладая рук, тогда добьешься нужных результат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5.Собеседника надо слушать затаив дыхан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сучив рукава, скрепя сердце, не переводя дух, развесив уши, очертя голову, несолоно хлебавши, держа курс, не долго думая, принимая во вним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я</cp:lastModifiedBy>
  <dcterms:modified xsi:type="dcterms:W3CDTF">2015-03-03T01:37:0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