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9.jpeg" ContentType="image/jpeg"/>
  <Override PartName="/ppt/media/image10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6BEFB-0455-42F7-ADC7-623EB3679C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8AF45-1DCF-43CB-9BD6-A519BD38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0169C-BCFF-4F85-82D2-3AE858EC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A77C-8308-4E06-9B7D-0CB6C70B34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8914C-1986-4C78-8FB4-EA25594C16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75CB7-A2DC-46D8-B47E-2CD6F263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ADBFE-AF6B-4248-BFB1-2109CDDE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B8A40-DF17-47A5-9445-9F91CDBA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0F141-B9A1-41F7-A3B8-28ADA9FF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98B70-626B-4980-B174-C36C83BD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39998-BA1A-4490-9791-E2417332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6BB99-C684-4578-B000-61A90298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46FE8-D734-4C99-99E0-98B59160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1A9EE-2D97-4287-AB37-F3AC9013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20518-04DA-46BA-919D-36AAE2B9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F5CF6-B0DC-4F70-8972-C55E3434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AA51B-3253-444A-82D4-A8E69DF0BE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2445-C076-4375-990F-9651DD6804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97CA-4EB1-4097-9228-1AAB5B9E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ECF1-CE6B-487F-B24A-33E1473D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1BF7-8751-41A0-9028-DA37C076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8048-1195-4850-97FE-C4C19567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D94DE-982B-4451-8FA5-4F177B18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6F06-86EC-434B-BFD7-5D52D97E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1BEE-D484-4D0F-B608-22338101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EE5D-1ADA-4154-825E-4539C519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4AFA-7B33-43C1-AAC5-BA38F9CE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C7D5-98BB-4103-87EF-EF11AD88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7280-C0E8-4608-AD37-3DD5436F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E617-AF91-4793-AEA6-CBCD66F4CB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582B-9EA4-48F4-9D7E-37A69D32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8410-1E61-4F52-BBDA-9F995BC3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EFF7-DE19-4579-8099-CF23FEA5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5703-F1BF-46E9-9BCE-D42491AD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81DC-0EE9-482B-AF6A-942CB4A5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4AAEE-3D20-4625-8AF7-954583D1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3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6F2DA-3BD0-4B85-8E58-07876AB10ED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.3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9589E6-58DA-4E80-918C-C28E20D90A77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.3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A68022-59F5-47CA-85B9-B66A02DD0E92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35280" y="3357720"/>
            <a:ext cx="6769080" cy="3270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979640" y="549360"/>
            <a:ext cx="676908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Good morning, good morning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good morning to you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good morning, good morning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I am glad to see you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r>
              <a:rPr b="1" i="1" lang="ru-RU" sz="4400" spc="-1" strike="noStrike">
                <a:solidFill>
                  <a:srgbClr val="000000"/>
                </a:solidFill>
                <a:latin typeface="Tw Cen MT"/>
              </a:rPr>
              <a:t>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w Cen MT"/>
              </a:rPr>
              <a:t>Step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1, повторить слова (зачет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905200" y="2611440"/>
            <a:ext cx="333360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771640" y="333360"/>
            <a:ext cx="457200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</a:rPr>
              <a:t>Step41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06720" y="1800360"/>
            <a:ext cx="6462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ушай диктора. Скажи какое из двух предложений в каждой паре ты слыши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5400" y="2376360"/>
            <a:ext cx="92822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а) Jim is a good c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Jim is not a good c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a) We are from Par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We are not from Pa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а) Rose and Ben are from L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Rose and Ben are not from L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а) I am co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I am not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) Sue is a good pup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Sue is not a good pup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) а) Max and Victor are from R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Max and Victor are not from R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читайте и перевед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1728720" y="836640"/>
            <a:ext cx="685476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doll, tree, sun, frog,  granny, pig, hill, see, kid, wind,  jug, bee, desk, pen,  bed, tеnt, dad, ten, meet, bell, mug, net, belt,  sweet, queen, quilt, car, star, door, floor, horse, good, bad, sad, grandad, chimp, shop,  match, cherry, chick, bench, ship, fish, dish,  shelf, sheep,  tulip, they, hug, feed, be good, sit, sleep,  kiss, name, plate, lake, plane, cake,  stone, bone, phone, boat, coat, cold, old, pupil, cu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71280" y="-937080"/>
            <a:ext cx="65502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Oo                           Uu                                   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ɒ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]    [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ahoma"/>
              </a:rPr>
              <a:t>ǝ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ᴜ]               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]           [ϳu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 box   rose               mum      tulip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 doll   stone             jump      cut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dog    phone         bus         pupil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2) an old boat, a blue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phone, a good student, a cute cat, a black tulip, a sad pup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1" name=""/>
          <p:cNvCxnSpPr/>
          <p:nvPr/>
        </p:nvCxnSpPr>
        <p:spPr>
          <a:xfrm flipH="1" rot="16200000">
            <a:off x="2884320" y="1068840"/>
            <a:ext cx="780120" cy="578520"/>
          </a:xfrm>
          <a:prstGeom prst="bentConnector3">
            <a:avLst>
              <a:gd name="adj1" fmla="val 50000"/>
            </a:avLst>
          </a:prstGeom>
          <a:ln w="38160">
            <a:solidFill>
              <a:srgbClr val="4a7ebb"/>
            </a:solidFill>
            <a:round/>
            <a:tailEnd len="med" type="triangle" w="med"/>
          </a:ln>
        </p:spPr>
      </p:cxnSp>
      <p:cxnSp>
        <p:nvCxnSpPr>
          <p:cNvPr id="132" name=""/>
          <p:cNvCxnSpPr/>
          <p:nvPr/>
        </p:nvCxnSpPr>
        <p:spPr>
          <a:xfrm rot="5400000">
            <a:off x="2243160" y="1145160"/>
            <a:ext cx="767520" cy="438840"/>
          </a:xfrm>
          <a:prstGeom prst="bentConnector3">
            <a:avLst>
              <a:gd name="adj1" fmla="val 49929"/>
            </a:avLst>
          </a:prstGeom>
          <a:ln w="38160">
            <a:solidFill>
              <a:srgbClr val="4a7ebb"/>
            </a:solidFill>
            <a:round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6219360" y="1020240"/>
            <a:ext cx="807480" cy="651600"/>
          </a:xfrm>
          <a:prstGeom prst="bentConnector3">
            <a:avLst>
              <a:gd name="adj1" fmla="val 49955"/>
            </a:avLst>
          </a:prstGeom>
          <a:ln w="38160">
            <a:solidFill>
              <a:srgbClr val="4a7ebb"/>
            </a:solidFill>
            <a:round/>
            <a:tailEnd len="med" type="triangle" w="med"/>
          </a:ln>
        </p:spPr>
      </p:cxnSp>
      <p:cxnSp>
        <p:nvCxnSpPr>
          <p:cNvPr id="134" name=""/>
          <p:cNvCxnSpPr/>
          <p:nvPr/>
        </p:nvCxnSpPr>
        <p:spPr>
          <a:xfrm rot="5400000">
            <a:off x="5388840" y="1103040"/>
            <a:ext cx="807480" cy="486720"/>
          </a:xfrm>
          <a:prstGeom prst="bentConnector3">
            <a:avLst>
              <a:gd name="adj1" fmla="val 49955"/>
            </a:avLst>
          </a:prstGeom>
          <a:ln w="38160">
            <a:solidFill>
              <a:srgbClr val="4a7ebb"/>
            </a:solidFill>
            <a:round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читайте текст и ответьте на 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647640"/>
            <a:ext cx="7437240" cy="60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12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Pedro and Mario are not from London. Pedro is from Madrid. Mario is from Rome. Pedro is big. He is a student. He is a good student. Mario is little. He is not a pupil. Little Mario is cu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12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1200"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buClr>
                <a:srgbClr val="00b050"/>
              </a:buClr>
              <a:buSzPct val="45000"/>
              <a:buFont typeface="Calibri"/>
              <a:buAutoNum type="arabicParenR"/>
              <a:tabLst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Is Pedro from Madr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2640" indent="-511200"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buClr>
                <a:srgbClr val="00b050"/>
              </a:buClr>
              <a:buSzPct val="45000"/>
              <a:buFont typeface="Calibri"/>
              <a:buAutoNum type="arabicParenR"/>
              <a:tabLst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Is Mario  from Lond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2640" indent="-511200"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buClr>
                <a:srgbClr val="00b050"/>
              </a:buClr>
              <a:buSzPct val="45000"/>
              <a:buFont typeface="Calibri"/>
              <a:buAutoNum type="arabicParenR"/>
              <a:tabLst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Are they pupil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2640" indent="-511200"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buClr>
                <a:srgbClr val="00b050"/>
              </a:buClr>
              <a:buSzPct val="45000"/>
              <a:buFont typeface="Calibri"/>
              <a:buAutoNum type="arabicParenR"/>
              <a:tabLst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Are they from Pari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2640" indent="-511200"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buClr>
                <a:srgbClr val="00b050"/>
              </a:buClr>
              <a:buSzPct val="45000"/>
              <a:buFont typeface="Calibri"/>
              <a:buAutoNum type="arabicParenR"/>
              <a:tabLst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Is little Mario cu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2640" indent="-511200"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buClr>
                <a:srgbClr val="00b050"/>
              </a:buClr>
              <a:buSzPct val="45000"/>
              <a:buFont typeface="Calibri"/>
              <a:buAutoNum type="arabicParenR"/>
              <a:tabLst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Is Pedro bi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459480" y="1944720"/>
            <a:ext cx="2397240" cy="25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607000" y="4289400"/>
            <a:ext cx="209700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читай предложения и замени подчеркнутые слова местоимен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1268280"/>
            <a:ext cx="7344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2640" indent="-511200"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buClr>
                <a:srgbClr val="00b050"/>
              </a:buClr>
              <a:buSzPct val="45000"/>
              <a:buFont typeface="Calibri"/>
              <a:buAutoNum type="arabicParenR"/>
              <a:tabLst>
                <a:tab algn="l" pos="51264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9644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Tim and Nicola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are from Pa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1200"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buClr>
                <a:srgbClr val="00b050"/>
              </a:buClr>
              <a:buSzPct val="45000"/>
              <a:buFont typeface="Calibri"/>
              <a:buAutoNum type="arabicParenR"/>
              <a:tabLst>
                <a:tab algn="l" pos="51264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9644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Jane and I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are not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1200"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buClr>
                <a:srgbClr val="00b050"/>
              </a:buClr>
              <a:buSzPct val="45000"/>
              <a:buFont typeface="Calibri"/>
              <a:buAutoNum type="arabicParenR"/>
              <a:tabLst>
                <a:tab algn="l" pos="51264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9644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Mark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is a good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1200"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buClr>
                <a:srgbClr val="00b050"/>
              </a:buClr>
              <a:buSzPct val="45000"/>
              <a:buFont typeface="Calibri"/>
              <a:buAutoNum type="arabicParenR"/>
              <a:tabLst>
                <a:tab algn="l" pos="51264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9644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Bes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is a qu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1200"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buClr>
                <a:srgbClr val="00b050"/>
              </a:buClr>
              <a:buSzPct val="45000"/>
              <a:buFont typeface="Calibri"/>
              <a:buAutoNum type="arabicParenR"/>
              <a:tabLst>
                <a:tab algn="l" pos="51264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9644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Ann and I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are not from Bos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1200"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buClr>
                <a:srgbClr val="00b050"/>
              </a:buClr>
              <a:buSzPct val="45000"/>
              <a:buFont typeface="Calibri"/>
              <a:buAutoNum type="arabicParenR"/>
              <a:tabLst>
                <a:tab algn="l" pos="51264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9644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Ken and Don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are not from L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1200"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buClr>
                <a:srgbClr val="00b050"/>
              </a:buClr>
              <a:buSzPct val="45000"/>
              <a:buFont typeface="Calibri"/>
              <a:buAutoNum type="arabicParenR"/>
              <a:tabLst>
                <a:tab algn="l" pos="51264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9644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Fred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is not a pup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1200"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buClr>
                <a:srgbClr val="00b050"/>
              </a:buClr>
              <a:buSzPct val="45000"/>
              <a:buFont typeface="Calibri"/>
              <a:buAutoNum type="arabicParenR"/>
              <a:tabLst>
                <a:tab algn="l" pos="51264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9644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Kat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is cute and fu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1200"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buClr>
                <a:srgbClr val="00b050"/>
              </a:buClr>
              <a:buSzPct val="45000"/>
              <a:buFont typeface="Calibri"/>
              <a:buAutoNum type="arabicParenR"/>
              <a:tabLst>
                <a:tab algn="l" pos="51264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9644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 can see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a tre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51264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964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04000" y="3990960"/>
            <a:ext cx="12956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88360" y="3456000"/>
            <a:ext cx="12952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67280" y="2909880"/>
            <a:ext cx="12952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35640" y="2406600"/>
            <a:ext cx="12956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80000" y="1871640"/>
            <a:ext cx="12956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43640" y="1417680"/>
            <a:ext cx="12956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59280" y="4608360"/>
            <a:ext cx="12956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64360" y="5214960"/>
            <a:ext cx="12952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11640" y="5934240"/>
            <a:ext cx="12956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78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аботайте в парах ,узнайте ,откуда эти лю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2195640" y="907920"/>
            <a:ext cx="649116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бразец: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Where is Nicola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She is from Pa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Jane – L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Mario and Ann –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Pedro – Mad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Bill and Sam –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Clara – Bo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Mark and Jack –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Polly – Mos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Pete and Rose - Sara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тавь нужную форму глагола am/is/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1560600" y="620640"/>
            <a:ext cx="76914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They ___ from Moscow, they__ from Pa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Meggy Finn ___ a student. ___ she a good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I__ not a student, I __ a pup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We ___ from Moscow. Moscow__ big and g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___ you a cook?- No, I __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629080" cy="1809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284560" y="4608360"/>
            <a:ext cx="1904760" cy="2205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743280" y="4103640"/>
            <a:ext cx="1963800" cy="2160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572080" y="4653000"/>
            <a:ext cx="1922400" cy="2160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7284960" y="3573360"/>
            <a:ext cx="1712880" cy="2160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35280" y="720720"/>
            <a:ext cx="509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85880" y="2952720"/>
            <a:ext cx="50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16000" y="3468600"/>
            <a:ext cx="50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3520" y="720720"/>
            <a:ext cx="509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43280" y="1309680"/>
            <a:ext cx="50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75280" y="1295280"/>
            <a:ext cx="50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87640" y="2303640"/>
            <a:ext cx="509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24360" y="2303640"/>
            <a:ext cx="509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73880" y="2892600"/>
            <a:ext cx="509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4720" y="3527280"/>
            <a:ext cx="50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0"/>
            <a:ext cx="814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Оцени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857240"/>
            <a:ext cx="1295280" cy="4380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2209680"/>
            <a:ext cx="914400" cy="914400"/>
          </a:xfrm>
          <a:prstGeom prst="smileyFace">
            <a:avLst>
              <a:gd name="adj" fmla="val 4653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640" y="3673440"/>
            <a:ext cx="914400" cy="914400"/>
          </a:xfrm>
          <a:prstGeom prst="smileyFace">
            <a:avLst>
              <a:gd name="adj" fmla="val 4653"/>
            </a:avLst>
          </a:prstGeom>
          <a:solidFill>
            <a:srgbClr val="558ed5"/>
          </a:solidFill>
          <a:ln w="93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5035680"/>
            <a:ext cx="914400" cy="914400"/>
          </a:xfrm>
          <a:prstGeom prst="smileyFace">
            <a:avLst>
              <a:gd name="adj" fmla="val 4653"/>
            </a:avLst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6280" y="593640"/>
            <a:ext cx="83883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берите смайлик и назовите цвет по –английски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24382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98640" y="2076480"/>
            <a:ext cx="6705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Если вам все было понятно на уро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5562720"/>
            <a:ext cx="38034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029200"/>
            <a:ext cx="65530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Если вам было понятно совсем не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920000" y="-81720"/>
            <a:ext cx="122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33560" y="3716280"/>
            <a:ext cx="6815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Если вам почти все было понятно на уро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