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4C6-416C-44EF-8FE8-DF9168B6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B40-FBBF-48E3-866B-A54EB77E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BC6-E6E0-4C12-A65D-98F16B1A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F56-9581-40E9-9235-72082428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C454-372F-4F59-9D4C-4C542DE0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E459-78F1-410F-99DA-10E61AB2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3823-3B65-4FDB-A18E-8CB8B02D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82C6-AFD1-46A3-9936-0D990E0C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4AD0-E8D5-4977-B1B9-1DE7474D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3D55-3399-47FB-9CBD-F46EA589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31B9-CBE2-463F-87A4-044725B5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5DA-4E45-4E42-8A38-FBC6CF0A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C46E-A536-45F0-9D0D-B33BFA22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7000-C055-443C-BBDE-A56BF854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168E-A6B4-403C-890A-9EF51BC1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45BF-7015-4209-9540-400A4BC3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6E5E-087E-462C-B663-A1F3C9B9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053-F080-43A7-8C99-BAAFF510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12A-C116-4D30-AC27-F3AB66B2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73F-E3AB-41D4-8CE6-3BD48FFC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10A0-53FE-41FA-8DA6-BFEE9101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398-3B45-4BEE-A473-F65B5CA6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0AD-7F4D-4379-B9E1-5F69DFBB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6CA-2C8B-42A7-A137-898C450E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E4D2-B3D1-40EB-993B-FCE8E173CB2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C17F-CD51-4C9F-9B02-941274FC2247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4"/>
          <p:cNvSpPr/>
          <p:nvPr/>
        </p:nvSpPr>
        <p:spPr>
          <a:xfrm>
            <a:off x="3465360" y="468360"/>
            <a:ext cx="178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28 мая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Прямоугольник 5"/>
          <p:cNvSpPr/>
          <p:nvPr/>
        </p:nvSpPr>
        <p:spPr>
          <a:xfrm>
            <a:off x="1042920" y="191628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00000"/>
                </a:solidFill>
                <a:latin typeface="Arial"/>
              </a:rPr>
              <a:t>ЧЕТВЕРГ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00000"/>
                </a:solidFill>
                <a:latin typeface="Arial"/>
              </a:rPr>
              <a:t>ДЕНЬ ЗАМЕЧАТЕЛЬНЫ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"/>
          <p:cNvSpPr/>
          <p:nvPr/>
        </p:nvSpPr>
        <p:spPr>
          <a:xfrm>
            <a:off x="4003560" y="2379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Утр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442800" y="777960"/>
            <a:ext cx="78012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Беседа с детьми: (См. презентацию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«Полевые цветы России»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Цель: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Познакомить с луговыми растениями (ромашкой, колокольчиком, лютик и т.д); учить называть их и узнавать по расцветке, форме листьев, цветков, стеблю; пополнять словарь за счет слов, обозначающих название растений и их признаки, воспитывать бережное отношение к растениям луг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гровая деятельность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южетно-ролевая игра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Детский сад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Дидактические игры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мино «Пушистые друзья», «Угадай знак»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Чей домик?», «Кто чья мама? Где чей листочек?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гровое упражнение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Найди игрушку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Цель: учить детей называть и определять ,где находится игрушка по отношению к другим предмета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Трудовое поруче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мощь взрослым застелить кровать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Зарядка «Утро уже просыпайся и новому дню улыбайся №4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" descr=""/>
          <p:cNvPicPr/>
          <p:nvPr/>
        </p:nvPicPr>
        <p:blipFill>
          <a:blip r:embed="rId2"/>
          <a:stretch/>
        </p:blipFill>
        <p:spPr>
          <a:xfrm>
            <a:off x="979560" y="476280"/>
            <a:ext cx="7169040" cy="74916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2"/>
          <p:cNvSpPr/>
          <p:nvPr/>
        </p:nvSpPr>
        <p:spPr>
          <a:xfrm>
            <a:off x="444600" y="1521000"/>
            <a:ext cx="785952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Музыкальное развитие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м. рекомендации музыкального руководител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азвитие речи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«Повторение стихотворений. Заучивание стихотворения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И. Белоусова «Весенняя гостья»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Помочь детям вспомнить стихи, которые они учили в течении года; запомнить новое стихотворени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Чтение художественной литературы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Й. Чапек «Кукла Яринка » (из книги «Приключения песика и кошечки») пер, с чешск . Г.Лукина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учивание «Огуречик, огуречик....»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казка: «Гуси-лебеди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2" descr=""/>
          <p:cNvPicPr/>
          <p:nvPr/>
        </p:nvPicPr>
        <p:blipFill>
          <a:blip r:embed="rId2"/>
          <a:stretch/>
        </p:blipFill>
        <p:spPr>
          <a:xfrm>
            <a:off x="1619280" y="476280"/>
            <a:ext cx="5638680" cy="117792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2"/>
          <p:cNvSpPr/>
          <p:nvPr/>
        </p:nvSpPr>
        <p:spPr>
          <a:xfrm>
            <a:off x="442800" y="1922400"/>
            <a:ext cx="78012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аблюдение «Ива и береза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учить детей видеть отличительные особенности и черты сходства деревьев, отвечать на вопросы взрослого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активизировать в речи детей названия частей дерев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Прямоугольник 5"/>
          <p:cNvSpPr/>
          <p:nvPr/>
        </p:nvSpPr>
        <p:spPr>
          <a:xfrm>
            <a:off x="538200" y="3699000"/>
            <a:ext cx="78008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абота перед сном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К. Чуковский «Муха-цокотуха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" descr=""/>
          <p:cNvPicPr/>
          <p:nvPr/>
        </p:nvPicPr>
        <p:blipFill>
          <a:blip r:embed="rId2"/>
          <a:stretch/>
        </p:blipFill>
        <p:spPr>
          <a:xfrm>
            <a:off x="2117880" y="528480"/>
            <a:ext cx="4908240" cy="74952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2"/>
          <p:cNvSpPr/>
          <p:nvPr/>
        </p:nvSpPr>
        <p:spPr>
          <a:xfrm>
            <a:off x="442800" y="1433520"/>
            <a:ext cx="78012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Игровая деятельность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гры со строительным материалом «Домик»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Учить составлять из нескольких частей, соблюдая определенную последовательность. Закреплять знание геометрических фигур (квадрат, прямоугольник, треугольник)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стольные игры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Пушистые друзья», «Чей домик?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южетно-ролевые игры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Семья», «Транспорт»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Трудовое поручение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брать игрушки после игры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гровое упражнение: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продолжать с детьми отрабатывать четкое произношение звука [ц]; упражнять в умении вести диалог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абота перед сном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ссказ в стихах А Крылов «Неприятный случай»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8T13:58:58Z</dcterms:created>
  <dc:creator>PC</dc:creator>
  <dc:description/>
  <dc:language>en-US</dc:language>
  <cp:lastModifiedBy>user</cp:lastModifiedBy>
  <dcterms:modified xsi:type="dcterms:W3CDTF">2020-05-26T05:21:00Z</dcterms:modified>
  <cp:revision>19</cp:revision>
  <dc:subject/>
  <dc:title>Слайд 1</dc:title>
</cp:coreProperties>
</file>