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C674D-C985-4CF0-8DFD-C3E1711C65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A21A2-4AD9-48A4-957B-A30E987F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EAD58-A7DB-49EF-AD7C-35699E5A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D7D1F-01FF-4476-8510-B921882559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4EC9A-2FF5-4B9E-BE59-F10DABA3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2C748-E1CB-48A9-A410-628D5949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6D107-4457-42D6-8231-8E38DC06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7E293-E0AD-4793-B1EF-397C4040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1E560-2489-499D-AF95-51561860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9A353-D540-43BF-961A-890B9411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949F4-DD01-4F03-9AA7-0B597754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14A62-21B3-4969-9970-C2496D4C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FB745-2C27-41E0-AA97-3957F41DD19E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Users\Сергей\Desktop\фото.работа\20200219_103806.jpg"/>
          <p:cNvPicPr/>
          <p:nvPr/>
        </p:nvPicPr>
        <p:blipFill>
          <a:blip r:embed="rId2"/>
          <a:stretch/>
        </p:blipFill>
        <p:spPr>
          <a:xfrm>
            <a:off x="5435640" y="1484280"/>
            <a:ext cx="3308400" cy="4608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"/>
          <p:cNvSpPr/>
          <p:nvPr/>
        </p:nvSpPr>
        <p:spPr>
          <a:xfrm>
            <a:off x="179280" y="14292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216000" y="228600"/>
            <a:ext cx="8712000" cy="64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22400" y="-20520"/>
            <a:ext cx="8805600" cy="67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</a:rPr>
              <a:t>При разработке содержания работы с родителями воспитанников  Мы придерживаемся ряда принципов, которые позволяют более последовательно реализовывать содержание  и методику совместной работы с семье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</a:rPr>
              <a:t>Соблюдение  принципов позволяет нам приобщить родителей к активно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</a:rPr>
              <a:t>работе по физическому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</a:rPr>
              <a:t>воспитанию детей, пополнит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</a:rPr>
              <a:t>их знания об особенностя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</a:rPr>
              <a:t>использования профилактически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</a:rPr>
              <a:t>и коррекционных физически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</a:rPr>
              <a:t>упражнений, подвижных 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</a:rPr>
              <a:t>спортивных игр,  а также помогает в создании условий для развития двигательных навыков ребенка дома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68580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инципы совместной работы ДОУ и семь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214200" y="1785960"/>
            <a:ext cx="4997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buClr>
                <a:srgbClr val="002060"/>
              </a:buClr>
              <a:buFont typeface="Wingdings" charset="2"/>
              <a:buChar char="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добровольн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buClr>
                <a:srgbClr val="002060"/>
              </a:buClr>
              <a:buFont typeface="Wingdings" charset="2"/>
              <a:buChar char="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компетент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buClr>
                <a:srgbClr val="002060"/>
              </a:buClr>
              <a:buFont typeface="Wingdings" charset="2"/>
              <a:buChar char="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соврем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buClr>
                <a:srgbClr val="002060"/>
              </a:buClr>
              <a:buFont typeface="Wingdings" charset="2"/>
              <a:buChar char="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единст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системности  и последова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buClr>
                <a:srgbClr val="002060"/>
              </a:buClr>
              <a:buFont typeface="Wingdings" charset="2"/>
              <a:buChar char="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емственность и индивидуальны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подход к каждом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ребенку и кажд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сем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C:\Users\Сергей\Desktop\фото.работа\20190912_174416.jpg"/>
          <p:cNvPicPr/>
          <p:nvPr/>
        </p:nvPicPr>
        <p:blipFill>
          <a:blip r:embed="rId2"/>
          <a:stretch/>
        </p:blipFill>
        <p:spPr>
          <a:xfrm>
            <a:off x="3851280" y="2060640"/>
            <a:ext cx="529272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Сергей\Desktop\фото.работа\IMG-20200221-WA0023.jpg"/>
          <p:cNvPicPr/>
          <p:nvPr/>
        </p:nvPicPr>
        <p:blipFill>
          <a:blip r:embed="rId1"/>
          <a:stretch/>
        </p:blipFill>
        <p:spPr>
          <a:xfrm>
            <a:off x="4427640" y="1341360"/>
            <a:ext cx="4500360" cy="4464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Сергей\Desktop\фото.работа\IMG-20200221-WA0025.jpg"/>
          <p:cNvPicPr/>
          <p:nvPr/>
        </p:nvPicPr>
        <p:blipFill>
          <a:blip r:embed="rId2"/>
          <a:stretch/>
        </p:blipFill>
        <p:spPr>
          <a:xfrm>
            <a:off x="250920" y="333360"/>
            <a:ext cx="367344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Сергей\Desktop\фото.работа\IMG-20200221-WA0020.jpg"/>
          <p:cNvPicPr/>
          <p:nvPr/>
        </p:nvPicPr>
        <p:blipFill>
          <a:blip r:embed="rId1"/>
          <a:stretch/>
        </p:blipFill>
        <p:spPr>
          <a:xfrm>
            <a:off x="0" y="0"/>
            <a:ext cx="2916360" cy="676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Сергей\Desktop\фото.работа\20200219_105113.jpg"/>
          <p:cNvPicPr/>
          <p:nvPr/>
        </p:nvPicPr>
        <p:blipFill>
          <a:blip r:embed="rId2"/>
          <a:stretch/>
        </p:blipFill>
        <p:spPr>
          <a:xfrm>
            <a:off x="5940360" y="0"/>
            <a:ext cx="2952720" cy="6769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Сергей\Desktop\фото.работа\20200219_103815.jpg"/>
          <p:cNvPicPr/>
          <p:nvPr/>
        </p:nvPicPr>
        <p:blipFill>
          <a:blip r:embed="rId3"/>
          <a:stretch/>
        </p:blipFill>
        <p:spPr>
          <a:xfrm>
            <a:off x="3059280" y="836640"/>
            <a:ext cx="280800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EXEY</dc:creator>
  <dc:description/>
  <dc:language>en-US</dc:language>
  <cp:lastModifiedBy>Сергей</cp:lastModifiedBy>
  <dcterms:modified xsi:type="dcterms:W3CDTF">2020-05-28T11:41:09Z</dcterms:modified>
  <cp:revision>59</cp:revision>
  <dc:subject/>
  <dc:title>Презентация PowerPoint</dc:title>
</cp:coreProperties>
</file>