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BB0CE-6AC8-4696-83FC-6758364F06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5D808-D0E3-44A3-B9F8-2ECA001F53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65C1D-A0FA-40E7-89D4-C657155A18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A352A-6F8C-4E4E-A41A-30BC897192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2D00D-E740-4D78-B97E-5A4C2F1823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FD1D2-8A84-4010-A488-5D8B64FD3C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FAED8-EE8C-43CF-8183-2635B7000F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8E27A-F25E-4810-A2ED-A1CC6363C4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3F631-AA64-4F73-82B0-7B9BC5774F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D2D40-5627-4D29-9E88-094E047BF5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C6A5A-E3D2-4DC4-AF5C-AFB323D462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25B85-A73D-4231-A8A8-385486C659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8AF7E-87B9-4171-9DA6-ADF62B43B5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344-AE83-4523-839F-83EF8E97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2F9-85EA-4F91-B04E-A855C37E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EAB-2392-4FDC-AB48-78574C5C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0A5-4CF5-42B0-8E74-753E31CA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3BE2-5F4F-41D3-AF3B-57DD14FA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B835-A0EB-4EBE-9048-7580DF46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9892-61A7-4552-8729-CC55B1BB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85D4-7E9B-48C3-9384-804A4D58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DEA6-A874-4FFD-AD51-4F66C465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159D-2017-484F-ACAE-F83CF24B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E661-B43C-4229-BBC1-A184DF4B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F68-0949-4B17-B1B8-90EF58CF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9065-5C24-447B-A0AE-D7B1319C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849F-C119-4540-868C-9916386F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71F1-20C0-4F46-AD6F-B7E30C81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AFDD-AD4E-4550-954C-CA5D49EE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0460-1A3B-4263-BCA3-2B43B923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A0E-2BC3-4EF8-A47C-CD818194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5DD-7FFF-4701-B9C5-FB9E08C9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3C3-FAD3-42E1-A330-A6FAABF8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811-E9EC-4501-A806-B321DDB1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24B-599F-4E31-8BA4-AA7773CA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267-3EEE-4421-9150-92242A5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CBE-8D4B-4C50-9A2C-DCB205AA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6D3EBF-33C8-4DED-883F-0799AB14B5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DE18BA-33EA-41FE-A56B-2C50CFF7B20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"/>
          <p:cNvSpPr txBox="1"/>
          <p:nvPr/>
        </p:nvSpPr>
        <p:spPr>
          <a:xfrm>
            <a:off x="1042920" y="765000"/>
            <a:ext cx="6913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 Амфиби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2"/>
          <p:cNvSpPr txBox="1"/>
          <p:nvPr/>
        </p:nvSpPr>
        <p:spPr>
          <a:xfrm>
            <a:off x="3708360" y="1700280"/>
            <a:ext cx="208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ем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611280" y="2565360"/>
            <a:ext cx="7705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Умножение и де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826920" y="4292640"/>
            <a:ext cx="749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ыкновенных дробе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60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7.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 погоне за насекомыми лягушка</a:t>
            </a: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ролетела 12 метров</a:t>
            </a: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.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 какой высоты спрыгнула летающая</a:t>
            </a: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лягушка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5534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1692360" y="1628640"/>
            <a:ext cx="5327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 м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№ 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8. </a:t>
            </a: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Какое количество икринок размещают в гнезде из пенистых пузырьков веслоногие лягушки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йдите значение выражения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3233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785880" y="2857680"/>
                <a:ext cx="7858080" cy="17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WordArt 5"/>
          <p:cNvSpPr txBox="1"/>
          <p:nvPr/>
        </p:nvSpPr>
        <p:spPr>
          <a:xfrm>
            <a:off x="1000080" y="4929120"/>
            <a:ext cx="727380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 икрино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1. Найдите значение выраж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3233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214200" y="1738440"/>
                <a:ext cx="25718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214200" y="3000240"/>
                <a:ext cx="2571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7"/>
              <p:cNvSpPr txBox="1"/>
              <p:nvPr/>
            </p:nvSpPr>
            <p:spPr>
              <a:xfrm>
                <a:off x="214200" y="4149720"/>
                <a:ext cx="2571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3143160" y="1928880"/>
                <a:ext cx="2214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9"/>
              <p:cNvSpPr txBox="1"/>
              <p:nvPr/>
            </p:nvSpPr>
            <p:spPr>
              <a:xfrm>
                <a:off x="3143160" y="3143160"/>
                <a:ext cx="22147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0,5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0"/>
              <p:cNvSpPr txBox="1"/>
              <p:nvPr/>
            </p:nvSpPr>
            <p:spPr>
              <a:xfrm>
                <a:off x="3143160" y="4500720"/>
                <a:ext cx="22320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214200" y="5500800"/>
                <a:ext cx="2571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Rectangle 12"/>
          <p:cNvSpPr/>
          <p:nvPr/>
        </p:nvSpPr>
        <p:spPr>
          <a:xfrm>
            <a:off x="7667640" y="177192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7  (А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0" y="245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0" y="30384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0" y="3429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360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0" y="4210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8244000" y="22334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6300720" y="17719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  (М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0" y="30812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1"/>
              <p:cNvSpPr txBox="1"/>
              <p:nvPr/>
            </p:nvSpPr>
            <p:spPr>
              <a:xfrm>
                <a:off x="6300720" y="2565360"/>
                <a:ext cx="358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22"/>
          <p:cNvSpPr/>
          <p:nvPr/>
        </p:nvSpPr>
        <p:spPr>
          <a:xfrm>
            <a:off x="6588000" y="2703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И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0" y="3068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4"/>
              <p:cNvSpPr txBox="1"/>
              <p:nvPr/>
            </p:nvSpPr>
            <p:spPr>
              <a:xfrm>
                <a:off x="7596360" y="2565360"/>
                <a:ext cx="576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25"/>
          <p:cNvSpPr/>
          <p:nvPr/>
        </p:nvSpPr>
        <p:spPr>
          <a:xfrm>
            <a:off x="8101080" y="27068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И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6372360" y="3576600"/>
            <a:ext cx="118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4   (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7768800" y="35722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45  (Ф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7885080" y="4332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 (Б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29"/>
          <p:cNvSpPr txBox="1"/>
          <p:nvPr/>
        </p:nvSpPr>
        <p:spPr>
          <a:xfrm>
            <a:off x="4286160" y="5929200"/>
            <a:ext cx="4287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30"/>
          <p:cNvSpPr txBox="1"/>
          <p:nvPr/>
        </p:nvSpPr>
        <p:spPr>
          <a:xfrm>
            <a:off x="5000760" y="5929200"/>
            <a:ext cx="4284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31"/>
          <p:cNvSpPr txBox="1"/>
          <p:nvPr/>
        </p:nvSpPr>
        <p:spPr>
          <a:xfrm>
            <a:off x="5643720" y="5857920"/>
            <a:ext cx="500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53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WordArt 32"/>
          <p:cNvSpPr txBox="1"/>
          <p:nvPr/>
        </p:nvSpPr>
        <p:spPr>
          <a:xfrm>
            <a:off x="6357960" y="5857920"/>
            <a:ext cx="4287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33"/>
          <p:cNvSpPr txBox="1"/>
          <p:nvPr/>
        </p:nvSpPr>
        <p:spPr>
          <a:xfrm>
            <a:off x="7072200" y="5857920"/>
            <a:ext cx="4287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34"/>
          <p:cNvSpPr txBox="1"/>
          <p:nvPr/>
        </p:nvSpPr>
        <p:spPr>
          <a:xfrm>
            <a:off x="7786800" y="5857920"/>
            <a:ext cx="4111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35"/>
          <p:cNvSpPr txBox="1"/>
          <p:nvPr/>
        </p:nvSpPr>
        <p:spPr>
          <a:xfrm>
            <a:off x="8429760" y="5857920"/>
            <a:ext cx="406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2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а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Найдите правило, по которому составлена таблица, впишите пропущенные числа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4071960" y="2643120"/>
                <a:ext cx="714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357200" y="3786120"/>
                <a:ext cx="8827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4071960" y="3786120"/>
                <a:ext cx="714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0" y="2457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2457360"/>
            <a:ext cx="19717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2457360"/>
            <a:ext cx="19717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2457360"/>
            <a:ext cx="19717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324000" y="4221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11"/>
          <p:cNvGrpSpPr/>
          <p:nvPr/>
        </p:nvGrpSpPr>
        <p:grpSpPr>
          <a:xfrm>
            <a:off x="500040" y="2500200"/>
            <a:ext cx="7991280" cy="3527280"/>
            <a:chOff x="500040" y="2500200"/>
            <a:chExt cx="7991280" cy="3527280"/>
          </a:xfrm>
        </p:grpSpPr>
        <p:sp>
          <p:nvSpPr>
            <p:cNvPr id="137" name="Rectangle 12"/>
            <p:cNvSpPr/>
            <p:nvPr/>
          </p:nvSpPr>
          <p:spPr>
            <a:xfrm>
              <a:off x="5825880" y="4850640"/>
              <a:ext cx="2663640" cy="11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3163680" y="4850640"/>
              <a:ext cx="2662200" cy="11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500040" y="4850640"/>
              <a:ext cx="2663640" cy="11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825880" y="3675600"/>
              <a:ext cx="266364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3163680" y="3675600"/>
              <a:ext cx="266220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7"/>
            <p:cNvSpPr/>
            <p:nvPr/>
          </p:nvSpPr>
          <p:spPr>
            <a:xfrm>
              <a:off x="500040" y="3675600"/>
              <a:ext cx="266364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8"/>
            <p:cNvSpPr/>
            <p:nvPr/>
          </p:nvSpPr>
          <p:spPr>
            <a:xfrm>
              <a:off x="5825880" y="2500200"/>
              <a:ext cx="2663640" cy="11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3163680" y="2500200"/>
              <a:ext cx="2662200" cy="11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500040" y="2500200"/>
              <a:ext cx="2663640" cy="11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>
              <a:off x="500040" y="2500200"/>
              <a:ext cx="79898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22"/>
            <p:cNvSpPr/>
            <p:nvPr/>
          </p:nvSpPr>
          <p:spPr>
            <a:xfrm>
              <a:off x="500040" y="3675600"/>
              <a:ext cx="7989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500040" y="4850640"/>
              <a:ext cx="7989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500040" y="6026400"/>
              <a:ext cx="79898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25"/>
            <p:cNvSpPr/>
            <p:nvPr/>
          </p:nvSpPr>
          <p:spPr>
            <a:xfrm>
              <a:off x="500040" y="2500200"/>
              <a:ext cx="1080" cy="3526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26"/>
            <p:cNvSpPr/>
            <p:nvPr/>
          </p:nvSpPr>
          <p:spPr>
            <a:xfrm>
              <a:off x="3163680" y="2500200"/>
              <a:ext cx="1440" cy="352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5825880" y="2500200"/>
              <a:ext cx="1080" cy="352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28"/>
            <p:cNvSpPr/>
            <p:nvPr/>
          </p:nvSpPr>
          <p:spPr>
            <a:xfrm>
              <a:off x="8489880" y="2500200"/>
              <a:ext cx="1440" cy="3526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Rectangle 29"/>
          <p:cNvSpPr/>
          <p:nvPr/>
        </p:nvSpPr>
        <p:spPr>
          <a:xfrm>
            <a:off x="0" y="3233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0"/>
              <p:cNvSpPr txBox="1"/>
              <p:nvPr/>
            </p:nvSpPr>
            <p:spPr>
              <a:xfrm>
                <a:off x="6786720" y="4929120"/>
                <a:ext cx="1143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7260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б)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умму найденных чисел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меньшите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 в        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раз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5286240" y="1143000"/>
                <a:ext cx="11527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WordArt 5"/>
          <p:cNvSpPr txBox="1"/>
          <p:nvPr/>
        </p:nvSpPr>
        <p:spPr>
          <a:xfrm>
            <a:off x="785880" y="3357720"/>
            <a:ext cx="7561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00 млн. лет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6249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3. </a:t>
            </a: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Вместо * поставьте пропущенное число и узна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й</a:t>
            </a: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те название самой крупной лягушки, которая живет в африканской республике Камерун.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2700360" y="2924280"/>
                <a:ext cx="1584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539640" y="2924280"/>
                <a:ext cx="1368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/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4932360" y="2928960"/>
                <a:ext cx="15112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539640" y="4221000"/>
                <a:ext cx="12970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/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2714760" y="4214880"/>
                <a:ext cx="15843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4873680" y="4186080"/>
                <a:ext cx="15573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Rectangle 8"/>
          <p:cNvSpPr/>
          <p:nvPr/>
        </p:nvSpPr>
        <p:spPr>
          <a:xfrm>
            <a:off x="0" y="5943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659640" y="32418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5(О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7806600" y="320832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9 (Г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6659640" y="407664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21  (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7758000" y="4792320"/>
            <a:ext cx="135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0  (И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571080" y="4793040"/>
            <a:ext cx="11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8  (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7968600" y="407664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 (Ф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WordArt 15"/>
          <p:cNvSpPr txBox="1"/>
          <p:nvPr/>
        </p:nvSpPr>
        <p:spPr>
          <a:xfrm>
            <a:off x="684360" y="5643720"/>
            <a:ext cx="50292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6"/>
          <p:cNvSpPr txBox="1"/>
          <p:nvPr/>
        </p:nvSpPr>
        <p:spPr>
          <a:xfrm>
            <a:off x="1476360" y="5643720"/>
            <a:ext cx="64764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7"/>
          <p:cNvSpPr txBox="1"/>
          <p:nvPr/>
        </p:nvSpPr>
        <p:spPr>
          <a:xfrm>
            <a:off x="2411280" y="5643720"/>
            <a:ext cx="57636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8"/>
          <p:cNvSpPr txBox="1"/>
          <p:nvPr/>
        </p:nvSpPr>
        <p:spPr>
          <a:xfrm>
            <a:off x="3348000" y="5643720"/>
            <a:ext cx="57636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WordArt 19"/>
          <p:cNvSpPr txBox="1"/>
          <p:nvPr/>
        </p:nvSpPr>
        <p:spPr>
          <a:xfrm>
            <a:off x="4284720" y="5643720"/>
            <a:ext cx="57456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WordArt 20"/>
          <p:cNvSpPr txBox="1"/>
          <p:nvPr/>
        </p:nvSpPr>
        <p:spPr>
          <a:xfrm>
            <a:off x="5148360" y="5572080"/>
            <a:ext cx="7189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57120" y="259920"/>
            <a:ext cx="787248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шите уравн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68360" y="100008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4. Какова длина (см) лягушки голиаф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4173480" y="2286000"/>
            <a:ext cx="4756320" cy="43578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0" y="3233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142920" y="2371680"/>
                <a:ext cx="38577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х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Rectangle 6"/>
          <p:cNvSpPr/>
          <p:nvPr/>
        </p:nvSpPr>
        <p:spPr>
          <a:xfrm>
            <a:off x="0" y="36241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250920" y="4929120"/>
            <a:ext cx="360036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3 с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5. Определите массу (кг) лягушки - голиаф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3233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900000" y="2060640"/>
                <a:ext cx="69580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WordArt 5"/>
          <p:cNvSpPr txBox="1"/>
          <p:nvPr/>
        </p:nvSpPr>
        <p:spPr>
          <a:xfrm>
            <a:off x="1332000" y="429264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5 кг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6.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Найдите длину (см) тела карликовой лягушки, если ее  длина тела составляет      длины тела лягушки -  голиаф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500120" y="2708280"/>
            <a:ext cx="6357960" cy="38894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4643280" y="1428840"/>
                <a:ext cx="584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1"/>
          <p:cNvSpPr txBox="1"/>
          <p:nvPr/>
        </p:nvSpPr>
        <p:spPr>
          <a:xfrm>
            <a:off x="2700360" y="1916280"/>
            <a:ext cx="374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с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МОУ СОШ №44</cp:lastModifiedBy>
  <dcterms:modified xsi:type="dcterms:W3CDTF">2009-12-17T06:56:46Z</dcterms:modified>
  <cp:revision>22</cp:revision>
  <dc:subject/>
  <dc:title>Слайд 1</dc:title>
</cp:coreProperties>
</file>