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34E-1D21-4DCB-87C9-41D54DA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158-A2AF-4FAC-AF58-AD6564A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D5C-A27B-45FE-B70B-CC519785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7C3-320F-46F5-BEF0-EC05F9BD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762-FF01-4666-8C4F-08C21EFE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108-6C57-4AA9-9F10-B8BD08FB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47F-F2F2-445D-AD57-6D8672E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69C-6F82-4337-A423-0303846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E0C-849F-4E56-8F6D-AA2E3A30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05E-4636-494E-A085-4E0E1B2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E3B-AF3A-4B16-A8D7-C92FE89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FC5-FE0B-433A-982E-CE68B69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4F4-033A-422D-9786-D50B35E05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25676" r="0" b="0"/>
          <a:stretch/>
        </p:blipFill>
        <p:spPr>
          <a:xfrm>
            <a:off x="228600" y="228600"/>
            <a:ext cx="86868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75438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760320"/>
            <a:ext cx="9296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89218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202680" cy="353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rcRect l="0" t="0" r="0" b="63715"/>
          <a:stretch/>
        </p:blipFill>
        <p:spPr>
          <a:xfrm>
            <a:off x="457200" y="4038480"/>
            <a:ext cx="8686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0" t="0" r="0" b="17619"/>
          <a:stretch/>
        </p:blipFill>
        <p:spPr>
          <a:xfrm>
            <a:off x="371520" y="0"/>
            <a:ext cx="877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82386" r="0" b="0"/>
          <a:stretch/>
        </p:blipFill>
        <p:spPr>
          <a:xfrm>
            <a:off x="0" y="0"/>
            <a:ext cx="9144000" cy="1409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rcRect l="0" t="0" r="0" b="46319"/>
          <a:stretch/>
        </p:blipFill>
        <p:spPr>
          <a:xfrm>
            <a:off x="0" y="13716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53686" r="0" b="0"/>
          <a:stretch/>
        </p:blipFill>
        <p:spPr>
          <a:xfrm>
            <a:off x="0" y="990720"/>
            <a:ext cx="91440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633240"/>
            <a:ext cx="9144000" cy="55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7:28:52Z</dcterms:created>
  <dc:creator>Игорь Столяров</dc:creator>
  <dc:description/>
  <dc:language>en-US</dc:language>
  <cp:lastModifiedBy>Игорь Столяров</cp:lastModifiedBy>
  <dcterms:modified xsi:type="dcterms:W3CDTF">2020-05-29T15:30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