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85B-5E47-4C3C-A7F0-8900F90F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E9D-210B-46E0-99D5-BA6F4C0E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BD2B-8863-4CF0-9D76-15C95A30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2342-9904-4511-B3A4-35F319D8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9A8C-E1A4-4045-9B1D-428AFCBE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FC44-C0DD-49A6-BBBE-655AB9C5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CD03-D78E-443E-8E8C-094553C1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CF74-AF5C-4CC3-A1EB-7012E05F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A60-C37F-4099-9438-89B18B78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94A-3174-46A6-A4EE-2A67BE08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368-2683-4D03-ACA1-4A9A3015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85E9-C495-45A8-9C9A-D2DC97FF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F079-3CC4-4F59-B681-886B243FCC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Игорь\Desktop\ПРОЧЕЕ\Новый рисунок.jpg"/>
          <p:cNvPicPr/>
          <p:nvPr/>
        </p:nvPicPr>
        <p:blipFill>
          <a:blip r:embed="rId1"/>
          <a:stretch/>
        </p:blipFill>
        <p:spPr>
          <a:xfrm>
            <a:off x="457200" y="304920"/>
            <a:ext cx="8001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Игорь\Desktop\ПРОЧЕЕ\Новый рисунок (1).jpg"/>
          <p:cNvPicPr/>
          <p:nvPr/>
        </p:nvPicPr>
        <p:blipFill>
          <a:blip r:embed="rId1"/>
          <a:stretch/>
        </p:blipFill>
        <p:spPr>
          <a:xfrm>
            <a:off x="204840" y="304920"/>
            <a:ext cx="8939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Игорь\Desktop\ПРОЧЕЕ\Новый рисунок (2).jpg"/>
          <p:cNvPicPr/>
          <p:nvPr/>
        </p:nvPicPr>
        <p:blipFill>
          <a:blip r:embed="rId1"/>
          <a:stretch/>
        </p:blipFill>
        <p:spPr>
          <a:xfrm>
            <a:off x="460440" y="762120"/>
            <a:ext cx="8226360" cy="55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57040" y="25560"/>
            <a:ext cx="862812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609480" y="372960"/>
            <a:ext cx="8078760" cy="64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11040" y="654120"/>
            <a:ext cx="852192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0" t="0" r="0" b="45587"/>
          <a:stretch/>
        </p:blipFill>
        <p:spPr>
          <a:xfrm>
            <a:off x="0" y="0"/>
            <a:ext cx="880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52602" r="0" b="0"/>
          <a:stretch/>
        </p:blipFill>
        <p:spPr>
          <a:xfrm>
            <a:off x="0" y="380880"/>
            <a:ext cx="880740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0556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9T17:28:52Z</dcterms:created>
  <dc:creator>Игорь Столяров</dc:creator>
  <dc:description/>
  <dc:language>en-US</dc:language>
  <cp:lastModifiedBy>Игорь Столяров</cp:lastModifiedBy>
  <dcterms:modified xsi:type="dcterms:W3CDTF">2020-05-29T15:43:2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