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C63-28D6-44A3-B218-6115C2BD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6E7-E937-4CCF-BE28-2FE1B229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DBB-51BE-4AC5-BBBA-E7EBA946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534-0BD9-4C3A-91F9-F1BB8A05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327-C2A7-4B90-8961-32A2569D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538-BB57-4727-B0D5-2443D626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13B-0509-44EB-9227-F5AE481A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637-AABB-4979-B633-D79418F8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846-C6BF-49C0-BC59-2C32D8CF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D6A-8FAE-4267-A284-FA3FB89F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FA4-9FF1-42D3-8968-EC73B4E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AD1-5D18-4C71-95BF-9199164C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5E4B-799C-465E-BF77-755BAF755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834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0" b="43045"/>
          <a:stretch/>
        </p:blipFill>
        <p:spPr>
          <a:xfrm>
            <a:off x="685800" y="0"/>
            <a:ext cx="8153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0" t="56958" r="0" b="0"/>
          <a:stretch/>
        </p:blipFill>
        <p:spPr>
          <a:xfrm>
            <a:off x="0" y="914400"/>
            <a:ext cx="88074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6837" t="0" r="0" b="0"/>
          <a:stretch/>
        </p:blipFill>
        <p:spPr>
          <a:xfrm>
            <a:off x="457200" y="838080"/>
            <a:ext cx="8305920" cy="326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199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31760" y="47520"/>
            <a:ext cx="88804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7040" y="479520"/>
            <a:ext cx="86281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2680" y="996840"/>
            <a:ext cx="837720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42800" y="838080"/>
            <a:ext cx="87012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9960" y="747720"/>
            <a:ext cx="83422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85564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7040" y="426960"/>
            <a:ext cx="86281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9T17:28:52Z</dcterms:created>
  <dc:creator>Игорь Столяров</dc:creator>
  <dc:description/>
  <dc:language>en-US</dc:language>
  <cp:lastModifiedBy>Игорь Столяров</cp:lastModifiedBy>
  <dcterms:modified xsi:type="dcterms:W3CDTF">2020-05-29T15:37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