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24.jpeg" ContentType="image/jpeg"/>
  <Override PartName="/ppt/media/image14.png" ContentType="image/png"/>
  <Override PartName="/ppt/media/image17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12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ru-RU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48"/>
              </a:spcBef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0AD9C1E-81E7-43C3-A3F3-ED7255CC1C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48"/>
              </a:spcBef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FD16D7D-DB0D-45AF-AB0A-EFA51A446F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A53D8-2AD0-4E87-90CA-C18DB6B76F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364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200" y="1825560"/>
            <a:ext cx="788364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lnSpc>
                <a:spcPct val="90000"/>
              </a:lnSpc>
              <a:spcBef>
                <a:spcPts val="748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200" y="3952440"/>
            <a:ext cx="788364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lnSpc>
                <a:spcPct val="90000"/>
              </a:lnSpc>
              <a:spcBef>
                <a:spcPts val="748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A628D-24AB-4EC9-AF04-686BE0CB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364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200" y="1825560"/>
            <a:ext cx="384696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lnSpc>
                <a:spcPct val="90000"/>
              </a:lnSpc>
              <a:spcBef>
                <a:spcPts val="748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760" y="1825560"/>
            <a:ext cx="384696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lnSpc>
                <a:spcPct val="90000"/>
              </a:lnSpc>
              <a:spcBef>
                <a:spcPts val="748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200" y="3952440"/>
            <a:ext cx="384696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lnSpc>
                <a:spcPct val="90000"/>
              </a:lnSpc>
              <a:spcBef>
                <a:spcPts val="748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760" y="3952440"/>
            <a:ext cx="384696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lnSpc>
                <a:spcPct val="90000"/>
              </a:lnSpc>
              <a:spcBef>
                <a:spcPts val="748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FA274-1A99-4653-A347-874DFBF6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364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200" y="1825560"/>
            <a:ext cx="253836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lnSpc>
                <a:spcPct val="90000"/>
              </a:lnSpc>
              <a:spcBef>
                <a:spcPts val="748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4000" y="1825560"/>
            <a:ext cx="253836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lnSpc>
                <a:spcPct val="90000"/>
              </a:lnSpc>
              <a:spcBef>
                <a:spcPts val="748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59440" y="1825560"/>
            <a:ext cx="253836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lnSpc>
                <a:spcPct val="90000"/>
              </a:lnSpc>
              <a:spcBef>
                <a:spcPts val="748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200" y="3952440"/>
            <a:ext cx="253836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lnSpc>
                <a:spcPct val="90000"/>
              </a:lnSpc>
              <a:spcBef>
                <a:spcPts val="748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4000" y="3952440"/>
            <a:ext cx="253836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lnSpc>
                <a:spcPct val="90000"/>
              </a:lnSpc>
              <a:spcBef>
                <a:spcPts val="748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59440" y="3952440"/>
            <a:ext cx="253836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lnSpc>
                <a:spcPct val="90000"/>
              </a:lnSpc>
              <a:spcBef>
                <a:spcPts val="748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94073-F25E-40E4-B799-5090C9E431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364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200" y="1825560"/>
            <a:ext cx="78836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2720" indent="0" algn="ctr">
              <a:lnSpc>
                <a:spcPct val="90000"/>
              </a:lnSpc>
              <a:spcBef>
                <a:spcPts val="748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7A3DB-8628-4599-BF4F-4C4D5C03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364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200" y="1825560"/>
            <a:ext cx="7883640" cy="40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lnSpc>
                <a:spcPct val="90000"/>
              </a:lnSpc>
              <a:spcBef>
                <a:spcPts val="748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5CCAC-5988-4ADA-B959-3065275D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364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200" y="1825560"/>
            <a:ext cx="3846960" cy="40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lnSpc>
                <a:spcPct val="90000"/>
              </a:lnSpc>
              <a:spcBef>
                <a:spcPts val="748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760" y="1825560"/>
            <a:ext cx="3846960" cy="40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lnSpc>
                <a:spcPct val="90000"/>
              </a:lnSpc>
              <a:spcBef>
                <a:spcPts val="748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C88CD-97B5-475E-B634-069D787B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364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64893-829A-4D07-834D-DE3320DA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200" y="365040"/>
            <a:ext cx="788364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2720" indent="-342720" algn="ctr">
              <a:lnSpc>
                <a:spcPct val="90000"/>
              </a:lnSpc>
              <a:spcBef>
                <a:spcPts val="748"/>
              </a:spcBef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B98B8-29BE-4AB3-ACA5-CA76271C6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364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200" y="1825560"/>
            <a:ext cx="384696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lnSpc>
                <a:spcPct val="90000"/>
              </a:lnSpc>
              <a:spcBef>
                <a:spcPts val="748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1825560"/>
            <a:ext cx="3846960" cy="40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lnSpc>
                <a:spcPct val="90000"/>
              </a:lnSpc>
              <a:spcBef>
                <a:spcPts val="748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200" y="3952440"/>
            <a:ext cx="384696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lnSpc>
                <a:spcPct val="90000"/>
              </a:lnSpc>
              <a:spcBef>
                <a:spcPts val="748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5DE2A-8FAC-4E0C-825C-9BE35750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364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200" y="1825560"/>
            <a:ext cx="3846960" cy="40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lnSpc>
                <a:spcPct val="90000"/>
              </a:lnSpc>
              <a:spcBef>
                <a:spcPts val="748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825560"/>
            <a:ext cx="384696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lnSpc>
                <a:spcPct val="90000"/>
              </a:lnSpc>
              <a:spcBef>
                <a:spcPts val="748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760" y="3952440"/>
            <a:ext cx="384696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lnSpc>
                <a:spcPct val="90000"/>
              </a:lnSpc>
              <a:spcBef>
                <a:spcPts val="748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76235-D686-4A2A-8E52-99271D0B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364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200" y="1825560"/>
            <a:ext cx="384696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lnSpc>
                <a:spcPct val="90000"/>
              </a:lnSpc>
              <a:spcBef>
                <a:spcPts val="748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1825560"/>
            <a:ext cx="384696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lnSpc>
                <a:spcPct val="90000"/>
              </a:lnSpc>
              <a:spcBef>
                <a:spcPts val="748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200" y="3952440"/>
            <a:ext cx="788364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lnSpc>
                <a:spcPct val="90000"/>
              </a:lnSpc>
              <a:spcBef>
                <a:spcPts val="748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147AA-0E0A-40D2-BE73-B704295A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364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ru-RU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200" y="1825560"/>
            <a:ext cx="7883640" cy="40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lnSpc>
                <a:spcPct val="90000"/>
              </a:lnSpc>
              <a:spcBef>
                <a:spcPts val="748"/>
              </a:spcBef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  <a:p>
            <a:pPr lvl="1" marL="742680" indent="-285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55520"/>
                <a:tab algn="l" pos="604800"/>
                <a:tab algn="l" pos="1054080"/>
                <a:tab algn="l" pos="1503360"/>
                <a:tab algn="l" pos="1952280"/>
                <a:tab algn="l" pos="2401560"/>
                <a:tab algn="l" pos="2850840"/>
                <a:tab algn="l" pos="3300120"/>
                <a:tab algn="l" pos="3749400"/>
                <a:tab algn="l" pos="4198680"/>
                <a:tab algn="l" pos="4647960"/>
                <a:tab algn="l" pos="5097240"/>
                <a:tab algn="l" pos="5546520"/>
                <a:tab algn="l" pos="599580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04480"/>
                <a:tab algn="l" pos="653760"/>
                <a:tab algn="l" pos="1103040"/>
                <a:tab algn="l" pos="1552320"/>
                <a:tab algn="l" pos="2001600"/>
                <a:tab algn="l" pos="2450880"/>
                <a:tab algn="l" pos="2900160"/>
                <a:tab algn="l" pos="334944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160"/>
                <a:tab algn="l" pos="874044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96560"/>
                <a:tab algn="l" pos="645840"/>
                <a:tab algn="l" pos="1095120"/>
                <a:tab algn="l" pos="1544400"/>
                <a:tab algn="l" pos="1993680"/>
                <a:tab algn="l" pos="2442960"/>
                <a:tab algn="l" pos="2892240"/>
                <a:tab algn="l" pos="3341520"/>
                <a:tab algn="l" pos="3790800"/>
                <a:tab algn="l" pos="4240080"/>
                <a:tab algn="l" pos="4689360"/>
                <a:tab algn="l" pos="5138640"/>
                <a:tab algn="l" pos="5587920"/>
                <a:tab algn="l" pos="6037200"/>
                <a:tab algn="l" pos="6486480"/>
                <a:tab algn="l" pos="6935760"/>
                <a:tab algn="l" pos="7385040"/>
                <a:tab algn="l" pos="7833960"/>
                <a:tab algn="l" pos="8283240"/>
                <a:tab algn="l" pos="873252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3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8640"/>
                <a:tab algn="l" pos="637920"/>
                <a:tab algn="l" pos="1087200"/>
                <a:tab algn="l" pos="1536480"/>
                <a:tab algn="l" pos="1985760"/>
                <a:tab algn="l" pos="243504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6760"/>
                <a:tab algn="l" pos="7826040"/>
                <a:tab algn="l" pos="8275320"/>
                <a:tab algn="l" pos="87246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13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8640"/>
                <a:tab algn="l" pos="637920"/>
                <a:tab algn="l" pos="1087200"/>
                <a:tab algn="l" pos="1536480"/>
                <a:tab algn="l" pos="1985760"/>
                <a:tab algn="l" pos="243504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6760"/>
                <a:tab algn="l" pos="7826040"/>
                <a:tab algn="l" pos="8275320"/>
                <a:tab algn="l" pos="87246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13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8640"/>
                <a:tab algn="l" pos="637920"/>
                <a:tab algn="l" pos="1087200"/>
                <a:tab algn="l" pos="1536480"/>
                <a:tab algn="l" pos="1985760"/>
                <a:tab algn="l" pos="243504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6760"/>
                <a:tab algn="l" pos="7826040"/>
                <a:tab algn="l" pos="8275320"/>
                <a:tab algn="l" pos="87246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560" y="6356160"/>
            <a:ext cx="20541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458040" y="6356160"/>
            <a:ext cx="20541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176BBAB-D14F-4413-8F5D-919AAA75AB8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88652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МАОУ«Гимназияим.Н.В.Пушкова»(Д/О№2)</a:t>
            </a:r>
            <a:br>
              <a:rPr sz="2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ект «Моя семья»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endParaRPr b="0" lang="ru-RU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92360" y="1989000"/>
            <a:ext cx="5254560" cy="2876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03640" y="486576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спитатели средней группы №14 «Лучики» : Рамазанова А.М.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нникова Н.А.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16360" y="58770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г. Троицк, г. Москва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2020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0"/>
            <a:ext cx="475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одготовительный этап: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1700280"/>
            <a:ext cx="8066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пределение цели и задач;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учение литературы;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бновление содержания предметно-развивающей среды;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ставление конспектов, картотек игр, пособий;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пределение тем консультаций и мероприятий для родителей;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нкетирование детей и родителей;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403280" y="3933720"/>
            <a:ext cx="6121440" cy="4521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76360" y="0"/>
            <a:ext cx="47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Основной этап: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859280" y="3860640"/>
            <a:ext cx="3997440" cy="2997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9640" y="3833640"/>
            <a:ext cx="4032360" cy="3024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11280" y="148428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076720" y="1484280"/>
            <a:ext cx="3802320" cy="2852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692360" y="836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 Black"/>
              </a:rPr>
              <a:t>Сюжетно –ролевые игры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63640" y="47628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Творческая деятельность детей: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3699000"/>
            <a:ext cx="4211640" cy="3159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796000" y="3546360"/>
            <a:ext cx="2484360" cy="3311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484360" y="1268280"/>
            <a:ext cx="363528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56000" y="620640"/>
            <a:ext cx="3816360" cy="2862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56000" y="189000"/>
            <a:ext cx="3744720" cy="36828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 построим новый дом!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003640" y="422100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68360" y="4194000"/>
            <a:ext cx="3551040" cy="2664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411280" y="3357720"/>
            <a:ext cx="44643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</a:rPr>
              <a:t>В гостях у бабушки в деревне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35640" y="3068640"/>
            <a:ext cx="4608360" cy="3456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907920"/>
            <a:ext cx="3529080" cy="7038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дарок любимой бабушке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08720" y="2637000"/>
            <a:ext cx="3095640" cy="7038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расивая чашечка для мамы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530360"/>
            <a:ext cx="3995640" cy="5327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148360" y="3860640"/>
            <a:ext cx="3995640" cy="2997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292720" y="1268280"/>
            <a:ext cx="3382920" cy="2538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547640" y="260280"/>
            <a:ext cx="5472360" cy="947160"/>
          </a:xfrm>
          <a:prstGeom prst="rect">
            <a:avLst/>
          </a:prstGeom>
          <a:gradFill rotWithShape="0">
            <a:gsLst>
              <a:gs pos="0">
                <a:srgbClr val="f18c55"/>
              </a:gs>
              <a:gs pos="100000">
                <a:srgbClr val="e56b17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НОД по ФЭМП «Домик из геометрических фигур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»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050920" y="0"/>
            <a:ext cx="4897440" cy="1068840"/>
          </a:xfrm>
          <a:prstGeom prst="rect">
            <a:avLst/>
          </a:prstGeom>
          <a:gradFill rotWithShape="0">
            <a:gsLst>
              <a:gs pos="0">
                <a:srgbClr val="ffc746"/>
              </a:gs>
              <a:gs pos="100000">
                <a:srgbClr val="e5b600"/>
              </a:gs>
            </a:gsLst>
            <a:lin ang="5400000"/>
          </a:gradFill>
          <a:ln cap="sq"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«МОЕ РОДОВОЕ ДЕРЕВО»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146240"/>
            <a:ext cx="4284720" cy="5711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822920" y="1096920"/>
            <a:ext cx="4321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181080" y="2889360"/>
            <a:ext cx="5292720" cy="3968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140360" y="1197000"/>
            <a:ext cx="4721040" cy="35402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050920" y="0"/>
            <a:ext cx="4897440" cy="1068840"/>
          </a:xfrm>
          <a:prstGeom prst="rect">
            <a:avLst/>
          </a:prstGeom>
          <a:gradFill rotWithShape="0">
            <a:gsLst>
              <a:gs pos="0">
                <a:srgbClr val="ffc746"/>
              </a:gs>
              <a:gs pos="100000">
                <a:srgbClr val="e5b600"/>
              </a:gs>
            </a:gsLst>
            <a:lin ang="5400000"/>
          </a:gradFill>
          <a:ln cap="sq"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«МОЕ РОДОВОЕ ДЕРЕВО»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050920" y="0"/>
            <a:ext cx="4897440" cy="1068840"/>
          </a:xfrm>
          <a:prstGeom prst="rect">
            <a:avLst/>
          </a:prstGeom>
          <a:gradFill rotWithShape="0">
            <a:gsLst>
              <a:gs pos="0">
                <a:srgbClr val="81b861"/>
              </a:gs>
              <a:gs pos="100000">
                <a:srgbClr val="61a235"/>
              </a:gs>
            </a:gsLst>
            <a:lin ang="5400000"/>
          </a:gradFill>
          <a:ln cap="sq" w="648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«ТАЙНА МОЕГО ИМЕНИ»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5392800" cy="4044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325760" y="1052640"/>
            <a:ext cx="481824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050920" y="0"/>
            <a:ext cx="4897440" cy="1068840"/>
          </a:xfrm>
          <a:prstGeom prst="rect">
            <a:avLst/>
          </a:prstGeom>
          <a:gradFill rotWithShape="0">
            <a:gsLst>
              <a:gs pos="0">
                <a:srgbClr val="81b861"/>
              </a:gs>
              <a:gs pos="100000">
                <a:srgbClr val="61a235"/>
              </a:gs>
            </a:gsLst>
            <a:lin ang="5400000"/>
          </a:gradFill>
          <a:ln cap="sq" w="648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«ТАЙНА МОЕГО ИМЕНИ»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889280"/>
            <a:ext cx="3726000" cy="4968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932360" y="1760400"/>
            <a:ext cx="382284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44640"/>
            <a:ext cx="78868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ип проекта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 познавательно - исследовательский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997360"/>
            <a:ext cx="87487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астники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воспитанники средней группы, воспитатели группы, родители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одолжительность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– Краткосрочный 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588000" y="4624560"/>
            <a:ext cx="2233800" cy="2233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64000" y="55440"/>
            <a:ext cx="352908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чень люблю, когда все собираются. Белою скатертью стол накрывается.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Бабушка с мамою,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апа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 я,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Мы называемся вместе- семья.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.Высотская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050920" y="0"/>
            <a:ext cx="4897440" cy="1068840"/>
          </a:xfrm>
          <a:prstGeom prst="rect">
            <a:avLst/>
          </a:prstGeom>
          <a:gradFill rotWithShape="0">
            <a:gsLst>
              <a:gs pos="0">
                <a:srgbClr val="81b861"/>
              </a:gs>
              <a:gs pos="100000">
                <a:srgbClr val="61a235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«ТАЙНА МОЕГО ИМЕНИ»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-181080" y="2997360"/>
            <a:ext cx="4565880" cy="3423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440240" y="1413000"/>
            <a:ext cx="47037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dc3e6"/>
            </a:gs>
            <a:gs pos="100000">
              <a:srgbClr val="ed7d3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11280" y="0"/>
            <a:ext cx="788652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331280"/>
                <a:tab algn="l" pos="10780560"/>
                <a:tab algn="l" pos="10782000"/>
              </a:tabLst>
            </a:pPr>
            <a:r>
              <a:rPr b="1" i="1" lang="ru-RU" sz="33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	</a:t>
            </a:r>
            <a:r>
              <a:rPr b="1" i="1" lang="ru-RU" sz="33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Результаты работы над проектом.</a:t>
            </a:r>
            <a:endParaRPr b="0" lang="ru-RU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836640"/>
            <a:ext cx="8496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реализации проекта «Моя семья» были получены следующие результаты: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бенок: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ети получили необходимую информацию о своей семье. О том, что такое семья, что у семьи есть история и традиции.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меют представление о родственных отношениях.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оявят уважительное отношение и любовь к родным и близким к окружающим людям.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дители: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вышается компетентности родителей    в вопросах семейного воспитания.                                                                              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вышается уровень родительской активности в организации совместной деятельности по воспитанию детей.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оисходит обмен опытом семейного воспитания и традиций.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иск новых форм взаимодействия педагогов с родителями.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дагоги: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тношения родителя к воспитателю приобрели более доверительный характер;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работана система занятий и упражнений по формированию интереса детей к семье, семейным ценностям, традициям;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ополнены знания о семьях воспитанников.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26920" y="765000"/>
            <a:ext cx="788688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27160" y="1682640"/>
            <a:ext cx="691992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0"/>
            <a:ext cx="7128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ктуальность выбранной темы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692280"/>
            <a:ext cx="756108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48"/>
              </a:spcBef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лема взаимодействия детского сада с семьёй всегда была актуальной, а в настоящее время она приобрела особый смысл в связи с изменением структуры семьи (много неполных семей, либо семей в неузаконенных отношениях). Большинство семей  воспитывает одного или двоих  детей, бабушки и дедушки часто проживают отдельно от молодой семьи. В таких семейных условиях дети не могут приобрести достаточный социальный опыт, так как они не видят образец общения поколений, умения уступать, уважать интересы других людей. Первые чувства зарождаются в семье. А семья для малыша – это мир, в котором закладываются основы морали, отношения к людям. Семье принадлежит основная общественная функция – воспитание детей, она была и остается жизненно необходимой средой для сохранения и передачи социальных и культурных ценностей, определяющим фактором формирования личности ребенка. </a:t>
            </a:r>
            <a:endParaRPr b="0" lang="ru-RU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684840" y="5013360"/>
            <a:ext cx="24591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9640" y="0"/>
            <a:ext cx="78868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и: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981000"/>
            <a:ext cx="8191440" cy="45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68120" indent="-168120" algn="ctr">
              <a:lnSpc>
                <a:spcPct val="90000"/>
              </a:lnSpc>
              <a:spcBef>
                <a:spcPts val="748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Продолжать формировать у детей понятие «семья»; осуществлять взаимодействие ДОУ и семьи через приобщение к народным и семейным традициям;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68480" algn="ctr">
              <a:lnSpc>
                <a:spcPct val="90000"/>
              </a:lnSpc>
              <a:spcBef>
                <a:spcPts val="748"/>
              </a:spcBef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 algn="ctr">
              <a:lnSpc>
                <a:spcPct val="90000"/>
              </a:lnSpc>
              <a:spcBef>
                <a:spcPts val="748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Создать условия для накопления опыта интеллектуальной и творческой деятельности через самостоятельное исследование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68480" algn="ctr">
              <a:lnSpc>
                <a:spcPct val="90000"/>
              </a:lnSpc>
              <a:spcBef>
                <a:spcPts val="748"/>
              </a:spcBef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00000" y="4292640"/>
            <a:ext cx="691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4000" y="0"/>
            <a:ext cx="788652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: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981000"/>
            <a:ext cx="795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48"/>
              </a:spcBef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48"/>
              </a:spcBef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1. Способствовать сплочению и единению представителей разных поколений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48"/>
              </a:spcBef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2. Воспитывать у детей чувство привязанности, любви, уважения к членам своей семьи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48"/>
              </a:spcBef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3. Расширять представления детей о своей семье, родственных отношениях, профессиях членов своей семьи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48"/>
              </a:spcBef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843280" y="3686040"/>
            <a:ext cx="48765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3120" y="-144000"/>
            <a:ext cx="78868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3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едполагаемый результат</a:t>
            </a:r>
            <a:br>
              <a:rPr sz="3300"/>
            </a:br>
            <a:r>
              <a:rPr b="1" lang="ru-RU" sz="33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дети</a:t>
            </a:r>
            <a:r>
              <a:rPr b="1" lang="ru-RU" sz="33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:</a:t>
            </a:r>
            <a:endParaRPr b="0" lang="ru-RU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836640"/>
            <a:ext cx="84250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Проявление каждым ребёнком заботы и уважения ко всем членам своей семьи.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Преобразование развивающей среды.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Оптимизация сотруПониманиедничества с родителями и совместно составлять родословную семьи.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Систематизация знаний, стимулирующая развитие познавательных творческих способностей повышение самооценки ребёнка.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Развитие способностей к практическому и умственному экспериментированию и символическому моделированию, речевому планированию, логическим операциям.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Знание детьми информации о своей семье, о её членах; о профессии родителей.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Улучшение отношений между детьми в детском коллективе. Умение моделировать свои действия.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детьми значимости семьи в их жизни.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492360" y="4913280"/>
            <a:ext cx="259236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95280" y="-243000"/>
            <a:ext cx="78868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3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едполагаемый результат</a:t>
            </a:r>
            <a:br>
              <a:rPr sz="3300"/>
            </a:br>
            <a:r>
              <a:rPr b="1" lang="ru-RU" sz="33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родители</a:t>
            </a:r>
            <a:r>
              <a:rPr b="1" lang="ru-RU" sz="33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:</a:t>
            </a:r>
            <a:endParaRPr b="0" lang="ru-RU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836640"/>
            <a:ext cx="842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Формирование более высокой оценки достижений своих детей и гордость за них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становление дружеских связей с другими родителями, что ведёт к объединению по интересам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озможность работать в среде, которая побуждает к получению новых знаний и умений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богащение содержания детской - взрослой деятельности. Ощущение личной сопричастности к образованию и воспитанию своего ребёнка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132000" y="5084640"/>
            <a:ext cx="22734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5280" y="-243000"/>
            <a:ext cx="78868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3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едполагаемый результат</a:t>
            </a:r>
            <a:br>
              <a:rPr sz="3300"/>
            </a:br>
            <a:r>
              <a:rPr b="1" lang="ru-RU" sz="33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Педагоги</a:t>
            </a:r>
            <a:r>
              <a:rPr b="1" lang="ru-RU" sz="33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:</a:t>
            </a:r>
            <a:endParaRPr b="0" lang="ru-RU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824760"/>
            <a:ext cx="842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грация базисного и дополнительного образования. Создание единого образовательного пространства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оставление родителям наглядной информации о детях и их развитии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декватное вовлечение родителей в воспитательно-образовательный процесс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859280" y="4056120"/>
            <a:ext cx="373860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628640"/>
            <a:ext cx="82105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514080" indent="-511200">
              <a:lnSpc>
                <a:spcPct val="9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Calibri Light"/>
                <a:ea typeface="Microsoft YaHei"/>
              </a:rPr>
              <a:t> 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Calibri Light"/>
                <a:ea typeface="Microsoft YaHei"/>
              </a:rPr>
              <a:t>*</a:t>
            </a:r>
            <a:r>
              <a:rPr b="0" i="1" lang="ru-RU" sz="3300" spc="-1" strike="noStrike">
                <a:solidFill>
                  <a:srgbClr val="000000"/>
                </a:solidFill>
                <a:latin typeface="Georgia"/>
                <a:ea typeface="Microsoft YaHei"/>
              </a:rPr>
              <a:t>Беседа с детьми о своей семье,</a:t>
            </a:r>
            <a:br>
              <a:rPr sz="3300"/>
            </a:br>
            <a:r>
              <a:rPr b="0" i="1" lang="ru-RU" sz="3300" spc="-1" strike="noStrike">
                <a:solidFill>
                  <a:srgbClr val="000000"/>
                </a:solidFill>
                <a:latin typeface="Georgia"/>
                <a:ea typeface="Microsoft YaHei"/>
              </a:rPr>
              <a:t>*Рассматривание сюжетной картины «Семья»</a:t>
            </a:r>
            <a:br>
              <a:rPr sz="3300"/>
            </a:br>
            <a:r>
              <a:rPr b="0" i="1" lang="ru-RU" sz="3300" spc="-1" strike="noStrike">
                <a:solidFill>
                  <a:srgbClr val="000000"/>
                </a:solidFill>
                <a:latin typeface="Georgia"/>
                <a:ea typeface="Microsoft YaHei"/>
              </a:rPr>
              <a:t>*Составление рассказа о своей семье с родителями дома, рассматривание семейных альбомов,</a:t>
            </a:r>
            <a:br>
              <a:rPr sz="3300"/>
            </a:br>
            <a:r>
              <a:rPr b="0" i="1" lang="ru-RU" sz="3300" spc="-1" strike="noStrike">
                <a:solidFill>
                  <a:srgbClr val="000000"/>
                </a:solidFill>
                <a:latin typeface="Georgia"/>
                <a:ea typeface="Microsoft YaHei"/>
              </a:rPr>
              <a:t>*Разучивание песен о маме, о семье,</a:t>
            </a:r>
            <a:br>
              <a:rPr sz="3300"/>
            </a:br>
            <a:r>
              <a:rPr b="0" i="1" lang="ru-RU" sz="3300" spc="-1" strike="noStrike">
                <a:solidFill>
                  <a:srgbClr val="000000"/>
                </a:solidFill>
                <a:latin typeface="Georgia"/>
                <a:ea typeface="Microsoft YaHei"/>
              </a:rPr>
              <a:t>*Разучивание пальчиковой гимнастики, рисование на тему: «Моя семья».</a:t>
            </a:r>
            <a:endParaRPr b="0" lang="ru-RU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76360" y="260280"/>
            <a:ext cx="3959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33336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Реализация</a:t>
            </a: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проект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0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Georgia"/>
              </a:rPr>
              <a:t> </a:t>
            </a:r>
            <a:r>
              <a:rPr b="1" lang="ru-RU" sz="3600" spc="-1" strike="noStrike" u="sng">
                <a:solidFill>
                  <a:srgbClr val="002060"/>
                </a:solidFill>
                <a:uFillTx/>
                <a:latin typeface="Georgia"/>
              </a:rPr>
              <a:t>Предварительная</a:t>
            </a:r>
            <a:r>
              <a:rPr b="1" lang="ru-RU" sz="3600" spc="-1" strike="noStrike" u="sng">
                <a:solidFill>
                  <a:srgbClr val="002060"/>
                </a:solidFill>
                <a:uFillTx/>
                <a:latin typeface="Georgia"/>
              </a:rPr>
              <a:t>	</a:t>
            </a:r>
            <a:r>
              <a:rPr b="1" lang="ru-RU" sz="3600" spc="-1" strike="noStrike" u="sng">
                <a:solidFill>
                  <a:srgbClr val="002060"/>
                </a:solidFill>
                <a:uFillTx/>
                <a:latin typeface="Georgia"/>
              </a:rPr>
              <a:t>работа</a:t>
            </a:r>
            <a:r>
              <a:rPr b="0" lang="ru-RU" sz="3600" spc="-1" strike="noStrike">
                <a:solidFill>
                  <a:srgbClr val="002060"/>
                </a:solidFill>
                <a:latin typeface="Georgia"/>
              </a:rPr>
              <a:t>: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10T16:39:50Z</dcterms:created>
  <dc:creator/>
  <dc:description/>
  <dc:language>en-US</dc:language>
  <cp:lastModifiedBy/>
  <dcterms:modified xsi:type="dcterms:W3CDTF">2020-05-29T01:10:44Z</dcterms:modified>
  <cp:revision>4</cp:revision>
  <dc:subject/>
  <dc:title>Слайд 1</dc:title>
</cp:coreProperties>
</file>