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explode.wav" ContentType="audio/x-wav"/>
  <Override PartName="/ppt/media/image6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media/chimes.wav" ContentType="audio/x-wav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4150-A83E-430F-A92D-7101A81CB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B590-B694-4BC3-AF38-8FD81796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5571-C603-4143-855C-4FF3EC773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F9D0-4073-47D1-A4C1-84BA715AA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C9ED-A728-4E7F-89F8-1C592115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2D8F-23B6-439E-8AB4-75139040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A677-0F20-4CBA-A8EA-B354F8FE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B4FE-BA81-4A3F-B63B-6984423E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5899-6456-43D1-BEB3-0A177292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438B-55BD-488A-A8B1-D5087680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BA00-1E02-4081-96F4-CFFC18F1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BBD9-A5F3-4DA8-AB00-D375446F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ED9A-9C0D-4B1D-924B-DB3BCE5FA3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gif"/><Relationship Id="rId12" Type="http://schemas.openxmlformats.org/officeDocument/2006/relationships/image" Target="../media/image12.png"/><Relationship Id="rId13" Type="http://schemas.openxmlformats.org/officeDocument/2006/relationships/audio" Target="../media/chimes.wav"/><Relationship Id="rId14" Type="http://schemas.openxmlformats.org/officeDocument/2006/relationships/audio" Target="../media/explode.wav"/><Relationship Id="rId15" Type="http://schemas.openxmlformats.org/officeDocument/2006/relationships/audio" Target="../media/explode.wav"/><Relationship Id="rId16" Type="http://schemas.openxmlformats.org/officeDocument/2006/relationships/audio" Target="../media/explode.wav"/><Relationship Id="rId17" Type="http://schemas.openxmlformats.org/officeDocument/2006/relationships/audio" Target="../media/explode.wav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оугольник 22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42" name="Прямоугольник 22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58672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Это верно или нет?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C:\Users\User\Downloads\0u7fdb5bfd-22eabd50-1781543b.jpg"/>
          <p:cNvPicPr/>
          <p:nvPr/>
        </p:nvPicPr>
        <p:blipFill>
          <a:blip r:embed="rId2"/>
          <a:stretch/>
        </p:blipFill>
        <p:spPr>
          <a:xfrm>
            <a:off x="2809800" y="1328760"/>
            <a:ext cx="3664080" cy="3664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C:\Users\User\Downloads\1210_3.jpg"/>
          <p:cNvPicPr/>
          <p:nvPr/>
        </p:nvPicPr>
        <p:blipFill>
          <a:blip r:embed="rId3"/>
          <a:stretch/>
        </p:blipFill>
        <p:spPr>
          <a:xfrm>
            <a:off x="4638600" y="5230800"/>
            <a:ext cx="2152800" cy="1633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C:\Users\User\Downloads\351857e2e26c.jpg"/>
          <p:cNvPicPr/>
          <p:nvPr/>
        </p:nvPicPr>
        <p:blipFill>
          <a:blip r:embed="rId4"/>
          <a:stretch/>
        </p:blipFill>
        <p:spPr>
          <a:xfrm>
            <a:off x="420840" y="1206360"/>
            <a:ext cx="2230200" cy="1652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C:\Users\User\Downloads\20427870-the-illustration-shows-a-little-girl-who-sews-on-the-sewing-machine-dress-for-the-doll-near-it-shows.jpg"/>
          <p:cNvPicPr/>
          <p:nvPr/>
        </p:nvPicPr>
        <p:blipFill>
          <a:blip r:embed="rId5"/>
          <a:stretch/>
        </p:blipFill>
        <p:spPr>
          <a:xfrm>
            <a:off x="420840" y="2919240"/>
            <a:ext cx="2157120" cy="1646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C:\Users\User\Downloads\imgpreview.jpg"/>
          <p:cNvPicPr/>
          <p:nvPr/>
        </p:nvPicPr>
        <p:blipFill>
          <a:blip r:embed="rId6"/>
          <a:stretch/>
        </p:blipFill>
        <p:spPr>
          <a:xfrm>
            <a:off x="2279520" y="5205240"/>
            <a:ext cx="2237040" cy="1659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C:\Users\User\Downloads\original.jpg"/>
          <p:cNvPicPr/>
          <p:nvPr/>
        </p:nvPicPr>
        <p:blipFill>
          <a:blip r:embed="rId7"/>
          <a:stretch/>
        </p:blipFill>
        <p:spPr>
          <a:xfrm>
            <a:off x="6711840" y="2992320"/>
            <a:ext cx="2151000" cy="1609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C:\Users\User\Downloads\risunok_divan.jpg"/>
          <p:cNvPicPr/>
          <p:nvPr/>
        </p:nvPicPr>
        <p:blipFill>
          <a:blip r:embed="rId8"/>
          <a:stretch/>
        </p:blipFill>
        <p:spPr>
          <a:xfrm>
            <a:off x="133200" y="4638600"/>
            <a:ext cx="2159280" cy="1586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C:\Users\User\Downloads\обе-енный-сто-семьи-49169331.jpg"/>
          <p:cNvPicPr/>
          <p:nvPr/>
        </p:nvPicPr>
        <p:blipFill>
          <a:blip r:embed="rId9"/>
          <a:stretch/>
        </p:blipFill>
        <p:spPr>
          <a:xfrm>
            <a:off x="6711840" y="1206360"/>
            <a:ext cx="2127240" cy="1798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C:\Users\User\Downloads\0_9d1fc_b14b8e6f_XL.jpg"/>
          <p:cNvPicPr/>
          <p:nvPr/>
        </p:nvPicPr>
        <p:blipFill>
          <a:blip r:embed="rId10"/>
          <a:stretch/>
        </p:blipFill>
        <p:spPr>
          <a:xfrm>
            <a:off x="6991200" y="4705200"/>
            <a:ext cx="2159280" cy="1731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C:\Users\User\Downloads\e5f21e91b47d.gif"/>
          <p:cNvPicPr/>
          <p:nvPr/>
        </p:nvPicPr>
        <p:blipFill>
          <a:blip r:embed="rId11"/>
          <a:stretch/>
        </p:blipFill>
        <p:spPr>
          <a:xfrm>
            <a:off x="7500960" y="142920"/>
            <a:ext cx="1428840" cy="1012680"/>
          </a:xfrm>
          <a:prstGeom prst="rect">
            <a:avLst/>
          </a:prstGeom>
          <a:ln w="0">
            <a:noFill/>
          </a:ln>
        </p:spPr>
      </p:pic>
      <p:sp>
        <p:nvSpPr>
          <p:cNvPr id="57" name="Овал 23"/>
          <p:cNvSpPr/>
          <p:nvPr/>
        </p:nvSpPr>
        <p:spPr>
          <a:xfrm>
            <a:off x="1428840" y="142920"/>
            <a:ext cx="5643360" cy="928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TextBox 24" descr=""/>
          <p:cNvPicPr/>
          <p:nvPr/>
        </p:nvPicPr>
        <p:blipFill>
          <a:blip r:embed="rId12"/>
          <a:stretch/>
        </p:blipFill>
        <p:spPr>
          <a:xfrm>
            <a:off x="2139840" y="231840"/>
            <a:ext cx="408492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explode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11" dur="5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explode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18" dur="5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explode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5" dur="5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32" dur="5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56800" y="999720"/>
            <a:ext cx="700092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формирование грамматической стороны речи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Ход: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проводится с группой дете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Чтение сказки «Умный наперсток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Беседа по содержанию сказк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Интерактивная игр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ссмотрите предметы на центральной картинк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Чем они полезны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акую опасность могут собой представлять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сскажите по картинкам, как следует обращаться с колющими и режущими предмета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  как нельзя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7T10:11:45Z</dcterms:created>
  <dc:creator>User</dc:creator>
  <dc:description/>
  <dc:language>en-US</dc:language>
  <cp:lastModifiedBy>User</cp:lastModifiedBy>
  <dcterms:modified xsi:type="dcterms:W3CDTF">2018-01-19T10:59:15Z</dcterms:modified>
  <cp:revision>6</cp:revision>
  <dc:subject/>
  <dc:title>«Это верно или нет?»</dc:title>
</cp:coreProperties>
</file>