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62E6-26C1-42EF-94D9-5B693C25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F62E-CD0C-4233-AD7A-318DC9CF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778D-6CB3-4BCC-91E7-342B83B4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0021-AF9E-46F5-A3CD-31DA0780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A89E-F3DA-43EE-A5F6-C64DF89E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3A2D-8F9D-4EC0-B4FC-56CC40DF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49FD-4A7C-4438-B0A5-D833499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E4A4-5A5D-40A9-9D2F-CF2C31D9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8F27-D207-47F2-935E-58837759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5E81-F451-4532-8581-17001B05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2292-DE48-44EC-8C82-D1E036B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1239-57A3-4619-8808-BD142A2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3390-13A6-4A4C-80E6-2A0542A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9D56-5261-4260-AEF7-6EF06D17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3CCC-950B-4014-8353-4F2C8411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DA10-FF10-431E-85D0-731ACB09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6D7E-2C7C-4816-8F77-ABBF4575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2F56-20C3-40DE-9DB4-C9F6F65B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5F0D-95D2-418B-ADFA-A33BE79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FD57-EB18-40C6-B997-2452490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B183-CEC4-45BD-A8B1-EAC4DF6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B954-0FD1-4E12-8740-B8578F3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845E-ECC6-4545-80F7-E3A13B7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210C-8B81-4BB1-AC8C-41F5187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6410-AC16-454A-AF91-BA1AA963293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EF36-13F5-473A-B398-1B343C1A628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Урок - экскурсия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сторико-архитектурный музей-заповедник "Усадьба Рукавишникова" в Нижнем Новгород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648320" y="30492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24 г. в особняке бывшей усадьбы купца С.М. Рукавишникова на Верхне-Волжской набережной получил свою постоянную прописку краеведческий музей, ныне Нижегородский государственный историко-архитектурный музей-заповедник. Именно с этим домом многие поколения нижегородцев связывают понятие Музей, где посетитель всегда мог познакомиться с отечественным и зарубежным культурным наследие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6" descr="icon"/>
          <p:cNvPicPr/>
          <p:nvPr/>
        </p:nvPicPr>
        <p:blipFill>
          <a:blip r:embed="rId1"/>
          <a:stretch/>
        </p:blipFill>
        <p:spPr>
          <a:xfrm>
            <a:off x="152280" y="914400"/>
            <a:ext cx="4645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762120" y="45720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33520" y="4191120"/>
            <a:ext cx="815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"/>
              </a:rPr>
              <a:t>За более чем столетнюю свою историю музеем накоплены богатейшие (более 320 тыс. единиц хранения) коллекции. Среди них музейные предметы из частных собраний дворян Абамелик-Лазаревых, Шереметевых, из коллекций представителей купеческого сословия В.М. Бурмистровой (урожденной Рукавишниковой), Д.В. Сироткина, из собрания нижегородского фотографа А.О. Карелина и многих других </a:t>
            </a:r>
            <a:endParaRPr b="0" lang="en-US" sz="20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52" name="Picture 15" descr="icon"/>
          <p:cNvPicPr/>
          <p:nvPr/>
        </p:nvPicPr>
        <p:blipFill>
          <a:blip r:embed="rId1"/>
          <a:stretch/>
        </p:blipFill>
        <p:spPr>
          <a:xfrm>
            <a:off x="1371600" y="30492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ечение 16 лет (с 1994 г.) двери парадного подъезда рукавишниковского палаццо были закрыты. В этом году реставрационные работы на красивейшем здании Верхне-Волжской набережной завершены. Предпринятое максимально возможное восстановление первоначально богатой и изысканной отделки интерьеров, выявленной в ходе исследования здания, во многом подтверждает свидетельства современников строительства особняка. Главный дом усадьбы в наши дни становится таким же, каким он был ярко и самобытно представлен в художественном произведении одного из потомков знаменитого нижегородского купеческого рода. И.С. Рукавишников – писатель и поэт, придерживаясь до некоторой степени известных биографических сведений о семье, в романе «Проклятый род» (выходил в 1912 и 1914 гг., переиздан в 1999г.) с большой долей точности и достоверности описывает творение своего отца – овеянный легендами дворец Рукавишниковых на Волжском откос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48320" y="53352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авный дом усадьбы Рукавишниковых - объект культурного наследия – интереснейший памятник гражданской архитектуры последней четверти ХIХ 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ом показа окажутся архитектурные особенности здания, эстетические качества его интерьеров – их стильность, характер и насыщенность отделок, художественная цельность. В ходе экскурсии прозвучит история знаменитого дома и его обитателе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1" descr="icon"/>
          <p:cNvPicPr/>
          <p:nvPr/>
        </p:nvPicPr>
        <p:blipFill>
          <a:blip r:embed="rId1"/>
          <a:stretch/>
        </p:blipFill>
        <p:spPr>
          <a:xfrm>
            <a:off x="304920" y="6858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7"/>
          <p:cNvSpPr/>
          <p:nvPr/>
        </p:nvSpPr>
        <p:spPr>
          <a:xfrm>
            <a:off x="685800" y="685800"/>
            <a:ext cx="8001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"/>
              </a:rPr>
              <a:t>Посетителей также ждет встреча с историческими выставками, развернутыми в залах музея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"/>
              </a:rPr>
              <a:t>«Музейная мозаика» - выставка, представляющая своеобразную панораму музейного собрания, документирующего отечественную историю с древнейших времен до современности. Особое место при этом принадлежит памятникам истории Нижегородского кра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"/>
              </a:rPr>
              <a:t>«Пристойны быть по торгам своим…» - выставка, знакомящая с наиболее известными купцами и предпринимателями Нижнего Новгорода – Каменскими, Сироткиными, Рукавишников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"/>
              </a:rPr>
              <a:t>4 сентября 2010 года началось знакомство горожан и гостей Нижнего Новгорода с дворцом Рукавишниковых, с новой страницей в истории знаменитого особняка </a:t>
            </a:r>
            <a:endParaRPr b="0" lang="en-US" sz="20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880" y="2340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гда единый Нижегородский городской художественно-исторический музей был открыт 25 июня (7 июля) 1896 года в специально отреставрированной для этого Дмитриевской башне Нижегородского кремля. Затем по мере увеличения коллекций, музей, имевший в своей структуре художественный и исторический отделы, разместили в двух купеческих особняках на Волжском откосе, а в 1934 году произошло их официальное разделение. Каждый из музеев и прежде, и теперь играет значительную роль в культурной жизни города и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16 году исполняется  120 лет   двум старейшим  нижегородским музеям: Нижегородскому государственному историко-архитектурному музею-заповеднику (НГИАМЗ) и Нижегородскому государственному художественному музе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"/>
              </a:rPr>
              <a:t>Уса́дьба в русской архитектуре — отдельное поселение, комплекс жилых, хозяйственных, парковых и иных построек, а также, как правило, усадебный парк, составляющих единое целое. Как правило, термин «усадьба» относят к владениям русских дворян и зажиточных представителей других сословий, относящимся к XVII — началу XX ве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ей-заповедник – группа музеев под открытым небом, обладающих особой ценностью и получивших по постановлению правительственных органов статус заповедников. Музеи заповедники создаются на основе музеефикации территорий, ансамблей, комплексов и отдельных памятников истории, культуры, природы в их естественной среде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932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932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932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932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8"/>
          <p:cNvSpPr/>
          <p:nvPr/>
        </p:nvSpPr>
        <p:spPr>
          <a:xfrm>
            <a:off x="838080" y="457200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"/>
              </a:rPr>
              <a:t>Усадьба Рукавишниковых является объектом культурного наследия регионального значения, федеральной собственностью и входит в состав музейного объединения ГУК «Нижегородский государственный историко-архитектурный музей – заповедник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35" name="Picture 9" descr="140430_10"/>
          <p:cNvPicPr/>
          <p:nvPr/>
        </p:nvPicPr>
        <p:blipFill>
          <a:blip r:embed="rId1"/>
          <a:stretch/>
        </p:blipFill>
        <p:spPr>
          <a:xfrm>
            <a:off x="1981080" y="45720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icon"/>
          <p:cNvPicPr/>
          <p:nvPr/>
        </p:nvPicPr>
        <p:blipFill>
          <a:blip r:embed="rId1"/>
          <a:stretch/>
        </p:blipFill>
        <p:spPr>
          <a:xfrm>
            <a:off x="1371600" y="457200"/>
            <a:ext cx="6095880" cy="3800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33520" y="4648320"/>
            <a:ext cx="830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Главный дом усадьбы С.М. Рукавишникова, расположенный на Верхне-Волжской набережной, является памятником архитектуры начала XIX века. Дом входит в состав усадебного комплекса С.М. Рукавишникова, ансамбль которого формирует речную панораму Нижнего Новгорода. В связи с аварийным состоянием главного здания усадьбы Рукавишникова в 1993 году было принято решение о начале выполнения ремонтных и ремонтно-реставрационных работ комплекса усадьбы Рукавишников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5867280" y="1371600"/>
            <a:ext cx="3048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57200" y="457200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Первоначально 2-х этажный каменный особняк на Верхне-Волжской набережной принадлежал купцу 3-й гильдии Серапиону Везломцеву и перешел за долги в 1840-х гг. владельцу первого в Нижнем Новгороде сталелитейного завода и крупному ростовщику - процентщику М. Г. Рукавишникову. . Его наследник С.М. Рукавишников решил превратить Усадьбу на Верхне-Волжской набережной в величественный комплекс с домом в стиле итальянского палаццо.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40" name="Picture 10" descr="view_icon_big"/>
          <p:cNvPicPr/>
          <p:nvPr/>
        </p:nvPicPr>
        <p:blipFill>
          <a:blip r:embed="rId1"/>
          <a:stretch/>
        </p:blipFill>
        <p:spPr>
          <a:xfrm>
            <a:off x="1295280" y="2286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4572000" y="457200"/>
            <a:ext cx="4038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Для осуществления этой идеи были приглашены архитектор П.С. Бойцов, который выполнил проект реконструкции старого дома – превращения его в здание дворцового типа и художник из Петербурга М.О. Микешин, автор богатого фасадного декора. Сохранив несущие стены старого здания, архитектор пристроил к нему крылья и надстроил третьим этажом, с южной стороны пристроил мраморную парадную лестницу к двухсветному залу, богато декорированному лепниной и росписью. Все внутренние помещения особняка отличаются пышностью отделки стен и дорогим художественным паркетом. </a:t>
            </a: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42" name="Picture 10" descr="icon"/>
          <p:cNvPicPr/>
          <p:nvPr/>
        </p:nvPicPr>
        <p:blipFill>
          <a:blip r:embed="rId1"/>
          <a:stretch/>
        </p:blipFill>
        <p:spPr>
          <a:xfrm>
            <a:off x="457200" y="76212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9"/>
          <p:cNvSpPr/>
          <p:nvPr/>
        </p:nvSpPr>
        <p:spPr>
          <a:xfrm>
            <a:off x="380880" y="41148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914400" y="4419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"/>
              </a:rPr>
              <a:t>Здание обильно украшено лепниной, балкон 2-го этажа поддерживают атланты, оконные простенки занимают горельефные фигуры кариатид. По второму этажу особняк связан с двухэтажным кирпичным флигелем. Внутренний дворик с фонтаном и верандой - уютное место отдых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45" name="Picture 12" descr="icon"/>
          <p:cNvPicPr/>
          <p:nvPr/>
        </p:nvPicPr>
        <p:blipFill>
          <a:blip r:embed="rId1"/>
          <a:stretch/>
        </p:blipFill>
        <p:spPr>
          <a:xfrm>
            <a:off x="1523880" y="3808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4"/>
          <p:cNvSpPr/>
          <p:nvPr/>
        </p:nvSpPr>
        <p:spPr>
          <a:xfrm>
            <a:off x="304920" y="457200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"/>
              </a:rPr>
              <a:t>По завершении реконструкции, в 1877 г., Дом Рукавишникова стал самым заметным и богатым в Н. Новгороде. В целом, это – пример хорошо сохранившегося крупного городского усадебного комплекса последней четверти ХIХ 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47" name="Picture 19" descr="icon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ovo</dc:creator>
  <dc:description/>
  <dc:language>en-US</dc:language>
  <cp:lastModifiedBy>Lenovo</cp:lastModifiedBy>
  <dcterms:modified xsi:type="dcterms:W3CDTF">2020-06-02T08:08:3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