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13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17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7.gif" ContentType="image/gif"/>
  <Override PartName="/ppt/media/image28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45D-95CF-44D5-9F9B-E15AB696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9EF-C1DB-44A7-8F66-A9C1DB7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066-D598-4AB2-B2C7-7F1CE0D5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8D-17E3-471C-BC25-A5C64A81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67D-3A1A-4D05-9382-EFB1488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5F3-0048-4F71-A564-E043893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CD9-330D-4300-9A79-8405ECBD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456-BEFA-4DBA-B4D6-E41F018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BF4-25C6-4A19-B74E-E636BB1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041-A066-42F9-AC8C-609F6F2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149-5610-4078-ADA8-12F8B40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C9D-F43B-468E-8953-EE23BB7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82E-5FC7-4B1A-8E59-A352F284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AutoShape 21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16" descr="water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09"/>
          <p:cNvSpPr/>
          <p:nvPr/>
        </p:nvSpPr>
        <p:spPr>
          <a:xfrm>
            <a:off x="0" y="1981080"/>
            <a:ext cx="4257720" cy="2068560"/>
          </a:xfrm>
          <a:custGeom>
            <a:avLst/>
            <a:gdLst>
              <a:gd name="textAreaLeft" fmla="*/ 0 w 4257720"/>
              <a:gd name="textAreaRight" fmla="*/ 4258080 w 4257720"/>
              <a:gd name="textAreaTop" fmla="*/ 0 h 2068560"/>
              <a:gd name="textAreaBottom" fmla="*/ 2068560 h 2068560"/>
            </a:gdLst>
            <a:ahLst/>
            <a:rect l="textAreaLeft" t="textAreaTop" r="textAreaRight" b="textAreaBottom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403"/>
          <p:cNvSpPr/>
          <p:nvPr/>
        </p:nvSpPr>
        <p:spPr>
          <a:xfrm>
            <a:off x="-11160" y="0"/>
            <a:ext cx="5145120" cy="4338720"/>
          </a:xfrm>
          <a:custGeom>
            <a:avLst/>
            <a:gdLst>
              <a:gd name="textAreaLeft" fmla="*/ 0 w 5145120"/>
              <a:gd name="textAreaRight" fmla="*/ 5145480 w 5145120"/>
              <a:gd name="textAreaTop" fmla="*/ 0 h 4338720"/>
              <a:gd name="textAreaBottom" fmla="*/ 4339080 h 4338720"/>
            </a:gdLst>
            <a:ahLst/>
            <a:rect l="textAreaLeft" t="textAreaTop" r="textAreaRight" b="textAreaBottom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404"/>
          <p:cNvSpPr/>
          <p:nvPr/>
        </p:nvSpPr>
        <p:spPr>
          <a:xfrm>
            <a:off x="3581280" y="0"/>
            <a:ext cx="2522520" cy="461340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405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407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>
              <a:gd name="textAreaLeft" fmla="*/ 0 w 3290760"/>
              <a:gd name="textAreaRight" fmla="*/ 3291120 w 3290760"/>
              <a:gd name="textAreaTop" fmla="*/ 0 h 4702320"/>
              <a:gd name="textAreaBottom" fmla="*/ 4702680 h 4702320"/>
            </a:gdLst>
            <a:ahLst/>
            <a:rect l="textAreaLeft" t="textAreaTop" r="textAreaRight" b="textAreaBottom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12" descr="drop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1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alsauna.ru/uploads/posts/2009-09/1251990609_bannii_komplex_oblivanie_vodoi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40" descr=""/>
          <p:cNvPicPr/>
          <p:nvPr/>
        </p:nvPicPr>
        <p:blipFill>
          <a:blip r:embed="rId1"/>
          <a:stretch/>
        </p:blipFill>
        <p:spPr>
          <a:xfrm>
            <a:off x="755640" y="1146240"/>
            <a:ext cx="8059680" cy="1841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3068640"/>
            <a:ext cx="69548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67280" y="2644920"/>
            <a:ext cx="36874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сканирование0018.jpg"/>
          <p:cNvPicPr/>
          <p:nvPr/>
        </p:nvPicPr>
        <p:blipFill>
          <a:blip r:embed="rId1"/>
          <a:stretch/>
        </p:blipFill>
        <p:spPr>
          <a:xfrm>
            <a:off x="5357880" y="4071960"/>
            <a:ext cx="267012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  <p:sp>
        <p:nvSpPr>
          <p:cNvPr id="136" name="TextBox 6"/>
          <p:cNvSpPr/>
          <p:nvPr/>
        </p:nvSpPr>
        <p:spPr>
          <a:xfrm>
            <a:off x="714240" y="428760"/>
            <a:ext cx="8001000" cy="3020040"/>
          </a:xfrm>
          <a:prstGeom prst="rect">
            <a:avLst/>
          </a:prstGeom>
          <a:gradFill rotWithShape="0">
            <a:gsLst>
              <a:gs pos="0">
                <a:srgbClr val="e1f5a0"/>
              </a:gs>
              <a:gs pos="100000">
                <a:srgbClr val="f7fde5"/>
              </a:gs>
            </a:gsLst>
            <a:lin ang="16200000"/>
          </a:gradFill>
          <a:ln w="9360">
            <a:solidFill>
              <a:srgbClr val="92a7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Солнеч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правильно проводить эту процедуру, то она принесёт пользу: улучшит кровообращение , сон, аппетит, будет способствовать закаливанию организма, благоприятно влиять на кожу – придаст бархатистость, свежесть и приятный золотисто-коричневый загар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Для того чтобы солнце принесло пользу, а не вред, нужно знать следующие правил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C:\Documents and Settings\Admin\Рабочий стол\сканирование0003.jpg"/>
          <p:cNvPicPr/>
          <p:nvPr/>
        </p:nvPicPr>
        <p:blipFill>
          <a:blip r:embed="rId2"/>
          <a:stretch/>
        </p:blipFill>
        <p:spPr>
          <a:xfrm>
            <a:off x="1143000" y="4071960"/>
            <a:ext cx="274788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Люда\Мои документы\картинки\рис-1\разное-2\1\14.gif"/>
          <p:cNvPicPr/>
          <p:nvPr/>
        </p:nvPicPr>
        <p:blipFill>
          <a:blip r:embed="rId1"/>
          <a:stretch/>
        </p:blipFill>
        <p:spPr>
          <a:xfrm>
            <a:off x="2428920" y="1571760"/>
            <a:ext cx="4119480" cy="411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71680" y="642960"/>
            <a:ext cx="8215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писные исти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орай постепенно, в меру, не злоупотребляя на солнц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ечные ванны принимай утром с 7 до 12 часов, когда воздух чист и не разогрет чрезмерно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у обязательно защищай от солнечных лучей косынкой или панам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инимай солнечные ванны в неподвижном положени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 и секреты закаливания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3" descr="C:\Documents and Settings\Admin\Мои документы\Мои сканированные изображения\2010-02 (фев)\сканирование0017.jpg"/>
          <p:cNvPicPr/>
          <p:nvPr/>
        </p:nvPicPr>
        <p:blipFill>
          <a:blip r:embed="rId1"/>
          <a:stretch/>
        </p:blipFill>
        <p:spPr>
          <a:xfrm>
            <a:off x="6143760" y="4357800"/>
            <a:ext cx="2143080" cy="179532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2" name="Picture 4" descr="C:\Documents and Settings\Admin\Мои документы\Мои сканированные изображения\2010-02 (фев)\сканирование0003.jpg"/>
          <p:cNvPicPr/>
          <p:nvPr/>
        </p:nvPicPr>
        <p:blipFill>
          <a:blip r:embed="rId2"/>
          <a:stretch/>
        </p:blipFill>
        <p:spPr>
          <a:xfrm>
            <a:off x="3429000" y="4357800"/>
            <a:ext cx="2039760" cy="18651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3" name="Picture 5" descr="C:\Documents and Settings\Admin\Мои документы\Мои сканированные изображения\2010-02 (фев)\сканирование0016.jpg"/>
          <p:cNvPicPr/>
          <p:nvPr/>
        </p:nvPicPr>
        <p:blipFill>
          <a:blip r:embed="rId3"/>
          <a:stretch/>
        </p:blipFill>
        <p:spPr>
          <a:xfrm>
            <a:off x="714240" y="4286160"/>
            <a:ext cx="2071800" cy="1857600"/>
          </a:xfrm>
          <a:prstGeom prst="rect">
            <a:avLst/>
          </a:prstGeom>
          <a:ln w="25560">
            <a:solidFill>
              <a:srgbClr val="aaccd4"/>
            </a:solidFill>
            <a:miter/>
          </a:ln>
        </p:spPr>
      </p:pic>
      <p:sp>
        <p:nvSpPr>
          <p:cNvPr id="144" name="TextBox 5"/>
          <p:cNvSpPr/>
          <p:nvPr/>
        </p:nvSpPr>
        <p:spPr>
          <a:xfrm>
            <a:off x="500040" y="928800"/>
            <a:ext cx="7929720" cy="302004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еваться по погоде, не кута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лать зарядк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тираться влажным полотенце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дневно применять прохладный душ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льше двигаться, играть в подвижные игр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иматься спортом, играть в подвижные игры, бега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Это интересно!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85840" y="1071720"/>
            <a:ext cx="4500360" cy="5456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«Моржи» – так в шутку называют любителей зимнего купания. «Моржи» не переохлаждаются и не заболевают, потому что они - закалённые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аже если ты не захочешь стать «моржом», закаливание вам не повредит. Ведь закаливание укрепляет иммунитет – устойчивость человека к инфекционным заболеваниям, особенно к гриппу и острым респираторным вирусным инфекциям – ОРВИ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Documents and Settings\Admin\Мои документы\Мои сканированные изображения\2010-02 (фев)\сканирование0018.jpg"/>
          <p:cNvPicPr/>
          <p:nvPr/>
        </p:nvPicPr>
        <p:blipFill>
          <a:blip r:embed="rId1"/>
          <a:stretch/>
        </p:blipFill>
        <p:spPr>
          <a:xfrm>
            <a:off x="5000760" y="1143000"/>
            <a:ext cx="3762360" cy="54039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73480" y="311616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369280" cy="1450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714240" y="2286000"/>
            <a:ext cx="785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786120" y="4357800"/>
            <a:ext cx="1920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55316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2"/>
          <a:stretch/>
        </p:blipFill>
        <p:spPr>
          <a:xfrm>
            <a:off x="328680" y="1352520"/>
            <a:ext cx="8150040" cy="148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sun-water.narod.ru/game.gif"/>
          <p:cNvPicPr/>
          <p:nvPr/>
        </p:nvPicPr>
        <p:blipFill>
          <a:blip r:embed="rId3"/>
          <a:stretch/>
        </p:blipFill>
        <p:spPr>
          <a:xfrm>
            <a:off x="2357280" y="3500280"/>
            <a:ext cx="4357800" cy="2905200"/>
          </a:xfrm>
          <a:prstGeom prst="rect">
            <a:avLst/>
          </a:prstGeom>
          <a:ln w="25560">
            <a:solidFill>
              <a:srgbClr val="9744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545320" cy="1640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2176560" y="1944720"/>
            <a:ext cx="6718320" cy="23162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" descr=""/>
          <p:cNvPicPr/>
          <p:nvPr/>
        </p:nvPicPr>
        <p:blipFill>
          <a:blip r:embed="rId3"/>
          <a:stretch/>
        </p:blipFill>
        <p:spPr>
          <a:xfrm>
            <a:off x="103320" y="4230720"/>
            <a:ext cx="6645240" cy="206676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сканирование0001.jpg"/>
          <p:cNvPicPr/>
          <p:nvPr/>
        </p:nvPicPr>
        <p:blipFill>
          <a:blip r:embed="rId4"/>
          <a:stretch/>
        </p:blipFill>
        <p:spPr>
          <a:xfrm>
            <a:off x="285840" y="1714680"/>
            <a:ext cx="1714320" cy="2500200"/>
          </a:xfrm>
          <a:prstGeom prst="rect">
            <a:avLst/>
          </a:prstGeom>
          <a:ln w="9360">
            <a:solidFill>
              <a:srgbClr val="d5d5d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2" name="Picture 2" descr="C:\Documents and Settings\Admin\Рабочий стол\Картинки сканер\сканирование0002.jpg"/>
          <p:cNvPicPr/>
          <p:nvPr/>
        </p:nvPicPr>
        <p:blipFill>
          <a:blip r:embed="rId5"/>
          <a:stretch/>
        </p:blipFill>
        <p:spPr>
          <a:xfrm>
            <a:off x="6786720" y="4071960"/>
            <a:ext cx="1785960" cy="2286000"/>
          </a:xfrm>
          <a:prstGeom prst="rect">
            <a:avLst/>
          </a:prstGeom>
          <a:ln w="25560">
            <a:solidFill>
              <a:srgbClr val="a0a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15200" cy="1428840"/>
          </a:xfrm>
          <a:prstGeom prst="rect">
            <a:avLst/>
          </a:prstGeom>
          <a:solidFill>
            <a:srgbClr val="bdf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можно использовать воду, солнце и воздух для закаливания организма.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57120" y="1857240"/>
            <a:ext cx="8429760" cy="19227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530d"/>
                </a:solidFill>
                <a:latin typeface="Times New Roman"/>
                <a:ea typeface="Times New Roman"/>
              </a:rPr>
              <a:t>Водные процедуры лучше начинать с обтирания: возьмите губку или полотенце, смочите их холодной водой, слегка отожмите и обтирай последовательно шею, плечи, грудь, живот, спину и ноги. После обтирания переходите к ежедневным обливаниям , душ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5 из 19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3500280"/>
            <a:ext cx="1928520" cy="30006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  <p:pic>
        <p:nvPicPr>
          <p:cNvPr id="106" name="Picture 2" descr="http://www.ng.ru/images/2006-12-27/284-13-2.jpg"/>
          <p:cNvPicPr/>
          <p:nvPr/>
        </p:nvPicPr>
        <p:blipFill>
          <a:blip r:embed="rId3"/>
          <a:stretch/>
        </p:blipFill>
        <p:spPr>
          <a:xfrm>
            <a:off x="1428840" y="4143240"/>
            <a:ext cx="3357360" cy="23004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14200" y="214200"/>
            <a:ext cx="8715600" cy="167940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Холодное полотенце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вам не нравится обливание холодной водой, постелите в ванне полотенце, смоченное холодной водой. Потопайте ногами на нем в течение 1 мин (утром и на ночь). Вытрите ноги, не растирая, а промокая полотенцем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RTPB4XQQ\MCj02321530000[1].wmf"/>
          <p:cNvPicPr/>
          <p:nvPr/>
        </p:nvPicPr>
        <p:blipFill>
          <a:blip r:embed="rId1"/>
          <a:stretch/>
        </p:blipFill>
        <p:spPr>
          <a:xfrm>
            <a:off x="2214720" y="371484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14200" y="2143080"/>
            <a:ext cx="8715600" cy="137448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Контрастный душ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Вечером, когда вы  купаетесь в ванне. Согрейтесь  в теплой воде. А потом устройте себе  холодный дождик. Открываете холодную воду, и подставляет воде свои пяточки и ладошк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6" descr="C:\Users\viki\AppData\Local\Microsoft\Windows\Temporary Internet Files\Content.IE5\COU2X6RI\MCj02904460000[1].wmf"/>
          <p:cNvPicPr/>
          <p:nvPr/>
        </p:nvPicPr>
        <p:blipFill>
          <a:blip r:embed="rId2"/>
          <a:stretch/>
        </p:blipFill>
        <p:spPr>
          <a:xfrm>
            <a:off x="5143680" y="3286080"/>
            <a:ext cx="1277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571680" y="357120"/>
            <a:ext cx="8143560" cy="25941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Холодный тазик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ейте в таз холодную воду с температурой не выше +12С и облейте ступни, стойте в ванне. Попросите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C:\Users\viki\AppData\Local\Microsoft\Windows\Temporary Internet Files\Content.IE5\QYIAUPJ1\MCj02321440000[1].wmf"/>
          <p:cNvPicPr/>
          <p:nvPr/>
        </p:nvPicPr>
        <p:blipFill>
          <a:blip r:embed="rId1"/>
          <a:stretch/>
        </p:blipFill>
        <p:spPr>
          <a:xfrm rot="20356200">
            <a:off x="1481040" y="3362400"/>
            <a:ext cx="2556000" cy="2782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3714840" y="3143160"/>
            <a:ext cx="4929120" cy="10087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После процедуры укутайтесь  в теплую простыню не вытирая, а промокая воду, потом оденьтес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357120" y="4500720"/>
            <a:ext cx="8358120" cy="1008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285840" y="1714680"/>
            <a:ext cx="8429400" cy="25333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ще один способ закалки – это прогулки босико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1" i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61440" cy="118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viki\AppData\Local\Microsoft\Windows\Temporary Internet Files\Content.IE5\GMERIPU6\MCj04160140000[1].wmf"/>
          <p:cNvPicPr/>
          <p:nvPr/>
        </p:nvPicPr>
        <p:blipFill>
          <a:blip r:embed="rId2"/>
          <a:stretch/>
        </p:blipFill>
        <p:spPr>
          <a:xfrm flipH="1" rot="16644000">
            <a:off x="1317960" y="476640"/>
            <a:ext cx="68724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viki\AppData\Local\Microsoft\Windows\Temporary Internet Files\Content.IE5\GMERIPU6\MCj04160140000[1].wmf"/>
          <p:cNvPicPr/>
          <p:nvPr/>
        </p:nvPicPr>
        <p:blipFill>
          <a:blip r:embed="rId3"/>
          <a:stretch/>
        </p:blipFill>
        <p:spPr>
          <a:xfrm flipH="1" rot="18561000">
            <a:off x="8033400" y="548280"/>
            <a:ext cx="687600" cy="67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viki\AppData\Local\Microsoft\Windows\Temporary Internet Files\Content.IE5\GMERIPU6\MCj04160140000[1].wmf"/>
          <p:cNvPicPr/>
          <p:nvPr/>
        </p:nvPicPr>
        <p:blipFill>
          <a:blip r:embed="rId4"/>
          <a:stretch/>
        </p:blipFill>
        <p:spPr>
          <a:xfrm flipH="1" rot="8838000">
            <a:off x="7413120" y="1345680"/>
            <a:ext cx="685800" cy="66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viki\AppData\Local\Microsoft\Windows\Temporary Internet Files\Content.IE5\GMERIPU6\MCj04160140000[1].wmf"/>
          <p:cNvPicPr/>
          <p:nvPr/>
        </p:nvPicPr>
        <p:blipFill>
          <a:blip r:embed="rId5"/>
          <a:stretch/>
        </p:blipFill>
        <p:spPr>
          <a:xfrm flipH="1" rot="1618200">
            <a:off x="399960" y="833040"/>
            <a:ext cx="685800" cy="66960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14"/>
          <p:cNvGrpSpPr/>
          <p:nvPr/>
        </p:nvGrpSpPr>
        <p:grpSpPr>
          <a:xfrm>
            <a:off x="395640" y="5828760"/>
            <a:ext cx="8214480" cy="766440"/>
            <a:chOff x="395640" y="5828760"/>
            <a:chExt cx="8214480" cy="76644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5015400">
              <a:off x="1265400" y="598464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5062200">
              <a:off x="2130480" y="6010560"/>
              <a:ext cx="618480" cy="5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303876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402948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4956000">
              <a:off x="504468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11"/>
            <a:stretch/>
          </p:blipFill>
          <p:spPr>
            <a:xfrm rot="4956000">
              <a:off x="603540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12"/>
            <a:stretch/>
          </p:blipFill>
          <p:spPr>
            <a:xfrm rot="4956000">
              <a:off x="711612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13"/>
            <a:stretch/>
          </p:blipFill>
          <p:spPr>
            <a:xfrm rot="4956000">
              <a:off x="801684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4"/>
            <a:stretch/>
          </p:blipFill>
          <p:spPr>
            <a:xfrm rot="5015400">
              <a:off x="365040" y="6006960"/>
              <a:ext cx="61848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zakalen.ru/img/image002.jpg"/>
          <p:cNvPicPr/>
          <p:nvPr/>
        </p:nvPicPr>
        <p:blipFill>
          <a:blip r:embed="rId1"/>
          <a:stretch/>
        </p:blipFill>
        <p:spPr>
          <a:xfrm>
            <a:off x="781200" y="3462480"/>
            <a:ext cx="2058840" cy="303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mirsovetov.ru/images/574/2.jpg"/>
          <p:cNvPicPr/>
          <p:nvPr/>
        </p:nvPicPr>
        <p:blipFill>
          <a:blip r:embed="rId2"/>
          <a:stretch/>
        </p:blipFill>
        <p:spPr>
          <a:xfrm>
            <a:off x="6429240" y="3476520"/>
            <a:ext cx="1928880" cy="294804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sp>
        <p:nvSpPr>
          <p:cNvPr id="133" name="TextBox 5"/>
          <p:cNvSpPr/>
          <p:nvPr/>
        </p:nvSpPr>
        <p:spPr>
          <a:xfrm>
            <a:off x="571680" y="571680"/>
            <a:ext cx="8286480" cy="2288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Воздуш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Их можно применять специально, сняв с себя одежду ( на 20—40 минут) в хорошо проветренной комнате. Прекрасное закаливающее действие оказывают прогулки, игры на свежем воздухе, катание на коньках и лыжах, туриз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http://mirsovetov.ru/images/952/1.jpg"/>
          <p:cNvPicPr/>
          <p:nvPr/>
        </p:nvPicPr>
        <p:blipFill>
          <a:blip r:embed="rId3"/>
          <a:stretch/>
        </p:blipFill>
        <p:spPr>
          <a:xfrm>
            <a:off x="3500280" y="3857760"/>
            <a:ext cx="2381400" cy="2171520"/>
          </a:xfrm>
          <a:prstGeom prst="rect">
            <a:avLst/>
          </a:prstGeom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Бухралтерия</cp:lastModifiedBy>
  <dcterms:modified xsi:type="dcterms:W3CDTF">2017-12-06T06:29:34Z</dcterms:modified>
  <cp:revision>25</cp:revision>
  <dc:subject/>
  <dc:title>Закаливание – первый шаг на пути к здоровью</dc:title>
</cp:coreProperties>
</file>