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7621588" cy="10158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rpps.ru/skachat-fon-dlja-prezentacii.php?id=9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3048120"/>
            <a:ext cx="8407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Shape 21"/>
          <p:cNvSpPr/>
          <p:nvPr/>
        </p:nvSpPr>
        <p:spPr>
          <a:xfrm>
            <a:off x="1440" y="1440"/>
            <a:ext cx="10179360" cy="7664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hape 51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56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2" descr="Фон для презентации листь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0" name="Shape 26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31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hape 36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hape 41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0" y="0"/>
            <a:ext cx="101599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Эпитеты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служат для обрисовки, пояснения, характеристики какого-либо свойства или признака предмета. Они зажигают слово новыми красками, придают ему нужные оттенки и, проникнутые чувством автора, формируют отношения читателя к изображаемому.Помогая увидеть предмет с новой, иногда неожиданной стороны,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сравнение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обогащает, углубляет наши впечатления.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Метафора 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придаёт речи исключительную выразительность. Метафора как бы в сжатом, свёрнутом виде  заключает в себе целую картину и потому позволяет поэту исключительно экономно, наглядно обрисовать предметы и явления и выражать свои мысли и пере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Аллегория 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однозначна, она выражает строго определённый предмет или явление.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Перифраз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придает загадоч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Оксюморон 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создаёт новое понятие или представление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Ирония 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придает комически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96187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396187"/>
                </a:solidFill>
                <a:uFillTx/>
                <a:latin typeface="Arial"/>
              </a:rPr>
              <a:t>Метонимия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отличается от метафоры тем, что </a:t>
            </a:r>
            <a:r>
              <a:rPr b="0" lang="ru-RU" sz="2400" spc="-1" strike="noStrike" u="sng">
                <a:solidFill>
                  <a:srgbClr val="396187"/>
                </a:solidFill>
                <a:uFillTx/>
                <a:latin typeface="Arial"/>
              </a:rPr>
              <a:t>метафора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перефразируется в сравнение при помощи подсобных слов «как бы», вроде», «подобно»; с </a:t>
            </a:r>
            <a:r>
              <a:rPr b="0" lang="ru-RU" sz="2400" spc="-1" strike="noStrike" u="sng">
                <a:solidFill>
                  <a:srgbClr val="396187"/>
                </a:solidFill>
                <a:uFillTx/>
                <a:latin typeface="Arial"/>
              </a:rPr>
              <a:t>метонимией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этого сдел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96187"/>
                </a:solidFill>
                <a:latin typeface="Arial"/>
              </a:rPr>
              <a:t>Антитеза</a:t>
            </a:r>
            <a:r>
              <a:rPr b="0" lang="ru-RU" sz="2400" spc="-1" strike="noStrike">
                <a:solidFill>
                  <a:srgbClr val="396187"/>
                </a:solidFill>
                <a:latin typeface="Arial"/>
              </a:rPr>
              <a:t>. Столкновение контрастных представлений, сочетания противоположных по смыслу понятий позволяет лучше выделить значения слов, усилить образность и яркость художеств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hape 46"/>
          <p:cNvSpPr/>
          <p:nvPr/>
        </p:nvSpPr>
        <p:spPr>
          <a:xfrm>
            <a:off x="1440" y="1440"/>
            <a:ext cx="10179360" cy="758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37800"/>
            <a:ext cx="10159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96187"/>
                </a:solidFill>
                <a:uFillTx/>
                <a:latin typeface="Times New Roman"/>
                <a:ea typeface="Times New Roman"/>
              </a:rPr>
              <a:t>Параллелизм  </a:t>
            </a:r>
            <a:r>
              <a:rPr b="0" lang="ru-RU" sz="1800" spc="-1" strike="noStrike" u="sng">
                <a:solidFill>
                  <a:srgbClr val="396187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подчёркивает сходство или различие явлений, придаёт речи особую выраз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Задача анафоры и эпифоры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- выделить слово, задержать на нём внимание чит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Инверсия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помогает автору резко изменить интонацию, разрушить обыденный, традиционный вид фразы, что придаёт последней большую выраз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Риторические обращения, вопросы , восклицания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придают художественной речи авторскую интонацию: торжественность, восторженность, сердечность, доверительность, иронию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Асиндетон (бессоюзие)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придаёт речи стремительность, выразительность, передаёт убыстрённую интонацию. Благодаря асиндетону речь приобретает большую сжатость, компак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Полисиндетон (многосоюзие) –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способствует</a:t>
            </a: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выделению отдельных слов, замедляет интонацию,усиливает выразительность речи,подчёркивает целеустремленность и единство перечисля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Содержательная функция эллипсиса (пропуск слов)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– в создании эффекта лирической «недоговорённости», нарочитой небрежности, подчёркнутой динамичности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Односоставные предложе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назывные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позволяют лаконично изобразить картины природы, внутреннее состоя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определенно-личные предложения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делают повествование динамичным, живым, непринуждённым, так как всё внимание сосредотачивается на действ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9618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неопределённо-личные предложения подчеркивают неопределённость действующего лица, здесь важно само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9618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обобщённо-личные предложения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– удобная форма передачи собственных наблюдений, воспоминаний, переживаний, при которых автор смотрит на себя как бы со сторо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безличные предложения </a:t>
            </a:r>
            <a:r>
              <a:rPr b="0" lang="ru-RU" sz="18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– это лаконичная форма  обозначения состояния природы или окружающей среды. С помощью безличных предложений можно дать выразительную характеристику физического или нравственного состояния человека. Они делают повествования боле лир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14400"/>
            <a:ext cx="1015992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Двусоставные предложения </a:t>
            </a:r>
            <a:r>
              <a:rPr b="0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(уравновешенная структура : всякому действию соответствует исполнитель). Двусоставные предложения способны передать ровное, без страстных порывов, эмоциональное состояние и созерцательное настроение, в целом элеги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Сложносочинённые предложения </a:t>
            </a:r>
            <a:r>
              <a:rPr b="0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выражают присущие им значения: последовательности, одновременности, чередования, противопост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Сложноподчинённые</a:t>
            </a:r>
            <a:r>
              <a:rPr b="0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 выражают разнообразные смысловые отношения: условные, временные, причинно – следственные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Бессоюзные предложения</a:t>
            </a:r>
            <a:r>
              <a:rPr b="0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, способные передавать различные смысловые отношения, выразительнее сложноподчинённых предложений, потому что им свойственна эмоциональная напряжённость и динамичность, создаваемые за счёт отсутствия союзов (сложноподчиненные предложения более строгие, логичные, они гораздо реже встречаются в поэтических текстах). Бессоюзные предложения позволяют воссоздать сложную картину – зрительную или звуковую - , обладают большой выразительностью и экспресс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6187"/>
                </a:solidFill>
                <a:latin typeface="Times New Roman"/>
                <a:ea typeface="Times New Roman"/>
              </a:rPr>
              <a:t>В поэтическом тексте важно обратить внимание на характеристику предложений по цели высказывания, по интонации, на наличие прямой речи и диалог. Отметить, кому принадлежит прямая речь, каков характер диалога – с реальным лицом или воображаемым собесед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123</cp:lastModifiedBy>
  <dcterms:modified xsi:type="dcterms:W3CDTF">2020-06-03T12:55:22Z</dcterms:modified>
  <cp:revision>12</cp:revision>
  <dc:subject/>
  <dc:title>Презентация PowerPoint</dc:title>
</cp:coreProperties>
</file>