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0D0-6262-450E-90C6-A86FC59D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300-2208-4BDE-A4B5-56DFD83A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DD1-7CCF-4122-AD83-D9CABADA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469-BC6D-47C0-B06A-B43FE930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671-4975-44D5-9187-A1655F0A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ED2-199A-4B22-82AD-E1E26763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694-101C-43D0-9301-8989DFA6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11C-2600-42C0-AF81-0DA68D89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1D2-4011-463D-9D9D-328F06CA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DBE-88FB-444A-9C03-7906E55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206-62CF-4678-92CB-666854E6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341-F86F-4646-8733-E93C784D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2C0B-E74B-425F-A06D-BEC0A0F47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ти-геро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Великий день принято бывать на могилах погибших воинов, возлагать венки, живые цветы тем, кто не вернулся с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F:\9 мая 2008\Апрель_май_2008 1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ечный огонь горит в память о погибших в годы Великой Отечественной вой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metronom1.mp3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0" y="6477120"/>
            <a:ext cx="929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егодно  9 мая устраивают парад военных в честь праздника Поб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F:\9 мая 2008\Апрель_май_2008 1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й стране слышны залпы праздничного салюта в честь тех, кто сражался за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758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1331"/>
          <p:cNvPicPr/>
          <p:nvPr/>
        </p:nvPicPr>
        <p:blipFill>
          <a:blip r:embed="rId1"/>
          <a:stretch/>
        </p:blipFill>
        <p:spPr>
          <a:xfrm>
            <a:off x="1981080" y="0"/>
            <a:ext cx="53485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пасибо нашим прадедам за Побед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009"/>
          <p:cNvPicPr/>
          <p:nvPr/>
        </p:nvPicPr>
        <p:blipFill>
          <a:blip r:embed="rId1"/>
          <a:stretch/>
        </p:blipFill>
        <p:spPr>
          <a:xfrm>
            <a:off x="1692360" y="0"/>
            <a:ext cx="61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010"/>
          <p:cNvPicPr/>
          <p:nvPr/>
        </p:nvPicPr>
        <p:blipFill>
          <a:blip r:embed="rId1"/>
          <a:stretch/>
        </p:blipFill>
        <p:spPr>
          <a:xfrm>
            <a:off x="1981080" y="0"/>
            <a:ext cx="5499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11"/>
          <p:cNvPicPr/>
          <p:nvPr/>
        </p:nvPicPr>
        <p:blipFill>
          <a:blip r:embed="rId1"/>
          <a:stretch/>
        </p:blipFill>
        <p:spPr>
          <a:xfrm>
            <a:off x="1987560" y="98280"/>
            <a:ext cx="586116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012"/>
          <p:cNvPicPr/>
          <p:nvPr/>
        </p:nvPicPr>
        <p:blipFill>
          <a:blip r:embed="rId1"/>
          <a:stretch/>
        </p:blipFill>
        <p:spPr>
          <a:xfrm>
            <a:off x="1752480" y="0"/>
            <a:ext cx="578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Картинка 8 из 6235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293"/>
          <p:cNvPicPr/>
          <p:nvPr/>
        </p:nvPicPr>
        <p:blipFill>
          <a:blip r:embed="rId1"/>
          <a:stretch/>
        </p:blipFill>
        <p:spPr>
          <a:xfrm>
            <a:off x="13716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39584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5613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6858000" y="152280"/>
            <a:ext cx="1600200" cy="533520"/>
          </a:xfrm>
          <a:prstGeom prst="rect">
            <a:avLst/>
          </a:prstGeom>
          <a:solidFill>
            <a:srgbClr val="3b7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 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сенародный праздник. В этом году наш народ отмечает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летие  Великой Поб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день вспоминают тех, кто остался на полях сражений, тех, кто после войны налаживал мирную жизнь. А еще поздравляют тех воинов Великой Отечественной Войны, которые живут сего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F:\9 мая 2008\Апрель_май_2008 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1-15T16:42:24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