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605F-6047-49D6-A7E7-E1BA1F17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E60-52DD-4447-9EDB-A703107D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AAE1-B1F0-40F3-88F0-057C8E57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287-59A9-4E7C-B9C3-4F0D699D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266-5DCD-4FD6-9897-B0FEE52B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F86-873B-41EC-B93D-C74FD8CF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944-C402-4BE8-B0FB-B91ADA38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FCF-EC86-424F-87A7-171C73FE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6F5-032E-4606-99D6-45348F83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3307-0B53-41B5-85A6-DD4D0DD5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71A-A681-4B48-B153-20E589F2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1BE-21D4-49E0-A41D-45941F70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1896-4503-4DBC-8093-CD4B54D9ACB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«Грибы»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ласс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ская О. 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2050920" y="189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горке, и под горк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берёзой и под ёлк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водами и в ря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апках молодцы стоя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трелка вниз 4"/>
          <p:cNvSpPr/>
          <p:nvPr/>
        </p:nvSpPr>
        <p:spPr>
          <a:xfrm>
            <a:off x="3995640" y="2421000"/>
            <a:ext cx="108108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5" descr=""/>
          <p:cNvPicPr/>
          <p:nvPr/>
        </p:nvPicPr>
        <p:blipFill>
          <a:blip r:embed="rId1"/>
          <a:stretch/>
        </p:blipFill>
        <p:spPr>
          <a:xfrm>
            <a:off x="1882800" y="3125880"/>
            <a:ext cx="530712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7020000" y="311040"/>
            <a:ext cx="15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665280" y="31104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едоб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7912080" y="1766880"/>
            <a:ext cx="11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хомо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9"/>
          <p:cNvSpPr/>
          <p:nvPr/>
        </p:nvSpPr>
        <p:spPr>
          <a:xfrm>
            <a:off x="7880400" y="3191040"/>
            <a:ext cx="11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дная поган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7682040" y="5014800"/>
            <a:ext cx="166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нодождевик обыкновенны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3" descr=""/>
          <p:cNvPicPr/>
          <p:nvPr/>
        </p:nvPicPr>
        <p:blipFill>
          <a:blip r:embed="rId1"/>
          <a:stretch/>
        </p:blipFill>
        <p:spPr>
          <a:xfrm>
            <a:off x="3021120" y="4888080"/>
            <a:ext cx="793800" cy="11872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6"/>
          <p:cNvSpPr/>
          <p:nvPr/>
        </p:nvSpPr>
        <p:spPr>
          <a:xfrm>
            <a:off x="365040" y="1697040"/>
            <a:ext cx="11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гри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18" descr=""/>
          <p:cNvPicPr/>
          <p:nvPr/>
        </p:nvPicPr>
        <p:blipFill>
          <a:blip r:embed="rId2"/>
          <a:stretch/>
        </p:blipFill>
        <p:spPr>
          <a:xfrm>
            <a:off x="5883120" y="5014800"/>
            <a:ext cx="1185840" cy="12416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0"/>
          <p:cNvSpPr/>
          <p:nvPr/>
        </p:nvSpPr>
        <p:spPr>
          <a:xfrm>
            <a:off x="182520" y="3406680"/>
            <a:ext cx="11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ич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19" descr=""/>
          <p:cNvPicPr/>
          <p:nvPr/>
        </p:nvPicPr>
        <p:blipFill>
          <a:blip r:embed="rId3"/>
          <a:stretch/>
        </p:blipFill>
        <p:spPr>
          <a:xfrm>
            <a:off x="7245360" y="5151600"/>
            <a:ext cx="1116000" cy="17064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2"/>
          <p:cNvSpPr/>
          <p:nvPr/>
        </p:nvSpPr>
        <p:spPr>
          <a:xfrm>
            <a:off x="0" y="532764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синов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3"/>
          <p:cNvSpPr/>
          <p:nvPr/>
        </p:nvSpPr>
        <p:spPr>
          <a:xfrm>
            <a:off x="3935520" y="1812960"/>
            <a:ext cx="15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Прямая со стрелкой 24"/>
          <p:cNvCxnSpPr/>
          <p:nvPr/>
        </p:nvCxnSpPr>
        <p:spPr>
          <a:xfrm flipH="1" flipV="1">
            <a:off x="2626920" y="680760"/>
            <a:ext cx="1308960" cy="101664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59" name="Прямая со стрелкой 26"/>
          <p:cNvCxnSpPr/>
          <p:nvPr/>
        </p:nvCxnSpPr>
        <p:spPr>
          <a:xfrm flipV="1">
            <a:off x="5092200" y="731160"/>
            <a:ext cx="1313640" cy="9658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pic>
        <p:nvPicPr>
          <p:cNvPr id="60" name="Рисунок 28" descr=""/>
          <p:cNvPicPr/>
          <p:nvPr/>
        </p:nvPicPr>
        <p:blipFill>
          <a:blip r:embed="rId4"/>
          <a:stretch/>
        </p:blipFill>
        <p:spPr>
          <a:xfrm>
            <a:off x="3554280" y="5388120"/>
            <a:ext cx="2328840" cy="1747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Даша\Desktop\0010-027-Smertelno-jadovitye-griby.png"/>
          <p:cNvPicPr/>
          <p:nvPr/>
        </p:nvPicPr>
        <p:blipFill>
          <a:blip r:embed="rId5"/>
          <a:stretch/>
        </p:blipFill>
        <p:spPr>
          <a:xfrm>
            <a:off x="1684440" y="5446800"/>
            <a:ext cx="1869840" cy="1260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"/>
          <p:cNvPicPr/>
          <p:nvPr/>
        </p:nvPicPr>
        <p:blipFill>
          <a:blip r:embed="rId6"/>
          <a:stretch/>
        </p:blipFill>
        <p:spPr>
          <a:xfrm>
            <a:off x="-307800" y="5262480"/>
            <a:ext cx="2127240" cy="1505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07407E-006 C 0.0007 -0.05208 -0.00173 -0.10231 0.01146 -0.15162 C 0.01042 -0.1875 0.01025 -0.22338 0.00851 -0.25949 C 0.00816 -0.26551 0.0033 -0.27963 0.00122 -0.28518 C -0.00746 -0.30995 -0.01198 -0.325 -0.02413 -0.34907 C -0.03489 -0.3699 -0.04878 -0.38726 -0.0625 -0.40555 C -0.08107 -0.43078 -0.05086 -0.39236 -0.07066 -0.42106 C -0.07396 -0.42546 -0.0809 -0.43287 -0.0809 -0.43287 C -0.0835 -0.44305 -0.08819 -0.45301 -0.09218 -0.46226 C -0.09253 -0.46458 -0.09288 -0.46713 -0.09357 -0.46898 C -0.09479 -0.4743 -0.09774 -0.48472 -0.09774 -0.48449 C -0.0993 -0.49583 -0.10104 -0.50625 -0.1033 -0.51713 C -0.10173 -0.55439 -0.09548 -0.58935 -0.12621 -0.6081 C -0.14479 -0.6081 -0.18264 -0.60671 -0.18264 -0.60648 L -0.20503 -0.60324 E">
                                      <p:cBhvr>
                                        <p:cTn id="3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38 -0.01921 C -0.03733 -0.02708 -0.04323 -0.02963 -0.04844 -0.0331 C -0.06493 -0.04329 -0.08177 -0.04954 -0.09705 -0.0625 C -0.12865 -0.08958 -0.16215 -0.11296 -0.19514 -0.13657 C -0.21406 -0.15023 -0.20017 -0.13357 -0.21771 -0.15023 C -0.22865 -0.16042 -0.23854 -0.17292 -0.24913 -0.18333 C -0.25851 -0.20301 -0.26962 -0.2206 -0.28073 -0.23796 C -0.28229 -0.24051 -0.28264 -0.24468 -0.2842 -0.24769 C -0.28576 -0.25093 -0.29497 -0.26366 -0.29618 -0.26528 C -0.30451 -0.27384 -0.31319 -0.28241 -0.3217 -0.29074 C -0.33229 -0.3007 -0.34444 -0.30625 -0.35191 -0.32338 C -0.35347 -0.33287 -0.35469 -0.33843 -0.36024 -0.3412 C -0.36736 -0.34977 -0.36458 -0.34838 -0.37639 -0.34907 C -0.40382 -0.3507 -0.43177 -0.35162 -0.45955 -0.35301 C -0.46632 -0.36435 -0.47396 -0.37523 -0.48351 -0.38032 C -0.49566 -0.37801 -0.49149 -0.37732 -0.50052 -0.37245 C -0.50503 -0.36736 -0.5099 -0.36551 -0.5151 -0.3625 C -0.51563 -0.36273 -0.52483 -0.36389 -0.52587 -0.36852 C -0.52813 -0.38056 -0.52604 -0.40324 -0.53316 -0.41343 C -0.5408 -0.42407 -0.54479 -0.42292 -0.55469 -0.42292 L -0.54635 -0.42685 E">
                                      <p:cBhvr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-4.07407E-006 C 0.01598 -0.00347 0.01372 -0.01064 0.00625 -0.01412 C -0.00139 -0.02777 -0.00972 -0.03981 -0.01736 -0.05347 C -0.025 -0.06736 -0.02968 -0.08657 -0.04062 -0.09305 C -0.05312 -0.10995 -0.06684 -0.12824 -0.08142 -0.13819 C -0.10468 -0.15463 -0.09843 -0.14513 -0.12204 -0.15787 C -0.12604 -0.15995 -0.12934 -0.16481 -0.13298 -0.16643 C -0.14583 -0.17129 -0.15937 -0.17037 -0.17239 -0.17476 C -0.19166 -0.17407 -0.21093 -0.1743 -0.23003 -0.17222 C -0.25156 -0.16967 -0.27569 -0.15578 -0.29757 -0.1493 C -0.36875 -0.15023 -0.44045 -0.15208 -0.5118 -0.15208 C -0.54166 -0.15208 -0.57135 -0.15185 -0.60104 -0.1493 C -0.60538 -0.14907 -0.61354 -0.14398 -0.61354 -0.14351 C -0.61718 -0.14051 -0.62118 -0.13935 -0.62465 -0.13541 C -0.62639 -0.13333 -0.62708 -0.1287 -0.62916 -0.12685 C -0.63576 -0.12083 -0.64444 -0.12662 -0.65121 -0.12106 C -0.65277 -0.1199 -0.65121 -0.11551 -0.65121 -0.11273 L -0.67135 -0.11574 E">
                                      <p:cBhvr>
                                        <p:cTn id="5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-0.09143 C -0.01475 -0.11551 -0.01909 -0.14004 -0.02378 -0.16458 C -0.02274 -0.17685 -0.02344 -0.18958 -0.02066 -0.20115 C -0.01823 -0.21018 -0.00903 -0.22407 -0.00382 -0.23333 C 0.00434 -0.24768 0.01511 -0.25972 0.02483 -0.27222 C 0.03525 -0.28565 0.03924 -0.29514 0.05504 -0.3 C 0.0665 -0.31458 0.05209 -0.29815 0.07031 -0.31088 C 0.07743 -0.31597 0.08507 -0.3243 0.09219 -0.33032 C 0.10052 -0.35254 0.09792 -0.34213 0.09375 -0.38819 C 0.09358 -0.39074 0.0915 -0.39236 0.09028 -0.39467 C 0.08698 -0.40185 0.08038 -0.4162 0.08038 -0.41597 C 0.0757 -0.44467 0.08264 -0.40879 0.07344 -0.43773 C 0.07049 -0.44768 0.06945 -0.45949 0.06684 -0.4699 C 0.06545 -0.48171 0.06302 -0.49282 0.06007 -0.5044 C 0.05747 -0.52893 0.054 -0.55648 0.06181 -0.57963 C 0.06406 -0.58634 0.07066 -0.59907 0.07535 -0.60324 C 0.0783 -0.60578 0.08525 -0.60764 0.08525 -0.6074 C 0.08906 -0.61088 0.09809 -0.61805 0.10209 -0.62268 C 0.11806 -0.64097 0.10643 -0.63078 0.11736 -0.63981 C 0.12795 -0.65764 0.14202 -0.67106 0.15764 -0.68078 C 0.15955 -0.68194 0.16077 -0.68426 0.16268 -0.68495 C 0.16997 -0.68773 0.18472 -0.69143 0.18472 -0.6912 C 0.18785 -0.69421 0.19167 -0.69629 0.19462 -0.7 C 0.19618 -0.70208 0.19757 -0.70509 0.19966 -0.70648 C 0.20695 -0.71157 0.21545 -0.7118 0.22327 -0.71296 C 0.23646 -0.71157 0.2474 -0.70879 0.26025 -0.70879 L 0.29896 -0.71736 E">
                                      <p:cBhvr>
                                        <p:cTn id="6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C 0.02048 -0.03565 0.04167 -0.06944 0.06232 -0.10486 C 0.06996 -0.11852 0.07812 -0.13542 0.08871 -0.14167 C 0.0908 -0.14537 0.09288 -0.14954 0.09514 -0.15324 C 0.0967 -0.15509 0.09896 -0.15555 0.10017 -0.15833 C 0.10243 -0.16342 0.10295 -0.17037 0.10486 -0.17569 C 0.10746 -0.19537 0.10989 -0.21505 0.11667 -0.23194 C 0.11979 -0.25463 0.11979 -0.27616 0.12639 -0.29722 C 0.12934 -0.30694 0.13073 -0.31991 0.13628 -0.32546 C 0.15017 -0.33935 0.14375 -0.33403 0.1559 -0.34236 C 0.16736 -0.3618 0.16198 -0.35509 0.17066 -0.36481 C 0.17396 -0.375 0.175 -0.38403 0.18073 -0.39028 C 0.19062 -0.40185 0.2118 -0.4037 0.22187 -0.40741 C 0.22969 -0.41018 0.23715 -0.4162 0.24479 -0.41875 C 0.26476 -0.42454 0.2842 -0.42778 0.30399 -0.43264 C 0.34705 -0.46018 0.33229 -0.44722 0.41423 -0.44977 C 0.42396 -0.45509 0.43385 -0.45671 0.44375 -0.46088 C 0.45486 -0.48009 0.4493 -0.47569 0.45868 -0.48055 C 0.46649 -0.47639 0.47396 -0.47083 0.4816 -0.46667 C 0.48732 -0.46018 0.49167 -0.4581 0.49809 -0.45555 C 0.51493 -0.46111 0.4993 -0.45231 0.50955 -0.46944 C 0.5125 -0.4743 0.51962 -0.48055 0.51962 -0.48032 C 0.52274 -0.47986 0.52604 -0.47917 0.52934 -0.47824 C 0.5309 -0.47731 0.5342 -0.47546 0.5342 -0.475 L 0.54427 -0.47268 E">
                                      <p:cBhvr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78 -0.11365 C 0.02656 -0.11643 0.02969 -0.11875 0.03194 -0.12222 C 0.03802 -0.13148 0.03785 -0.14629 0.04323 -0.15671 C 0.04687 -0.17176 0.05573 -0.19699 0.0658 -0.20602 C 0.07326 -0.21273 0.08108 -0.21875 0.08837 -0.22546 C 0.0908 -0.22777 0.09219 -0.23194 0.09479 -0.23402 C 0.10121 -0.23958 0.10885 -0.24282 0.1158 -0.24699 C 0.1401 -0.2618 0.15121 -0.26759 0.17708 -0.2706 C 0.20156 -0.27662 0.22639 -0.28078 0.25121 -0.28356 C 0.27049 -0.28819 0.28976 -0.28981 0.30937 -0.29213 C 0.38142 -0.29097 0.45208 -0.28703 0.52378 -0.29004 C 0.52969 -0.29259 0.53368 -0.29652 0.53993 -0.29861 C 0.55156 -0.30856 0.54496 -0.30463 0.57066 -0.30069 C 0.58906 -0.29791 0.60746 -0.28796 0.62535 -0.28148 C 0.63715 -0.27708 0.64566 -0.27824 0.65937 -0.27708 C 0.68507 -0.26527 0.66111 -0.27477 0.71736 -0.2706 C 0.72569 -0.2699 0.73663 -0.26527 0.74479 -0.26412 C 0.76094 -0.25717 0.73802 -0.26852 0.75278 -0.25555 C 0.75469 -0.25393 0.75712 -0.25416 0.75937 -0.25347 C 0.76302 -0.23865 0.75833 -0.25555 0.76406 -0.24051 C 0.76476 -0.23842 0.7658 -0.23402 0.7658 -0.23402 L 0.78663 -0.24051 E">
                                      <p:cBhvr>
                                        <p:cTn id="8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1332000" y="1554120"/>
            <a:ext cx="3117600" cy="38242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"/>
          <p:cNvPicPr/>
          <p:nvPr/>
        </p:nvPicPr>
        <p:blipFill>
          <a:blip r:embed="rId2"/>
          <a:stretch/>
        </p:blipFill>
        <p:spPr>
          <a:xfrm>
            <a:off x="5513400" y="4886280"/>
            <a:ext cx="1036800" cy="14540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"/>
          <p:cNvPicPr/>
          <p:nvPr/>
        </p:nvPicPr>
        <p:blipFill>
          <a:blip r:embed="rId3"/>
          <a:stretch/>
        </p:blipFill>
        <p:spPr>
          <a:xfrm>
            <a:off x="5102280" y="2852640"/>
            <a:ext cx="3573360" cy="24354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7"/>
          <p:cNvSpPr/>
          <p:nvPr/>
        </p:nvSpPr>
        <p:spPr>
          <a:xfrm>
            <a:off x="2163600" y="37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ите белке собрать гри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8" descr=""/>
          <p:cNvPicPr/>
          <p:nvPr/>
        </p:nvPicPr>
        <p:blipFill>
          <a:blip r:embed="rId4"/>
          <a:stretch/>
        </p:blipFill>
        <p:spPr>
          <a:xfrm>
            <a:off x="235080" y="4551480"/>
            <a:ext cx="971280" cy="10573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9" descr=""/>
          <p:cNvPicPr/>
          <p:nvPr/>
        </p:nvPicPr>
        <p:blipFill>
          <a:blip r:embed="rId5"/>
          <a:stretch/>
        </p:blipFill>
        <p:spPr>
          <a:xfrm>
            <a:off x="2722680" y="5557680"/>
            <a:ext cx="895320" cy="10782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"/>
          <p:cNvPicPr/>
          <p:nvPr/>
        </p:nvPicPr>
        <p:blipFill>
          <a:blip r:embed="rId6"/>
          <a:stretch/>
        </p:blipFill>
        <p:spPr>
          <a:xfrm>
            <a:off x="720720" y="5280120"/>
            <a:ext cx="1442880" cy="13208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2" descr=""/>
          <p:cNvPicPr/>
          <p:nvPr/>
        </p:nvPicPr>
        <p:blipFill>
          <a:blip r:embed="rId7"/>
          <a:stretch/>
        </p:blipFill>
        <p:spPr>
          <a:xfrm>
            <a:off x="3419640" y="3782880"/>
            <a:ext cx="1393560" cy="18115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3" descr=""/>
          <p:cNvPicPr/>
          <p:nvPr/>
        </p:nvPicPr>
        <p:blipFill>
          <a:blip r:embed="rId8"/>
          <a:stretch/>
        </p:blipFill>
        <p:spPr>
          <a:xfrm>
            <a:off x="7986600" y="4906800"/>
            <a:ext cx="944640" cy="1300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6" descr=""/>
          <p:cNvPicPr/>
          <p:nvPr/>
        </p:nvPicPr>
        <p:blipFill>
          <a:blip r:embed="rId9"/>
          <a:stretch/>
        </p:blipFill>
        <p:spPr>
          <a:xfrm>
            <a:off x="7589880" y="5710320"/>
            <a:ext cx="793800" cy="549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7" descr=""/>
          <p:cNvPicPr/>
          <p:nvPr/>
        </p:nvPicPr>
        <p:blipFill>
          <a:blip r:embed="rId10"/>
          <a:stretch/>
        </p:blipFill>
        <p:spPr>
          <a:xfrm>
            <a:off x="934920" y="5940360"/>
            <a:ext cx="793800" cy="5493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5" descr=""/>
          <p:cNvPicPr/>
          <p:nvPr/>
        </p:nvPicPr>
        <p:blipFill>
          <a:blip r:embed="rId11"/>
          <a:stretch/>
        </p:blipFill>
        <p:spPr>
          <a:xfrm>
            <a:off x="5238720" y="5940360"/>
            <a:ext cx="7938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4 -0.00857 L 0.08264 -0.23033 C 0.09983 -0.2787 0.13663 -0.32408 0.18108 -0.35556 C 0.23195 -0.39144 0.27882 -0.40463 0.31893 -0.39745 L 0.50556 -0.36991 E">
                                      <p:cBhvr>
                                        <p:cTn id="11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0.12708 -0.15856 C 0.15278 -0.19329 0.19791 -0.22222 0.24618 -0.24028 C 0.30139 -0.26018 0.34826 -0.26435 0.3842 -0.25231 L 0.55469 -0.20069 E">
                                      <p:cBhvr>
                                        <p:cTn id="12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5 -0.02175 L 0.06216 -0.10185 C 0.07605 -0.11828 0.09983 -0.13495 0.12535 -0.14675 C 0.15504 -0.16041 0.18004 -0.16643 0.19914 -0.16504 L 0.28993 -0.15833 E">
                                      <p:cBhvr>
                                        <p:cTn id="127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2163600" y="37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гриб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5" descr=""/>
          <p:cNvPicPr/>
          <p:nvPr/>
        </p:nvPicPr>
        <p:blipFill>
          <a:blip r:embed="rId1"/>
          <a:stretch/>
        </p:blipFill>
        <p:spPr>
          <a:xfrm>
            <a:off x="230040" y="873000"/>
            <a:ext cx="7591680" cy="55659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6"/>
          <p:cNvSpPr/>
          <p:nvPr/>
        </p:nvSpPr>
        <p:spPr>
          <a:xfrm>
            <a:off x="6227640" y="2050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п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6227640" y="2701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мелы (пластин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8"/>
          <p:cNvSpPr/>
          <p:nvPr/>
        </p:nvSpPr>
        <p:spPr>
          <a:xfrm>
            <a:off x="6372360" y="47847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цел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9"/>
          <p:cNvSpPr/>
          <p:nvPr/>
        </p:nvSpPr>
        <p:spPr>
          <a:xfrm>
            <a:off x="6227640" y="5618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н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11"/>
          <p:cNvSpPr/>
          <p:nvPr/>
        </p:nvSpPr>
        <p:spPr>
          <a:xfrm>
            <a:off x="-136440" y="282564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о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ая соединительная линия 13"/>
          <p:cNvSpPr/>
          <p:nvPr/>
        </p:nvSpPr>
        <p:spPr>
          <a:xfrm flipH="1" flipV="1">
            <a:off x="5364000" y="1931760"/>
            <a:ext cx="1224000" cy="230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ая соединительная линия 14"/>
          <p:cNvSpPr/>
          <p:nvPr/>
        </p:nvSpPr>
        <p:spPr>
          <a:xfrm flipH="1" flipV="1">
            <a:off x="4571640" y="2722320"/>
            <a:ext cx="1655640" cy="230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16"/>
          <p:cNvSpPr/>
          <p:nvPr/>
        </p:nvSpPr>
        <p:spPr>
          <a:xfrm flipH="1">
            <a:off x="4211280" y="5041800"/>
            <a:ext cx="25239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18"/>
          <p:cNvSpPr/>
          <p:nvPr/>
        </p:nvSpPr>
        <p:spPr>
          <a:xfrm flipH="1" flipV="1">
            <a:off x="4025520" y="5618160"/>
            <a:ext cx="2522520" cy="231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Левая круглая скобка 19"/>
          <p:cNvSpPr/>
          <p:nvPr/>
        </p:nvSpPr>
        <p:spPr>
          <a:xfrm>
            <a:off x="1763640" y="1413000"/>
            <a:ext cx="385920" cy="3628800"/>
          </a:xfrm>
          <a:custGeom>
            <a:avLst/>
            <a:gdLst>
              <a:gd name="textAreaLeft" fmla="*/ 113400 w 385920"/>
              <a:gd name="textAreaRight" fmla="*/ 386280 w 385920"/>
              <a:gd name="textAreaTop" fmla="*/ 15840 h 3628800"/>
              <a:gd name="textAreaBottom" fmla="*/ 3612960 h 36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6"/>
                  <a:pt x="0" y="191"/>
                </a:cubicBezTo>
                <a:lnTo>
                  <a:pt x="0" y="21409"/>
                </a:lnTo>
                <a:cubicBezTo>
                  <a:pt x="0" y="21505"/>
                  <a:pt x="108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22"/>
          <p:cNvSpPr/>
          <p:nvPr/>
        </p:nvSpPr>
        <p:spPr>
          <a:xfrm>
            <a:off x="6576840" y="38019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23"/>
          <p:cNvSpPr/>
          <p:nvPr/>
        </p:nvSpPr>
        <p:spPr>
          <a:xfrm flipH="1" flipV="1">
            <a:off x="4571640" y="3628800"/>
            <a:ext cx="2376360" cy="345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5T18:27:51Z</dcterms:created>
  <dc:creator>Даша</dc:creator>
  <dc:description/>
  <dc:language>en-US</dc:language>
  <cp:lastModifiedBy>Oksana</cp:lastModifiedBy>
  <dcterms:modified xsi:type="dcterms:W3CDTF">2020-06-04T09:18:30Z</dcterms:modified>
  <cp:revision>4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2f0000000000010290110207f7000400038000</vt:lpwstr>
  </property>
</Properties>
</file>