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.gif" ContentType="image/gif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gif" ContentType="image/gif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3B6-08C7-4D04-A1AF-E85B6E3B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053-A63D-4A05-8D90-B31B60BE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0FCA9-8BEC-4B71-B27E-B80032FD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26F99-51F0-43B6-8785-D32AFD9F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F5CA1-F612-4DC8-9EA1-764CB791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633DE-0FE0-4B76-9BA1-D7A13B58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5581C-290E-4C19-AF82-913152C6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8FA04-F79B-49C5-BE90-E5E13FFE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D740E-E1ED-4DB1-B1B9-9FECD56F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856B5-6D67-4710-8437-AD62813F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5D51F-AB31-4731-99E0-F9E787B3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010AC-D99F-4E13-90A6-76796701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608-64EE-4C1D-878C-213BA0BB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93296-49AF-4563-BEA4-32B984BE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831DD-7C43-43A8-83D0-453D41F0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ECE85-CDE6-4CE5-A718-BBC9C75D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9EBCA-B9C4-4740-B7EB-030828B9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A5100-ED16-4FF6-8B4F-C5428F73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5776D-436D-4C0F-97D7-CD2016BF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CAFF7-286A-4320-B012-1F02B04B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72659-ED36-472D-93FA-9151E0E6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D4118-F9A5-41A2-B9F3-7914072E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B8B3F-68DF-4697-AF8C-9359459A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D0F-E886-4A71-BFD9-74B4CE41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9890B-82A9-4DDD-9F96-920E7026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DA53A-9731-48FC-A31D-0D255FBC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81E99-4CF3-4D23-B5FD-ECA19C9A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AF673-59A7-4002-BB53-326A4A5A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3B88B-45F8-420A-ADD3-711C17E7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950B4-438B-49EF-A98E-E8546C1A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7A24F-2973-4561-B5EE-94324AA3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56642-6516-4963-A0A4-4E739A9A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6AC61-2535-4007-9B56-ABAF75DE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F4B52-D789-494B-8B5A-11F86CF1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164B-4072-4882-9007-93E4EF9F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97DBD-0D74-4680-B667-9C44E921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E9C04-97F5-4793-94E0-9DBB71AA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4AF21-CBBB-401F-8A09-9EBD70F5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E2557-6099-46F4-89F7-B755055E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E9093-6807-41BF-B515-F9A78463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EE179-1ADC-466C-A5B3-BDA3E9E6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F26DE-F3D1-4710-8BE4-865BAC3C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D99CC-7BDF-40B0-8478-CA080FAA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DC3D3-CCAA-497B-9D2F-0A37ECA0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57000-3E36-49F5-B715-77FCCBBB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17A8-F480-4CB2-9F25-85ED01EE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BFDF9-F7FA-4411-86A6-9B72BD1A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3F371-10F7-456B-9334-1E942E53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17C37-5C3F-4C2A-AD1B-A02E4EF3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1320E-9991-4826-8B8F-14C3D6AC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59AA4-A8B5-4481-8F24-D1518BAA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C7F0-A93D-4FD5-8D90-232592EC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B032-39B4-4AE7-9EDD-F81734B3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BF38-5AE9-4E39-AF95-58B78E3A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F013-BDE4-4587-834E-1B7473A9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5D50-611E-4798-92AD-3CC88C6E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66F-D93C-478F-BD60-65B4D149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76A1-0412-4E12-93FF-CAAE3344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AAAE-F93A-4679-8D14-BE639CAA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E77E-3FE6-4B40-BD7A-A485FEF6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7F61-B808-44DF-A7DE-D2CDAA28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13E3-6117-4A01-901E-2B766D00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6CC66-0727-408D-AFC7-64146058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314F4-A288-4BFF-A335-7FA0ED18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58CC-1803-46A3-B435-D66E343C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CEF5A-8D43-48A4-A240-AE18CF33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815C3-17F1-43BB-97A5-D55F0A61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9A1-A88C-4AFB-870A-8A936E21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17AE-3078-44A2-A924-08134954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6447A-AB92-4E31-9010-5103B5BF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B4705-1456-40CC-9A0E-39F9B666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E04A2-038F-4E7E-B571-910D7900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C10A-4494-4115-BC13-618D9CEA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15CBB-7F41-4D13-BD95-37AEF044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DA1E1-582C-44DA-A4AE-0C17D329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D23BF-38BC-4618-BF36-BD001AC3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77C24-F993-4402-AF48-855B28BF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DD368-B302-4BCD-9006-ECB1FFEB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5CC-CF32-49C3-AB9C-710B5911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380D1-6146-4268-A499-0103EDC3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BD5BB-9594-4A34-AE44-652E25EF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504D-9BA6-471B-BE7E-34C255F4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8ED3-3B97-4A7E-9006-04456832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C2CDC-E20B-43E2-942C-2BE43E20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FE253-D05D-4868-B186-192B0E99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CDF05-AF4E-44B6-84BD-2FDB20E8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DB296-3E0E-4EBD-8848-E2247690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C2B9-CD2B-4A93-91C2-E83E52DA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ADFEA-2ADA-4439-B76C-878D9D28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B83-7482-429C-9A4E-705FE4B1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469D0-19DA-4430-B302-B5F94B31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D887E-5752-482B-8874-74EFD4E7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1A5CD-46A6-4C84-A075-7E2E85AD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73C24-E9E4-4B0F-A1C1-502A5BEB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37C1D-9B96-4021-A011-C7FF5071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9B470-68EA-43B7-929D-85DE157F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57447-8C26-4975-B9A0-C992C735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E072B-6C57-4D89-92D2-CDFDA9C2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40908-C0FE-42A9-B6C7-87C534AC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18616-36C2-4193-BD68-685F5829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256-0D81-4666-A414-826918AA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064EB-5DD2-4FBD-A3FF-8CD72631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D2369-3C59-42CE-A0D9-6B2ED3C1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645E7-F8A0-4036-8B28-8B72DD94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BC0EF-FD35-4287-B3D4-FDA1BD6F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B2533-6049-4C0A-98D3-8196B72C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CC6BE-DB01-426E-8C44-14F530FF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C19E3-CBB7-460C-BCF0-411ABE47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0A59A-3667-4557-92D5-A04A8E2C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779FE-5ECB-43CA-B9C9-CE2C212A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BE9D2-36BC-4706-9854-CA56AF01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10E-A0F2-438F-BDB6-33FAE7B0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E7543-15DB-465C-AA1D-2AF39210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41828-23C9-4CFB-AD07-68A1CEA5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2CDBB-1AEF-4AD1-A9B6-9B74A0F3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74C8C-BD21-44C2-8AFE-0C8CF8CD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84F7E-1A06-4D07-AADE-E05F1C56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D5BD7-FBC9-4707-9D96-DFA3361B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C31DE-6B57-42B3-8140-E0DC5ACE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77EA6-E20D-4344-8A0E-BAAA727A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931AE-B2ED-44C7-978A-A5FD60FA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266DE-024B-4F5D-8A58-CC153FE7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72E-C4ED-4F4D-A623-B81BB042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CE746-D45C-47AD-8ED1-F25DFD55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6C53C-42A9-4186-A7B8-0B590731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B4916-63EA-4A55-B0CF-F19EAD35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63040-4859-40E3-AB5E-E5E1821F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5C91B-798C-4D1C-A176-55D1641E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E9A44-0358-4E4E-ACDC-3FE52973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5D8FC-7ECA-4D49-9D34-D25C014A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F14BC-7970-456A-A872-FC10555F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DF7B2-81F4-48C3-9DBD-D41A4037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6AB3A-442F-4060-889A-5DF798C1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9EA-0B46-44DF-8B48-202336D8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B12E9-3B21-44B1-ABD0-20E8DB7A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233FD-00C6-4592-8A76-254F2DB4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18514-9610-4600-9076-E9893011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6FC8E-A57E-456A-A3FE-659EB593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E5EE3-C9B2-4632-B59C-FC3B053C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F1C6A-398C-4729-8F4E-18A43E2B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276A3-36D3-4E0C-B11F-4CCB17DC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B2619-AB42-46CE-A5C1-68EB7F14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1A047-644F-4211-8ECB-20AF8E31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F2936-2E49-442C-BC54-BDD053C3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3E39-E93C-4EC0-9B37-FFDC8E8952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F3AF-642E-48D1-A196-4F11F80C6B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DAA1-6044-4532-AF4A-7B14E0A38E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1C41-B756-4CF8-A38F-CCD910BDAF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85A0-D457-47B2-BF8E-C226008595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BA0F-CD0E-44FA-8BDC-982CD47D0D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C1EB-ADC8-453F-AD6A-5017156A2A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7757-A11D-415B-BAF3-1507E2B3BA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E176-AE93-441F-8D6B-34EBCA7296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F959-5C49-4B54-BA9C-41F31908D8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C244-4D02-42F6-AC94-BB8A407BA9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0B4F-7FCE-4D42-85D2-EF8B03C959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2"/>
          <p:cNvPicPr/>
          <p:nvPr/>
        </p:nvPicPr>
        <p:blipFill>
          <a:blip r:embed="rId1"/>
          <a:stretch/>
        </p:blipFill>
        <p:spPr>
          <a:xfrm>
            <a:off x="4140360" y="2565360"/>
            <a:ext cx="4752720" cy="408168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sp>
        <p:nvSpPr>
          <p:cNvPr id="493" name="Text Box 6"/>
          <p:cNvSpPr/>
          <p:nvPr/>
        </p:nvSpPr>
        <p:spPr>
          <a:xfrm>
            <a:off x="324000" y="4724280"/>
            <a:ext cx="35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WordArt 4"/>
          <p:cNvSpPr txBox="1"/>
          <p:nvPr/>
        </p:nvSpPr>
        <p:spPr>
          <a:xfrm rot="20832600">
            <a:off x="1104840" y="601200"/>
            <a:ext cx="66960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4c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6168000"/>
                </a:gradFill>
                <a:latin typeface="Georgia"/>
              </a:rPr>
              <a:t>Ранимая </a:t>
            </a:r>
            <a:endParaRPr b="1" i="1" lang="en-US" sz="1800" spc="1" strike="noStrike">
              <a:ln w="25560">
                <a:solidFill>
                  <a:srgbClr val="004c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6168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4c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6168000"/>
                </a:gradFill>
                <a:latin typeface="Georgia"/>
              </a:rPr>
              <a:t>тундра</a:t>
            </a:r>
            <a:endParaRPr b="1" i="1" lang="en-US" sz="1800" spc="1" strike="noStrike">
              <a:ln w="25560">
                <a:solidFill>
                  <a:srgbClr val="004c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6168000"/>
              </a:gradFill>
              <a:latin typeface="Georgia"/>
              <a:ea typeface="Georgi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7440" y="4909680"/>
            <a:ext cx="367344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6" descr="tundra-letom80_2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42788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7"/>
          <p:cNvSpPr/>
          <p:nvPr/>
        </p:nvSpPr>
        <p:spPr>
          <a:xfrm>
            <a:off x="4500720" y="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Лето очень короткое и прохлад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5"/>
          <p:cNvSpPr/>
          <p:nvPr/>
        </p:nvSpPr>
        <p:spPr>
          <a:xfrm>
            <a:off x="266760" y="2781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ав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6"/>
          <p:cNvPicPr/>
          <p:nvPr/>
        </p:nvPicPr>
        <p:blipFill>
          <a:blip r:embed="rId1"/>
          <a:stretch/>
        </p:blipFill>
        <p:spPr>
          <a:xfrm>
            <a:off x="5219640" y="1916280"/>
            <a:ext cx="3708360" cy="27241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14" name="WordArt 7"/>
          <p:cNvSpPr txBox="1"/>
          <p:nvPr/>
        </p:nvSpPr>
        <p:spPr>
          <a:xfrm>
            <a:off x="539640" y="189000"/>
            <a:ext cx="79930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родные условия Тундры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5" name="Rectangle 10"/>
          <p:cNvSpPr/>
          <p:nvPr/>
        </p:nvSpPr>
        <p:spPr>
          <a:xfrm>
            <a:off x="222120" y="3645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ечная мерз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1"/>
          <p:cNvSpPr/>
          <p:nvPr/>
        </p:nvSpPr>
        <p:spPr>
          <a:xfrm>
            <a:off x="179280" y="4624560"/>
            <a:ext cx="532944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Суровая зима (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 до – 50</a:t>
            </a:r>
            <a:r>
              <a:rPr b="1" lang="ru-RU" sz="3200" spc="-1" strike="noStrike" baseline="50000">
                <a:solidFill>
                  <a:srgbClr val="660066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2"/>
          <p:cNvSpPr/>
          <p:nvPr/>
        </p:nvSpPr>
        <p:spPr>
          <a:xfrm>
            <a:off x="179280" y="551664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рохладное короткое л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Цветущая тундра"/>
          <p:cNvPicPr/>
          <p:nvPr/>
        </p:nvPicPr>
        <p:blipFill>
          <a:blip r:embed="rId1"/>
          <a:stretch/>
        </p:blipFill>
        <p:spPr>
          <a:xfrm>
            <a:off x="1187280" y="76320"/>
            <a:ext cx="6769440" cy="50767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65160" y="5148360"/>
            <a:ext cx="89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красива тундра весной. Быстро, словно по  взмаху волшебной палочки всё оживает. Многие растения торопятся зацвести, образовать плоды и семена. Ведь через три месяца снег снова укроет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чень красива тундра весной. Быстро, словно по взмаху волшебной палочки всё оживает. Многие растения торопятся зацвести, образовать плоды и семена. Ведь через три месяца снег снова укроет земл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4" descr="ягель"/>
          <p:cNvPicPr/>
          <p:nvPr/>
        </p:nvPicPr>
        <p:blipFill>
          <a:blip r:embed="rId1"/>
          <a:stretch/>
        </p:blipFill>
        <p:spPr>
          <a:xfrm rot="20473800">
            <a:off x="539640" y="2349000"/>
            <a:ext cx="2521080" cy="18925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622" name="Picture 6" descr="кар_ива"/>
          <p:cNvPicPr/>
          <p:nvPr/>
        </p:nvPicPr>
        <p:blipFill>
          <a:blip r:embed="rId2"/>
          <a:stretch/>
        </p:blipFill>
        <p:spPr>
          <a:xfrm rot="1304400">
            <a:off x="6084720" y="2420640"/>
            <a:ext cx="2517840" cy="18763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623" name="Picture 5" descr="кар_бер"/>
          <p:cNvPicPr/>
          <p:nvPr/>
        </p:nvPicPr>
        <p:blipFill>
          <a:blip r:embed="rId3"/>
          <a:stretch/>
        </p:blipFill>
        <p:spPr>
          <a:xfrm>
            <a:off x="3708360" y="1700280"/>
            <a:ext cx="1762200" cy="2349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624" name="WordArt 12"/>
          <p:cNvSpPr txBox="1"/>
          <p:nvPr/>
        </p:nvSpPr>
        <p:spPr>
          <a:xfrm>
            <a:off x="539640" y="1312920"/>
            <a:ext cx="7920000" cy="273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721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Как растения 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приспособились к жизни?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25" name="Text Box 13"/>
          <p:cNvSpPr/>
          <p:nvPr/>
        </p:nvSpPr>
        <p:spPr>
          <a:xfrm>
            <a:off x="611280" y="5157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хи, яг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4"/>
          <p:cNvSpPr/>
          <p:nvPr/>
        </p:nvSpPr>
        <p:spPr>
          <a:xfrm>
            <a:off x="3519360" y="451332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ликовая берё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5"/>
          <p:cNvSpPr/>
          <p:nvPr/>
        </p:nvSpPr>
        <p:spPr>
          <a:xfrm>
            <a:off x="6300720" y="522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ликовая 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6"/>
          <p:cNvSpPr/>
          <p:nvPr/>
        </p:nvSpPr>
        <p:spPr>
          <a:xfrm>
            <a:off x="2050920" y="602136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кие корни, стебли, лист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7" descr="ягель"/>
          <p:cNvPicPr/>
          <p:nvPr/>
        </p:nvPicPr>
        <p:blipFill>
          <a:blip r:embed="rId8"/>
          <a:stretch/>
        </p:blipFill>
        <p:spPr>
          <a:xfrm rot="20473800">
            <a:off x="539640" y="2349000"/>
            <a:ext cx="2521080" cy="18925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630" name="Picture 18" descr="кар_ива"/>
          <p:cNvPicPr/>
          <p:nvPr/>
        </p:nvPicPr>
        <p:blipFill>
          <a:blip r:embed="rId9"/>
          <a:stretch/>
        </p:blipFill>
        <p:spPr>
          <a:xfrm rot="1304400">
            <a:off x="6084720" y="2420640"/>
            <a:ext cx="2517840" cy="18763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631" name="Picture 19" descr="кар_бер"/>
          <p:cNvPicPr/>
          <p:nvPr/>
        </p:nvPicPr>
        <p:blipFill>
          <a:blip r:embed="rId10"/>
          <a:stretch/>
        </p:blipFill>
        <p:spPr>
          <a:xfrm>
            <a:off x="3683160" y="1700280"/>
            <a:ext cx="1761840" cy="2349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2000" fill="hold"/>
                                        <p:tgtEl>
                                          <p:spTgt spid="6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27" dur="2000" fill="hold"/>
                                        <p:tgtEl>
                                          <p:spTgt spid="62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6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2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33" dur="2000" fill="hold"/>
                                        <p:tgtEl>
                                          <p:spTgt spid="62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2000" fill="hold"/>
                                        <p:tgtEl>
                                          <p:spTgt spid="6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8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39" dur="2000" fill="hold"/>
                                        <p:tgtEl>
                                          <p:spTgt spid="62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2000" fill="hold"/>
                                        <p:tgtEl>
                                          <p:spTgt spid="6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62" dur="2000" fill="hold"/>
                                        <p:tgtEl>
                                          <p:spTgt spid="63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6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62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2000" fill="hold"/>
                                        <p:tgtEl>
                                          <p:spTgt spid="6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74" dur="2000" fill="hold"/>
                                        <p:tgtEl>
                                          <p:spTgt spid="63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" descr="C:\Users\Татьяна\Pictures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3" name="Прямоугольник 1"/>
          <p:cNvSpPr/>
          <p:nvPr/>
        </p:nvSpPr>
        <p:spPr>
          <a:xfrm>
            <a:off x="1181160" y="189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ес тундры. Заяцкий ос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2564280" y="6054840"/>
            <a:ext cx="45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рликова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ерё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3" descr="Карликовая берёзка"/>
          <p:cNvPicPr/>
          <p:nvPr/>
        </p:nvPicPr>
        <p:blipFill>
          <a:blip r:embed="rId1"/>
          <a:stretch/>
        </p:blipFill>
        <p:spPr>
          <a:xfrm>
            <a:off x="611280" y="184320"/>
            <a:ext cx="7921440" cy="59403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ликовая берёз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219282"/>
          <p:cNvPicPr/>
          <p:nvPr/>
        </p:nvPicPr>
        <p:blipFill>
          <a:blip r:embed="rId1"/>
          <a:stretch/>
        </p:blipFill>
        <p:spPr>
          <a:xfrm>
            <a:off x="250920" y="189000"/>
            <a:ext cx="8667720" cy="602928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3"/>
          <p:cNvSpPr/>
          <p:nvPr/>
        </p:nvSpPr>
        <p:spPr>
          <a:xfrm>
            <a:off x="3286440" y="6165720"/>
            <a:ext cx="33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лярная 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ярная и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050148_469"/>
          <p:cNvPicPr/>
          <p:nvPr/>
        </p:nvPicPr>
        <p:blipFill>
          <a:blip r:embed="rId1"/>
          <a:stretch/>
        </p:blipFill>
        <p:spPr>
          <a:xfrm>
            <a:off x="1089000" y="96840"/>
            <a:ext cx="7228080" cy="4822920"/>
          </a:xfrm>
          <a:prstGeom prst="rect">
            <a:avLst/>
          </a:prstGeom>
          <a:ln w="0">
            <a:noFill/>
          </a:ln>
        </p:spPr>
      </p:pic>
      <p:sp>
        <p:nvSpPr>
          <p:cNvPr id="641" name="Прямоугольник 2"/>
          <p:cNvSpPr/>
          <p:nvPr/>
        </p:nvSpPr>
        <p:spPr>
          <a:xfrm>
            <a:off x="108000" y="4919760"/>
            <a:ext cx="896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ороткие месяцы лета тундра превращается в цветочный и ягодный сад. Она пестрит яркими венчиками лепестков, огоньками светятся бусинки брусники, клюквы, морошки, голубеет сизоватая голубика. Не хватило бы и вдесятеро большего, чем теперь, населения, чтобы успеть собрать и сберечь урожаи съедобных ягод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click?url=http%3A%2F%2Fwww"/>
          <p:cNvPicPr/>
          <p:nvPr/>
        </p:nvPicPr>
        <p:blipFill>
          <a:blip r:embed="rId1"/>
          <a:stretch/>
        </p:blipFill>
        <p:spPr>
          <a:xfrm>
            <a:off x="539640" y="157320"/>
            <a:ext cx="8224920" cy="6080040"/>
          </a:xfrm>
          <a:prstGeom prst="rect">
            <a:avLst/>
          </a:prstGeom>
          <a:ln w="0">
            <a:noFill/>
          </a:ln>
        </p:spPr>
      </p:pic>
      <p:sp>
        <p:nvSpPr>
          <p:cNvPr id="643" name="Прямоугольник 2"/>
          <p:cNvSpPr/>
          <p:nvPr/>
        </p:nvSpPr>
        <p:spPr>
          <a:xfrm>
            <a:off x="3276720" y="609300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ро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cowberries"/>
          <p:cNvPicPr/>
          <p:nvPr/>
        </p:nvPicPr>
        <p:blipFill>
          <a:blip r:embed="rId1"/>
          <a:stretch/>
        </p:blipFill>
        <p:spPr>
          <a:xfrm>
            <a:off x="558720" y="128520"/>
            <a:ext cx="8045640" cy="6037200"/>
          </a:xfrm>
          <a:prstGeom prst="rect">
            <a:avLst/>
          </a:prstGeom>
          <a:ln w="0">
            <a:noFill/>
          </a:ln>
        </p:spPr>
      </p:pic>
      <p:sp>
        <p:nvSpPr>
          <p:cNvPr id="645" name="Прямоугольник 2"/>
          <p:cNvSpPr/>
          <p:nvPr/>
        </p:nvSpPr>
        <p:spPr>
          <a:xfrm>
            <a:off x="3132000" y="6093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рус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1227240"/>
            <a:ext cx="9144000" cy="5630760"/>
            <a:chOff x="0" y="1227240"/>
            <a:chExt cx="9144000" cy="5630760"/>
          </a:xfrm>
        </p:grpSpPr>
        <p:sp>
          <p:nvSpPr>
            <p:cNvPr id="497" name="AutoShape 3"/>
            <p:cNvSpPr/>
            <p:nvPr/>
          </p:nvSpPr>
          <p:spPr>
            <a:xfrm>
              <a:off x="0" y="1227240"/>
              <a:ext cx="9144000" cy="56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4"/>
            <p:cNvSpPr/>
            <p:nvPr/>
          </p:nvSpPr>
          <p:spPr>
            <a:xfrm>
              <a:off x="0" y="1227240"/>
              <a:ext cx="9144000" cy="5630760"/>
            </a:xfrm>
            <a:prstGeom prst="rect">
              <a:avLst/>
            </a:prstGeom>
            <a:solidFill>
              <a:srgbClr val="0a0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5"/>
            <p:cNvSpPr/>
            <p:nvPr/>
          </p:nvSpPr>
          <p:spPr>
            <a:xfrm>
              <a:off x="31320" y="1248120"/>
              <a:ext cx="9081000" cy="18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31320" y="3109320"/>
              <a:ext cx="9081000" cy="1866600"/>
            </a:xfrm>
            <a:prstGeom prst="rect">
              <a:avLst/>
            </a:pr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7"/>
            <p:cNvSpPr/>
            <p:nvPr/>
          </p:nvSpPr>
          <p:spPr>
            <a:xfrm>
              <a:off x="31320" y="4970160"/>
              <a:ext cx="9081000" cy="186660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8"/>
            <p:cNvSpPr/>
            <p:nvPr/>
          </p:nvSpPr>
          <p:spPr>
            <a:xfrm>
              <a:off x="544680" y="1622520"/>
              <a:ext cx="8278200" cy="4636800"/>
            </a:xfrm>
            <a:prstGeom prst="pie">
              <a:avLst/>
            </a:prstGeom>
            <a:solidFill>
              <a:srgbClr val="28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"/>
            <p:cNvSpPr/>
            <p:nvPr/>
          </p:nvSpPr>
          <p:spPr>
            <a:xfrm>
              <a:off x="1192320" y="3459600"/>
              <a:ext cx="6062760" cy="90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"/>
            <p:cNvSpPr/>
            <p:nvPr/>
          </p:nvSpPr>
          <p:spPr>
            <a:xfrm>
              <a:off x="7274160" y="3594240"/>
              <a:ext cx="302400" cy="34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ctangle 12"/>
          <p:cNvSpPr/>
          <p:nvPr/>
        </p:nvSpPr>
        <p:spPr>
          <a:xfrm>
            <a:off x="60480" y="-14400"/>
            <a:ext cx="736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62116"/>
                </a:solidFill>
                <a:latin typeface="Arial"/>
              </a:rPr>
              <a:t>Новая природная зона приглашает нас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62116"/>
                </a:solidFill>
                <a:latin typeface="Arial"/>
              </a:rPr>
              <a:t>И опять в экспедицию отправляется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3" descr="r4"/>
          <p:cNvPicPr/>
          <p:nvPr/>
        </p:nvPicPr>
        <p:blipFill>
          <a:blip r:embed="rId1"/>
          <a:stretch/>
        </p:blipFill>
        <p:spPr>
          <a:xfrm flipH="1" rot="20426400">
            <a:off x="5981400" y="692280"/>
            <a:ext cx="3162240" cy="126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click?url=http%3A%2F%2Fwww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563400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3"/>
          <p:cNvSpPr/>
          <p:nvPr/>
        </p:nvSpPr>
        <p:spPr>
          <a:xfrm>
            <a:off x="3488040" y="590544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луб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луби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ФОТОработы.ru - Denba76 - дары природы - клюква"/>
          <p:cNvPicPr/>
          <p:nvPr/>
        </p:nvPicPr>
        <p:blipFill>
          <a:blip r:embed="rId1"/>
          <a:stretch/>
        </p:blipFill>
        <p:spPr>
          <a:xfrm>
            <a:off x="550800" y="142920"/>
            <a:ext cx="8124840" cy="6094440"/>
          </a:xfrm>
          <a:prstGeom prst="rect">
            <a:avLst/>
          </a:prstGeom>
          <a:ln w="0">
            <a:noFill/>
          </a:ln>
        </p:spPr>
      </p:pic>
      <p:sp>
        <p:nvSpPr>
          <p:cNvPr id="650" name="Прямоугольник 2"/>
          <p:cNvSpPr/>
          <p:nvPr/>
        </p:nvSpPr>
        <p:spPr>
          <a:xfrm>
            <a:off x="3492360" y="60912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люк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p1006"/>
          <p:cNvPicPr/>
          <p:nvPr/>
        </p:nvPicPr>
        <p:blipFill>
          <a:blip r:embed="rId1"/>
          <a:stretch/>
        </p:blipFill>
        <p:spPr>
          <a:xfrm>
            <a:off x="611280" y="189000"/>
            <a:ext cx="7978680" cy="5983200"/>
          </a:xfrm>
          <a:prstGeom prst="rect">
            <a:avLst/>
          </a:prstGeom>
          <a:ln w="0">
            <a:noFill/>
          </a:ln>
        </p:spPr>
      </p:pic>
      <p:sp>
        <p:nvSpPr>
          <p:cNvPr id="652" name="Прямоугольник 2"/>
          <p:cNvSpPr/>
          <p:nvPr/>
        </p:nvSpPr>
        <p:spPr>
          <a:xfrm>
            <a:off x="3492360" y="60818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ер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Шикша, она же водяника"/>
          <p:cNvPicPr/>
          <p:nvPr/>
        </p:nvPicPr>
        <p:blipFill>
          <a:blip r:embed="rId1"/>
          <a:stretch/>
        </p:blipFill>
        <p:spPr>
          <a:xfrm>
            <a:off x="826920" y="133200"/>
            <a:ext cx="7632720" cy="6105600"/>
          </a:xfrm>
          <a:prstGeom prst="rect">
            <a:avLst/>
          </a:prstGeom>
          <a:ln w="0">
            <a:noFill/>
          </a:ln>
        </p:spPr>
      </p:pic>
      <p:sp>
        <p:nvSpPr>
          <p:cNvPr id="654" name="Прямоугольник 2"/>
          <p:cNvSpPr/>
          <p:nvPr/>
        </p:nvSpPr>
        <p:spPr>
          <a:xfrm>
            <a:off x="3216240" y="61182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дя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Зеленый мох"/>
          <p:cNvPicPr/>
          <p:nvPr/>
        </p:nvPicPr>
        <p:blipFill>
          <a:blip r:embed="rId1"/>
          <a:stretch/>
        </p:blipFill>
        <p:spPr>
          <a:xfrm>
            <a:off x="6670800" y="357120"/>
            <a:ext cx="2365200" cy="321300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3"/>
          <p:cNvSpPr/>
          <p:nvPr/>
        </p:nvSpPr>
        <p:spPr>
          <a:xfrm>
            <a:off x="3843720" y="137952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елёный м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4" descr="Зеленые мхи"/>
          <p:cNvPicPr/>
          <p:nvPr/>
        </p:nvPicPr>
        <p:blipFill>
          <a:blip r:embed="rId2"/>
          <a:stretch/>
        </p:blipFill>
        <p:spPr>
          <a:xfrm>
            <a:off x="128520" y="428760"/>
            <a:ext cx="3724200" cy="27907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5" descr="Торфяное месторождение &quot;Пелецкий Мох&quot;. Тверская область, Жарковский район"/>
          <p:cNvPicPr/>
          <p:nvPr/>
        </p:nvPicPr>
        <p:blipFill>
          <a:blip r:embed="rId3"/>
          <a:stretch/>
        </p:blipFill>
        <p:spPr>
          <a:xfrm>
            <a:off x="324000" y="3794040"/>
            <a:ext cx="3971880" cy="29797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" descr="adt00033_2"/>
          <p:cNvPicPr/>
          <p:nvPr/>
        </p:nvPicPr>
        <p:blipFill>
          <a:blip r:embed="rId4"/>
          <a:stretch/>
        </p:blipFill>
        <p:spPr>
          <a:xfrm>
            <a:off x="4856040" y="3794040"/>
            <a:ext cx="3971880" cy="297972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7"/>
          <p:cNvSpPr/>
          <p:nvPr/>
        </p:nvSpPr>
        <p:spPr>
          <a:xfrm>
            <a:off x="2965320" y="3227400"/>
            <a:ext cx="31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орфяные м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лёный мох. Торфяные мх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3" descr="Пушица Шейхцера. Пуховки плодоносящих растений в июле."/>
          <p:cNvPicPr/>
          <p:nvPr/>
        </p:nvPicPr>
        <p:blipFill>
          <a:blip r:embed="rId1"/>
          <a:stretch/>
        </p:blipFill>
        <p:spPr>
          <a:xfrm>
            <a:off x="108000" y="1200240"/>
            <a:ext cx="5113440" cy="3484440"/>
          </a:xfrm>
          <a:prstGeom prst="rect">
            <a:avLst/>
          </a:prstGeom>
          <a:ln w="0">
            <a:noFill/>
          </a:ln>
        </p:spPr>
      </p:pic>
      <p:sp>
        <p:nvSpPr>
          <p:cNvPr id="663" name="Прямоугольник 2"/>
          <p:cNvSpPr/>
          <p:nvPr/>
        </p:nvSpPr>
        <p:spPr>
          <a:xfrm>
            <a:off x="5867280" y="2133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уш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Novosieversia1.jpg (151757 bytes)"/>
          <p:cNvPicPr/>
          <p:nvPr/>
        </p:nvPicPr>
        <p:blipFill>
          <a:blip r:embed="rId2"/>
          <a:stretch/>
        </p:blipFill>
        <p:spPr>
          <a:xfrm>
            <a:off x="4124160" y="3500280"/>
            <a:ext cx="4840560" cy="3179880"/>
          </a:xfrm>
          <a:prstGeom prst="rect">
            <a:avLst/>
          </a:prstGeom>
          <a:ln w="0">
            <a:noFill/>
          </a:ln>
        </p:spPr>
      </p:pic>
      <p:sp>
        <p:nvSpPr>
          <p:cNvPr id="665" name="Прямоугольник 4"/>
          <p:cNvSpPr/>
          <p:nvPr/>
        </p:nvSpPr>
        <p:spPr>
          <a:xfrm>
            <a:off x="324000" y="4649760"/>
            <a:ext cx="394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осиверсия ледя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ктическая 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Прямоугольник 5"/>
          <p:cNvSpPr/>
          <p:nvPr/>
        </p:nvSpPr>
        <p:spPr>
          <a:xfrm>
            <a:off x="108000" y="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ы тундры скромны и не избалованы солнцем, долго и терпеливо ждут короткого лета, чтобы распуститься всего на 1-2 меся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Ягель"/>
          <p:cNvPicPr/>
          <p:nvPr/>
        </p:nvPicPr>
        <p:blipFill>
          <a:blip r:embed="rId1"/>
          <a:stretch/>
        </p:blipFill>
        <p:spPr>
          <a:xfrm>
            <a:off x="190440" y="189000"/>
            <a:ext cx="5238720" cy="39052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click?url=http%3A%2F%2Fwww"/>
          <p:cNvPicPr/>
          <p:nvPr/>
        </p:nvPicPr>
        <p:blipFill>
          <a:blip r:embed="rId2"/>
          <a:stretch/>
        </p:blipFill>
        <p:spPr>
          <a:xfrm>
            <a:off x="4803840" y="3573360"/>
            <a:ext cx="4209840" cy="3160800"/>
          </a:xfrm>
          <a:prstGeom prst="rect">
            <a:avLst/>
          </a:prstGeom>
          <a:ln w="0">
            <a:noFill/>
          </a:ln>
        </p:spPr>
      </p:pic>
      <p:sp>
        <p:nvSpPr>
          <p:cNvPr id="669" name="Прямоугольник 3"/>
          <p:cNvSpPr/>
          <p:nvPr/>
        </p:nvSpPr>
        <p:spPr>
          <a:xfrm>
            <a:off x="182520" y="5157720"/>
            <a:ext cx="489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гель- олений мо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4" descr="click?url=http%3A%2F%2Fherba"/>
          <p:cNvPicPr/>
          <p:nvPr/>
        </p:nvPicPr>
        <p:blipFill>
          <a:blip r:embed="rId1"/>
          <a:stretch/>
        </p:blipFill>
        <p:spPr>
          <a:xfrm>
            <a:off x="5175360" y="549360"/>
            <a:ext cx="3943080" cy="29588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Tundra"/>
          <p:cNvPicPr/>
          <p:nvPr/>
        </p:nvPicPr>
        <p:blipFill>
          <a:blip r:embed="rId2"/>
          <a:stretch/>
        </p:blipFill>
        <p:spPr>
          <a:xfrm>
            <a:off x="0" y="3784680"/>
            <a:ext cx="4094280" cy="30700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" descr="87444431"/>
          <p:cNvPicPr/>
          <p:nvPr/>
        </p:nvPicPr>
        <p:blipFill>
          <a:blip r:embed="rId3"/>
          <a:stretch/>
        </p:blipFill>
        <p:spPr>
          <a:xfrm>
            <a:off x="4559400" y="3792600"/>
            <a:ext cx="4584600" cy="3052800"/>
          </a:xfrm>
          <a:prstGeom prst="rect">
            <a:avLst/>
          </a:prstGeom>
          <a:ln w="0">
            <a:noFill/>
          </a:ln>
        </p:spPr>
      </p:pic>
      <p:sp>
        <p:nvSpPr>
          <p:cNvPr id="673" name="Прямоугольник 2"/>
          <p:cNvSpPr/>
          <p:nvPr/>
        </p:nvSpPr>
        <p:spPr>
          <a:xfrm>
            <a:off x="-12600" y="0"/>
            <a:ext cx="86169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ак приспособлены растения в тундре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ликовые формы раст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х мелкие листья часто сверну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еты волосяным покровом, име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ковой  нал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ения стелятся по земле, образу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уш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ни расположены близко к поверх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ие растения  в цветущем состоя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носят   замороз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ркая окраска цветов, привлек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ком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ения многолет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4"/>
          <p:cNvSpPr/>
          <p:nvPr/>
        </p:nvSpPr>
        <p:spPr>
          <a:xfrm>
            <a:off x="4649760" y="1420920"/>
            <a:ext cx="571680" cy="57132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6364440" y="4321080"/>
            <a:ext cx="57132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6364440" y="3749760"/>
            <a:ext cx="571320" cy="57132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6364440" y="3178080"/>
            <a:ext cx="57132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6364440" y="2606760"/>
            <a:ext cx="571320" cy="571320"/>
          </a:xfrm>
          <a:prstGeom prst="rect">
            <a:avLst/>
          </a:prstGeom>
          <a:solidFill>
            <a:srgbClr val="ffc000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6364440" y="2035080"/>
            <a:ext cx="57132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4649760" y="4892760"/>
            <a:ext cx="571680" cy="57132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1"/>
          <p:cNvSpPr/>
          <p:nvPr/>
        </p:nvSpPr>
        <p:spPr>
          <a:xfrm>
            <a:off x="5792760" y="4321080"/>
            <a:ext cx="57168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5792760" y="3749760"/>
            <a:ext cx="571680" cy="57132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3"/>
          <p:cNvSpPr/>
          <p:nvPr/>
        </p:nvSpPr>
        <p:spPr>
          <a:xfrm>
            <a:off x="5792760" y="3178080"/>
            <a:ext cx="57168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4"/>
          <p:cNvSpPr/>
          <p:nvPr/>
        </p:nvSpPr>
        <p:spPr>
          <a:xfrm>
            <a:off x="5792760" y="2606760"/>
            <a:ext cx="571680" cy="571320"/>
          </a:xfrm>
          <a:prstGeom prst="rect">
            <a:avLst/>
          </a:prstGeom>
          <a:solidFill>
            <a:srgbClr val="ffc000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5"/>
          <p:cNvSpPr/>
          <p:nvPr/>
        </p:nvSpPr>
        <p:spPr>
          <a:xfrm>
            <a:off x="5792760" y="2035080"/>
            <a:ext cx="57168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6"/>
          <p:cNvSpPr/>
          <p:nvPr/>
        </p:nvSpPr>
        <p:spPr>
          <a:xfrm>
            <a:off x="5792760" y="1463760"/>
            <a:ext cx="571680" cy="57132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7"/>
          <p:cNvSpPr/>
          <p:nvPr/>
        </p:nvSpPr>
        <p:spPr>
          <a:xfrm>
            <a:off x="5792760" y="892080"/>
            <a:ext cx="57168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4649760" y="892080"/>
            <a:ext cx="57168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9"/>
          <p:cNvSpPr/>
          <p:nvPr/>
        </p:nvSpPr>
        <p:spPr>
          <a:xfrm>
            <a:off x="4649760" y="2035080"/>
            <a:ext cx="57168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4649760" y="2606760"/>
            <a:ext cx="571680" cy="571320"/>
          </a:xfrm>
          <a:prstGeom prst="rect">
            <a:avLst/>
          </a:prstGeom>
          <a:solidFill>
            <a:srgbClr val="ffc000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2"/>
          <p:cNvSpPr/>
          <p:nvPr/>
        </p:nvSpPr>
        <p:spPr>
          <a:xfrm>
            <a:off x="5221440" y="2606760"/>
            <a:ext cx="571320" cy="571320"/>
          </a:xfrm>
          <a:prstGeom prst="rect">
            <a:avLst/>
          </a:prstGeom>
          <a:solidFill>
            <a:srgbClr val="ffc000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5221440" y="2035080"/>
            <a:ext cx="57132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5221440" y="1454040"/>
            <a:ext cx="57132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5"/>
          <p:cNvSpPr/>
          <p:nvPr/>
        </p:nvSpPr>
        <p:spPr>
          <a:xfrm>
            <a:off x="4078440" y="3749760"/>
            <a:ext cx="571320" cy="57132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6"/>
          <p:cNvSpPr/>
          <p:nvPr/>
        </p:nvSpPr>
        <p:spPr>
          <a:xfrm>
            <a:off x="4068720" y="3182760"/>
            <a:ext cx="57168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7"/>
          <p:cNvSpPr/>
          <p:nvPr/>
        </p:nvSpPr>
        <p:spPr>
          <a:xfrm>
            <a:off x="3506760" y="4321080"/>
            <a:ext cx="57168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8"/>
          <p:cNvSpPr/>
          <p:nvPr/>
        </p:nvSpPr>
        <p:spPr>
          <a:xfrm>
            <a:off x="3506760" y="3749760"/>
            <a:ext cx="571680" cy="57132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9"/>
          <p:cNvSpPr/>
          <p:nvPr/>
        </p:nvSpPr>
        <p:spPr>
          <a:xfrm>
            <a:off x="3506760" y="3178080"/>
            <a:ext cx="57168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0"/>
          <p:cNvSpPr/>
          <p:nvPr/>
        </p:nvSpPr>
        <p:spPr>
          <a:xfrm>
            <a:off x="3506760" y="892080"/>
            <a:ext cx="57168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1"/>
          <p:cNvSpPr/>
          <p:nvPr/>
        </p:nvSpPr>
        <p:spPr>
          <a:xfrm>
            <a:off x="3506760" y="1463760"/>
            <a:ext cx="571680" cy="57132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2"/>
          <p:cNvSpPr/>
          <p:nvPr/>
        </p:nvSpPr>
        <p:spPr>
          <a:xfrm>
            <a:off x="3506760" y="2035080"/>
            <a:ext cx="57168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3"/>
          <p:cNvSpPr/>
          <p:nvPr/>
        </p:nvSpPr>
        <p:spPr>
          <a:xfrm>
            <a:off x="4068720" y="2030400"/>
            <a:ext cx="57168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4"/>
          <p:cNvSpPr/>
          <p:nvPr/>
        </p:nvSpPr>
        <p:spPr>
          <a:xfrm>
            <a:off x="3506760" y="2606760"/>
            <a:ext cx="571680" cy="571320"/>
          </a:xfrm>
          <a:prstGeom prst="rect">
            <a:avLst/>
          </a:prstGeom>
          <a:solidFill>
            <a:srgbClr val="ffc000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5"/>
          <p:cNvSpPr/>
          <p:nvPr/>
        </p:nvSpPr>
        <p:spPr>
          <a:xfrm>
            <a:off x="4649760" y="3749760"/>
            <a:ext cx="571680" cy="57132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6"/>
          <p:cNvSpPr/>
          <p:nvPr/>
        </p:nvSpPr>
        <p:spPr>
          <a:xfrm>
            <a:off x="5792760" y="4892760"/>
            <a:ext cx="571680" cy="57132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7"/>
          <p:cNvSpPr/>
          <p:nvPr/>
        </p:nvSpPr>
        <p:spPr>
          <a:xfrm>
            <a:off x="4649760" y="4321080"/>
            <a:ext cx="57168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8"/>
          <p:cNvSpPr/>
          <p:nvPr/>
        </p:nvSpPr>
        <p:spPr>
          <a:xfrm>
            <a:off x="4078440" y="4321080"/>
            <a:ext cx="57132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9"/>
          <p:cNvSpPr/>
          <p:nvPr/>
        </p:nvSpPr>
        <p:spPr>
          <a:xfrm>
            <a:off x="5221440" y="3178080"/>
            <a:ext cx="57132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0"/>
          <p:cNvSpPr/>
          <p:nvPr/>
        </p:nvSpPr>
        <p:spPr>
          <a:xfrm>
            <a:off x="4649760" y="3178080"/>
            <a:ext cx="57168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1"/>
          <p:cNvSpPr/>
          <p:nvPr/>
        </p:nvSpPr>
        <p:spPr>
          <a:xfrm>
            <a:off x="3492360" y="8794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2"/>
          <p:cNvSpPr/>
          <p:nvPr/>
        </p:nvSpPr>
        <p:spPr>
          <a:xfrm>
            <a:off x="3635280" y="9507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c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3"/>
          <p:cNvSpPr/>
          <p:nvPr/>
        </p:nvSpPr>
        <p:spPr>
          <a:xfrm>
            <a:off x="3606840" y="14540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4"/>
          <p:cNvSpPr/>
          <p:nvPr/>
        </p:nvSpPr>
        <p:spPr>
          <a:xfrm>
            <a:off x="3606840" y="20289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3635280" y="25495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6"/>
          <p:cNvSpPr/>
          <p:nvPr/>
        </p:nvSpPr>
        <p:spPr>
          <a:xfrm>
            <a:off x="3621240" y="31827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7"/>
          <p:cNvSpPr/>
          <p:nvPr/>
        </p:nvSpPr>
        <p:spPr>
          <a:xfrm>
            <a:off x="3635280" y="37591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8"/>
          <p:cNvSpPr/>
          <p:nvPr/>
        </p:nvSpPr>
        <p:spPr>
          <a:xfrm>
            <a:off x="3635280" y="43354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5"/>
          <p:cNvSpPr/>
          <p:nvPr/>
        </p:nvSpPr>
        <p:spPr>
          <a:xfrm>
            <a:off x="4068720" y="20304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7"/>
          <p:cNvSpPr/>
          <p:nvPr/>
        </p:nvSpPr>
        <p:spPr>
          <a:xfrm>
            <a:off x="4645080" y="8794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8"/>
          <p:cNvSpPr/>
          <p:nvPr/>
        </p:nvSpPr>
        <p:spPr>
          <a:xfrm>
            <a:off x="4111560" y="2635200"/>
            <a:ext cx="503280" cy="503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0"/>
          <p:cNvSpPr/>
          <p:nvPr/>
        </p:nvSpPr>
        <p:spPr>
          <a:xfrm>
            <a:off x="5207040" y="14270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0"/>
          <p:cNvSpPr/>
          <p:nvPr/>
        </p:nvSpPr>
        <p:spPr>
          <a:xfrm>
            <a:off x="4140360" y="20304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1"/>
          <p:cNvSpPr/>
          <p:nvPr/>
        </p:nvSpPr>
        <p:spPr>
          <a:xfrm>
            <a:off x="4140360" y="2536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2"/>
          <p:cNvSpPr/>
          <p:nvPr/>
        </p:nvSpPr>
        <p:spPr>
          <a:xfrm>
            <a:off x="4140360" y="31827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3"/>
          <p:cNvSpPr/>
          <p:nvPr/>
        </p:nvSpPr>
        <p:spPr>
          <a:xfrm>
            <a:off x="4140360" y="37450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74"/>
          <p:cNvSpPr/>
          <p:nvPr/>
        </p:nvSpPr>
        <p:spPr>
          <a:xfrm>
            <a:off x="4168800" y="43354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5"/>
          <p:cNvSpPr/>
          <p:nvPr/>
        </p:nvSpPr>
        <p:spPr>
          <a:xfrm>
            <a:off x="4716360" y="9507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c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6"/>
          <p:cNvSpPr/>
          <p:nvPr/>
        </p:nvSpPr>
        <p:spPr>
          <a:xfrm>
            <a:off x="4702320" y="1411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77"/>
          <p:cNvSpPr/>
          <p:nvPr/>
        </p:nvSpPr>
        <p:spPr>
          <a:xfrm>
            <a:off x="4716360" y="20019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8"/>
          <p:cNvSpPr/>
          <p:nvPr/>
        </p:nvSpPr>
        <p:spPr>
          <a:xfrm>
            <a:off x="4716360" y="25351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9"/>
          <p:cNvSpPr/>
          <p:nvPr/>
        </p:nvSpPr>
        <p:spPr>
          <a:xfrm>
            <a:off x="4745160" y="31827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0"/>
          <p:cNvSpPr/>
          <p:nvPr/>
        </p:nvSpPr>
        <p:spPr>
          <a:xfrm>
            <a:off x="4716360" y="3716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1"/>
          <p:cNvSpPr/>
          <p:nvPr/>
        </p:nvSpPr>
        <p:spPr>
          <a:xfrm>
            <a:off x="4716360" y="43354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2"/>
          <p:cNvSpPr/>
          <p:nvPr/>
        </p:nvSpPr>
        <p:spPr>
          <a:xfrm>
            <a:off x="4716360" y="49118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3"/>
          <p:cNvSpPr/>
          <p:nvPr/>
        </p:nvSpPr>
        <p:spPr>
          <a:xfrm>
            <a:off x="5292720" y="14540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84"/>
          <p:cNvSpPr/>
          <p:nvPr/>
        </p:nvSpPr>
        <p:spPr>
          <a:xfrm>
            <a:off x="5292720" y="2030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85"/>
          <p:cNvSpPr/>
          <p:nvPr/>
        </p:nvSpPr>
        <p:spPr>
          <a:xfrm>
            <a:off x="5292720" y="25351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7"/>
          <p:cNvSpPr/>
          <p:nvPr/>
        </p:nvSpPr>
        <p:spPr>
          <a:xfrm>
            <a:off x="5292720" y="31827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8"/>
          <p:cNvSpPr/>
          <p:nvPr/>
        </p:nvSpPr>
        <p:spPr>
          <a:xfrm>
            <a:off x="5797440" y="303120"/>
            <a:ext cx="571680" cy="57168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9"/>
          <p:cNvSpPr/>
          <p:nvPr/>
        </p:nvSpPr>
        <p:spPr>
          <a:xfrm>
            <a:off x="5797440" y="3031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90"/>
          <p:cNvSpPr/>
          <p:nvPr/>
        </p:nvSpPr>
        <p:spPr>
          <a:xfrm>
            <a:off x="5883120" y="3319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91"/>
          <p:cNvSpPr/>
          <p:nvPr/>
        </p:nvSpPr>
        <p:spPr>
          <a:xfrm>
            <a:off x="5883120" y="8650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2"/>
          <p:cNvSpPr/>
          <p:nvPr/>
        </p:nvSpPr>
        <p:spPr>
          <a:xfrm>
            <a:off x="5869080" y="1425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3"/>
          <p:cNvSpPr/>
          <p:nvPr/>
        </p:nvSpPr>
        <p:spPr>
          <a:xfrm>
            <a:off x="5869080" y="2030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94"/>
          <p:cNvSpPr/>
          <p:nvPr/>
        </p:nvSpPr>
        <p:spPr>
          <a:xfrm>
            <a:off x="5869080" y="2521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5"/>
          <p:cNvSpPr/>
          <p:nvPr/>
        </p:nvSpPr>
        <p:spPr>
          <a:xfrm>
            <a:off x="5854680" y="31543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96"/>
          <p:cNvSpPr/>
          <p:nvPr/>
        </p:nvSpPr>
        <p:spPr>
          <a:xfrm>
            <a:off x="5869080" y="3716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97"/>
          <p:cNvSpPr/>
          <p:nvPr/>
        </p:nvSpPr>
        <p:spPr>
          <a:xfrm>
            <a:off x="5854680" y="43070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8"/>
          <p:cNvSpPr/>
          <p:nvPr/>
        </p:nvSpPr>
        <p:spPr>
          <a:xfrm>
            <a:off x="585468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9"/>
          <p:cNvSpPr/>
          <p:nvPr/>
        </p:nvSpPr>
        <p:spPr>
          <a:xfrm>
            <a:off x="6372360" y="20304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0"/>
          <p:cNvSpPr/>
          <p:nvPr/>
        </p:nvSpPr>
        <p:spPr>
          <a:xfrm>
            <a:off x="6429240" y="20304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1"/>
          <p:cNvSpPr/>
          <p:nvPr/>
        </p:nvSpPr>
        <p:spPr>
          <a:xfrm>
            <a:off x="6415200" y="2549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03"/>
          <p:cNvSpPr/>
          <p:nvPr/>
        </p:nvSpPr>
        <p:spPr>
          <a:xfrm>
            <a:off x="6443640" y="31827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4"/>
          <p:cNvSpPr/>
          <p:nvPr/>
        </p:nvSpPr>
        <p:spPr>
          <a:xfrm>
            <a:off x="6443640" y="37591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05"/>
          <p:cNvSpPr/>
          <p:nvPr/>
        </p:nvSpPr>
        <p:spPr>
          <a:xfrm>
            <a:off x="6429240" y="43210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WordArt 106"/>
          <p:cNvSpPr txBox="1"/>
          <p:nvPr/>
        </p:nvSpPr>
        <p:spPr>
          <a:xfrm rot="5400000">
            <a:off x="-2032920" y="2761560"/>
            <a:ext cx="5904000" cy="1047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Кроссворд</a:t>
            </a:r>
            <a:endParaRPr b="1" i="1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0" name="Picture 108" descr="36_2_25"/>
          <p:cNvPicPr/>
          <p:nvPr/>
        </p:nvPicPr>
        <p:blipFill>
          <a:blip r:embed="rId1"/>
          <a:stretch/>
        </p:blipFill>
        <p:spPr>
          <a:xfrm>
            <a:off x="7272360" y="4986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5"/>
          <p:cNvSpPr/>
          <p:nvPr/>
        </p:nvSpPr>
        <p:spPr>
          <a:xfrm>
            <a:off x="6359400" y="4892760"/>
            <a:ext cx="571680" cy="571320"/>
          </a:xfrm>
          <a:prstGeom prst="rect">
            <a:avLst/>
          </a:prstGeom>
          <a:solidFill>
            <a:srgbClr val="ffffff">
              <a:alpha val="99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5"/>
          <p:cNvSpPr/>
          <p:nvPr/>
        </p:nvSpPr>
        <p:spPr>
          <a:xfrm>
            <a:off x="644364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click?url=http%3A%2F%2Favp"/>
          <p:cNvPicPr/>
          <p:nvPr/>
        </p:nvPicPr>
        <p:blipFill>
          <a:blip r:embed="rId1"/>
          <a:stretch/>
        </p:blipFill>
        <p:spPr>
          <a:xfrm>
            <a:off x="20520" y="0"/>
            <a:ext cx="9123480" cy="587700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2"/>
          <p:cNvSpPr/>
          <p:nvPr/>
        </p:nvSpPr>
        <p:spPr>
          <a:xfrm>
            <a:off x="324000" y="5877000"/>
            <a:ext cx="88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Южнее ледяной зоны, вдоль берегов северных морей протянулась зона тундры. На тысячи  километров с запада на восток – холодная безлесная равнина.</a:t>
            </a:r>
            <a:r>
              <a:rPr b="1" lang="ru-RU" sz="2000" spc="-1" strike="noStrike">
                <a:solidFill>
                  <a:srgbClr val="000000"/>
                </a:solidFill>
                <a:latin typeface="Slant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зима"/>
          <p:cNvPicPr/>
          <p:nvPr/>
        </p:nvPicPr>
        <p:blipFill>
          <a:blip r:embed="rId1"/>
          <a:stretch/>
        </p:blipFill>
        <p:spPr>
          <a:xfrm>
            <a:off x="-181080" y="-133200"/>
            <a:ext cx="9325080" cy="69912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лемм1"/>
          <p:cNvPicPr/>
          <p:nvPr/>
        </p:nvPicPr>
        <p:blipFill>
          <a:blip r:embed="rId2"/>
          <a:stretch/>
        </p:blipFill>
        <p:spPr>
          <a:xfrm>
            <a:off x="-181080" y="4313160"/>
            <a:ext cx="3673440" cy="254484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5"/>
          <p:cNvSpPr/>
          <p:nvPr/>
        </p:nvSpPr>
        <p:spPr>
          <a:xfrm>
            <a:off x="3419640" y="0"/>
            <a:ext cx="572436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има в тундре долгая (7-8 месяце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 очень суровая (мороз до -50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 месяца длится полярная ноч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3" descr="i?id=26387105&amp;tov=8"/>
          <p:cNvPicPr/>
          <p:nvPr/>
        </p:nvPicPr>
        <p:blipFill>
          <a:blip r:embed="rId1"/>
          <a:stretch/>
        </p:blipFill>
        <p:spPr>
          <a:xfrm>
            <a:off x="108000" y="988920"/>
            <a:ext cx="3562200" cy="23767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4930"/>
          <p:cNvPicPr/>
          <p:nvPr/>
        </p:nvPicPr>
        <p:blipFill>
          <a:blip r:embed="rId2"/>
          <a:stretch/>
        </p:blipFill>
        <p:spPr>
          <a:xfrm>
            <a:off x="3780000" y="458640"/>
            <a:ext cx="5278320" cy="3959280"/>
          </a:xfrm>
          <a:prstGeom prst="rect">
            <a:avLst/>
          </a:prstGeom>
          <a:ln w="0">
            <a:noFill/>
          </a:ln>
        </p:spPr>
      </p:pic>
      <p:sp>
        <p:nvSpPr>
          <p:cNvPr id="600" name="Прямоугольник 3"/>
          <p:cNvSpPr/>
          <p:nvPr/>
        </p:nvSpPr>
        <p:spPr>
          <a:xfrm>
            <a:off x="108000" y="4653000"/>
            <a:ext cx="903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ундре постоянно дуют очень сильные ветры. Зимой нередко бывает пурга и скорость ветра достигает 30—40 м в секунду. Взметая тучи снега, сбивая с ног людей и переворачивая нарты с оленями, беснуется пурга на бескрайних просторах тундры. Нередко она продолжается 5 - 6 дней. Ветры сдувают снег с возвышенностей в лощины, долины рек и оголившаяся земля сильно промерзает.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click?url=http%3A%2F%2Fsiv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602" name="Прямоугольник 2"/>
          <p:cNvSpPr/>
          <p:nvPr/>
        </p:nvSpPr>
        <p:spPr>
          <a:xfrm>
            <a:off x="1547640" y="44280"/>
            <a:ext cx="60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 Unicode MS"/>
              </a:rPr>
              <a:t>восход в тундр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3" descr="Надводные растения (осоки, сабельник) на Семеновском озере в городе Мурманс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4" name="Прямоугольник 2"/>
          <p:cNvSpPr/>
          <p:nvPr/>
        </p:nvSpPr>
        <p:spPr>
          <a:xfrm>
            <a:off x="276120" y="57326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короткое лето поверхность тундры оттаивает примерно на 50 см в глубину, а ниже  ( почти 500 м) лежит слой многолетней мерзлоты, который никогда не оттаив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4" descr="tundra_s_vozduha_kolesniko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5" descr="веч_мерзлота"/>
          <p:cNvPicPr/>
          <p:nvPr/>
        </p:nvPicPr>
        <p:blipFill>
          <a:blip r:embed="rId2"/>
          <a:stretch/>
        </p:blipFill>
        <p:spPr>
          <a:xfrm>
            <a:off x="6084720" y="4684680"/>
            <a:ext cx="3059280" cy="217332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9"/>
          <p:cNvSpPr/>
          <p:nvPr/>
        </p:nvSpPr>
        <p:spPr>
          <a:xfrm>
            <a:off x="179280" y="1890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тундре много болот и озёр, а почва влаж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128520" y="616428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й многолетней мерз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1"/>
          <p:cNvSpPr/>
          <p:nvPr/>
        </p:nvSpPr>
        <p:spPr>
          <a:xfrm>
            <a:off x="4932360" y="6237360"/>
            <a:ext cx="863640" cy="360360"/>
          </a:xfrm>
          <a:prstGeom prst="rightArrow">
            <a:avLst>
              <a:gd name="adj1" fmla="val 50000"/>
              <a:gd name="adj2" fmla="val 59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2:06:13Z</dcterms:created>
  <dc:creator>Student07</dc:creator>
  <dc:description/>
  <dc:language>en-US</dc:language>
  <cp:lastModifiedBy>Admin</cp:lastModifiedBy>
  <dcterms:modified xsi:type="dcterms:W3CDTF">2020-06-04T15:31:06Z</dcterms:modified>
  <cp:revision>93</cp:revision>
  <dc:subject/>
  <dc:title>Слайд 1</dc:title>
</cp:coreProperties>
</file>