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92F-48A1-4C6F-A956-93CB1A99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040-2804-4D4E-9246-1001D7B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496-F16C-4DC9-ABB0-25E4860C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0DF-2595-41AC-96DB-7785E171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2DC-3452-4B4B-A9F5-98296F09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45F-BB90-46C5-9E1D-90D5AF8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70C-DDC2-4171-8E8F-AC3B643C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ECE-3694-4928-B4C1-C6CAD031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ECB-2156-4F4B-835F-720AA0A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5E-257E-4140-A317-142B4EA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353-0239-42EB-81AC-097E66D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449-7B1F-4556-B31F-0AA4058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E3D-1AF6-450D-8D61-DCFFC45FD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0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Равнины и гор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9760" y="1773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1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их горах находится гора Эльбрус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Для охраны чего был создан Ильменский заповед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300720" y="431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ине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571920" y="26114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является природный объект, носящий название Ильм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нам знакомиться с природой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040" y="54900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относится к плоским равнин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58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292720" y="4857840"/>
            <a:ext cx="2455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5784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916360" y="3021120"/>
            <a:ext cx="2863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является холмист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178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400640"/>
            <a:ext cx="280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48000" y="292428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протянулись с севера на юг через всю стра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ключены в список Всемирного наслед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5120" y="1606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47636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8498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 России самые высок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назвали «Каменным поясом Земли Русской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0840" y="151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397160" y="4389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995640" y="291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36:07Z</dcterms:modified>
  <cp:revision>712</cp:revision>
  <dc:subject/>
  <dc:title>Слайд 1</dc:title>
</cp:coreProperties>
</file>