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B3D-5685-46A5-9380-0B5B3CDA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48C-0C08-4DC5-85C0-23DDA36E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091-1029-454D-9B64-8EFEC6DA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5BF-D286-43A1-A277-6774F059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238-0844-4896-AFA9-9B9FB838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3B0-38A3-4402-8D6E-DBDFFB45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294-F1C5-4436-BA5F-8A2DD36B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781-675B-4F7B-B3DC-85EEE8D5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A5D-C5E1-469D-B2CC-48489022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91F-21A5-4B07-9720-49ECBF69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0A0-31BC-478D-AA03-9FE898F4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474-E192-4E65-A199-96E8B4FE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667E-3D9E-491B-9BA5-ABE031B05E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57120"/>
            <a:ext cx="87505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0.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Равнины и гор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9760" y="177336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</a:t>
            </a:r>
            <a:r>
              <a:rPr b="0" lang="ru-RU" sz="1100" spc="-1" strike="noStrike">
                <a:solidFill>
                  <a:srgbClr val="7030a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каких горах находится гора Эльбрус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в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ая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Для охраны чего был создан Ильменский заповедни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6300720" y="4313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инер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571920" y="26114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Чем является природный объект, носящий название Ильмен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карта помогает нам знакомиться с природой Росс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тор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040" y="54900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из перечисленных территорий относится к плоским равнин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588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292720" y="4857840"/>
            <a:ext cx="24559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адно-Сибирская  рав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684360" y="4857840"/>
            <a:ext cx="2592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сточно-Европейская  рав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2916360" y="3021120"/>
            <a:ext cx="2863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реднесибирское  плоскогор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62028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из перечисленных территорий является холмист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0840" y="1788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826920" y="4400640"/>
            <a:ext cx="2802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сточно-Европейская  рав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348000" y="2924280"/>
            <a:ext cx="2849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реднесибирское  плоскогор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867280" y="428616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адно-Сибирская  рав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ие горы протянулись с севера на юг через всю стран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ая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в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ие горы включены в список Всемирного наслед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35120" y="16063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1476360" y="4357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849840" y="29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в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ие горы в России самые высок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в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ие горы назвали «Каменным поясом Земли Русской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0840" y="1518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1397160" y="43894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995640" y="29192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ая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6:36:07Z</dcterms:modified>
  <cp:revision>712</cp:revision>
  <dc:subject/>
  <dc:title>Слайд 1</dc:title>
</cp:coreProperties>
</file>