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40E0-8D7E-4D32-8C3A-82ED784B5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8832-5118-43E4-B002-D244D4A3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0D8-4A2E-495E-860A-C21AF57C8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2096-F7BF-49C9-A0A9-63C956F61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D840-6221-42C7-9DD9-0F05CCC7F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33D3-2DA7-4A01-B092-C2B852F9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0708-D59F-482E-A29B-740B8161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D2B-D82D-44AD-BE05-C09C5036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9CE0-7290-4D9F-A863-E9F3E9F8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AF02-D474-46AF-8E1A-9EA6BC5A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08F-505B-4936-8DB9-A5C81504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3653-ECF0-40ED-9189-DCEDDE39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F203-F2FB-4737-AB62-2A29E8ACA1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50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0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Равнины и гор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9760" y="1773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</a:t>
            </a:r>
            <a:r>
              <a:rPr b="0" lang="ru-RU" sz="11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их горах находится гора Эльбрус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Для охраны чего был создан Ильменский заповедник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6300720" y="4313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минера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живо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571920" y="26114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ем является природный объект, носящий название Ильм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зе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о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карта помогает нам знакомиться с природой Росс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тор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ли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9040" y="549000"/>
            <a:ext cx="89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территорий относится к плоским равнинам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158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292720" y="4857840"/>
            <a:ext cx="2455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адно-Сибир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857840"/>
            <a:ext cx="259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сточно-Европей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2916360" y="3021120"/>
            <a:ext cx="2863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реднесибирское  плоског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62028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из перечисленных территорий является холмист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0840" y="1788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826920" y="4400640"/>
            <a:ext cx="2802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сточно-Европей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348000" y="2924280"/>
            <a:ext cx="284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реднесибирское  плоскогор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86728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падно-Сибирская  рав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протянулись с севера на юг через всю страну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включены в список Всемирного наслед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735120" y="16063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476360" y="4357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8498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в России самые высоки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авка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ие горы назвали «Каменным поясом Земли Русской»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20840" y="1518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397160" y="43894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р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995640" y="2919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я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6:36:07Z</dcterms:modified>
  <cp:revision>712</cp:revision>
  <dc:subject/>
  <dc:title>Слайд 1</dc:title>
</cp:coreProperties>
</file>