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C9C-53FF-4319-83B6-575F9615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03E-4298-4869-A2FD-C7B51634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57FD-B796-4335-B0DC-DCF07D13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002-411A-43E6-B909-0C0EF971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19F5-E29C-4E7D-A3B2-ECE49B92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59ED-7858-48F0-B3F8-701D2CD3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88D0-4C03-4567-B903-FDFA77E9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108-D1B7-4FE7-B2A0-5D9C88FA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F2E-BCB1-4373-93E3-59B1AB35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8140-C013-4643-B834-7282CB82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639-7E7F-4BD1-B145-E44478C6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5F5-B9ED-4D1D-A842-4FEEFF3E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C6BA-12A8-4764-AFA2-C2B0F7E383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1.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Моря, озёра и реки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572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600360" y="6165720"/>
            <a:ext cx="200052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Из какого озера вытекает река Нев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5724360" y="4653000"/>
            <a:ext cx="2511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адож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спий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3143160" y="2924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неж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Сколько рек в Росс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2987640" y="3000240"/>
            <a:ext cx="2511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коло 2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коло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5499000" y="4616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коло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08000" y="42336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Что охраняется в Дальневосточном заповедни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1790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867280" y="4630680"/>
            <a:ext cx="2513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часток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часток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141720" y="292428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часток сте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океан не омывает берега Росс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5219640" y="4626000"/>
            <a:ext cx="2511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ндий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х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2627280" y="304632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тлан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Моря какого океана самые холодны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2987640" y="3000240"/>
            <a:ext cx="2736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верного Ледовит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55640" y="4653000"/>
            <a:ext cx="302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х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5364000" y="4616280"/>
            <a:ext cx="2992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тлант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 какому океану относится Балтийское мор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11280" y="1790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826920" y="4622760"/>
            <a:ext cx="2953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тлан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2801880" y="301932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х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499000" y="4616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ндий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 какому океану относится Берингово мор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5364000" y="4653000"/>
            <a:ext cx="2511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х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ндий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2987640" y="2924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верный Ледови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озеро России самое большо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987640" y="3000240"/>
            <a:ext cx="2511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спий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айк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5499000" y="4616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адож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озеро России самое глубоко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920" y="1692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826920" y="4616280"/>
            <a:ext cx="2513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айк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3033720" y="2711520"/>
            <a:ext cx="2665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спий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5499000" y="4616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неж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озеро считается самым крупным в Европ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2987640" y="3000240"/>
            <a:ext cx="2511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адож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спий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499000" y="4616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неж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7:08:29Z</dcterms:modified>
  <cp:revision>712</cp:revision>
  <dc:subject/>
  <dc:title>Слайд 1</dc:title>
</cp:coreProperties>
</file>