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B6A6-BD9A-483D-B372-28B62CA3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A0A3-D513-4CB7-A915-753E9564C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9656-0E7B-4B92-9D3C-AFF6647E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EEE1-2CE0-4DC7-97D3-B8F734AC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3DA3-E34D-4193-A9BD-C78CDEC07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31E4-DF9F-432D-BEB2-31121EF1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B484-A9D4-4BC7-9220-37C7A6915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91B8-FAEE-4D24-9A76-E28FFBD69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F4A-6D7C-47C5-B304-E5627CC4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3EB8-0276-4141-92EE-171A61D0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E758-03B4-49FD-96C3-47552072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1AE0-FCAA-4F03-9C17-566DF6FC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FA366-5DDF-42A4-AF80-686253235F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11.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Моря, озёра и реки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5723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600360" y="6165720"/>
            <a:ext cx="200052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Из какого озера вытекает река Нев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87440" y="1773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5724360" y="4653000"/>
            <a:ext cx="2511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адож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755640" y="465300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спий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3143160" y="2924280"/>
            <a:ext cx="2857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неж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Сколько рек в Росси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87440" y="1773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2987640" y="3000240"/>
            <a:ext cx="2511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коло 2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755640" y="465300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коло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5499000" y="4616280"/>
            <a:ext cx="2857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коло 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108000" y="423360"/>
            <a:ext cx="907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Что охраняется в Дальневосточном заповеднике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95280" y="1790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5867280" y="4630680"/>
            <a:ext cx="2513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часток мо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755640" y="465300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часток ле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3141720" y="2924280"/>
            <a:ext cx="2857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часток степ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океан не омывает берега Росси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87440" y="1773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5219640" y="4626000"/>
            <a:ext cx="2511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ндий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55640" y="465300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их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2627280" y="3046320"/>
            <a:ext cx="2857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тлан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Моря какого океана самые холодны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7440" y="1773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2987640" y="3000240"/>
            <a:ext cx="2736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еверного Ледовит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755640" y="4653000"/>
            <a:ext cx="3024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их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5364000" y="4616280"/>
            <a:ext cx="2992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тлантиче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 какому океану относится Балтийское мор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11280" y="179064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826920" y="4622760"/>
            <a:ext cx="2953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тлан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2801880" y="301932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их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5499000" y="4616280"/>
            <a:ext cx="2857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ндий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 какому океану относится Берингово мор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87440" y="1773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5364000" y="4653000"/>
            <a:ext cx="2511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их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55640" y="465300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ндий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2987640" y="2924280"/>
            <a:ext cx="2857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еверный Ледови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озеро России самое большо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87440" y="1773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2987640" y="3000240"/>
            <a:ext cx="2511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спий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755640" y="465300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айк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5499000" y="4616280"/>
            <a:ext cx="2857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адож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озеро России самое глубоко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50920" y="1692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826920" y="4616280"/>
            <a:ext cx="2513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айк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3033720" y="2711520"/>
            <a:ext cx="2665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спий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5499000" y="4616280"/>
            <a:ext cx="2857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неж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озеро считается самым крупным в Европ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87440" y="17730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2987640" y="3000240"/>
            <a:ext cx="2511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адож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755640" y="4653000"/>
            <a:ext cx="2664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спий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5499000" y="4616280"/>
            <a:ext cx="2857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нежск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17:08:29Z</dcterms:modified>
  <cp:revision>712</cp:revision>
  <dc:subject/>
  <dc:title>Слайд 1</dc:title>
</cp:coreProperties>
</file>