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8D9-1B1F-4410-81F0-EBA6EF29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FBC-A6E0-42B9-8476-6446FF1B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5DD-C878-4C6A-ABA3-A4F4A06F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2EE-857C-422A-8C9B-6551C983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0D9-3F72-4CED-B24C-92126B0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F82-D2E0-4183-9840-8B11E040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6EA-0EE3-4436-A631-0521EFF2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934-5BA5-4E9D-9754-D285217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A66-A6B2-451B-9406-AE46AAF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E96-1014-45A7-BB76-7C94818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7B5-FA62-4F76-8939-1D5DE81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EA6-F55B-4898-86F6-A8AF6BD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5F16-D792-4D23-90F7-DB43070FC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1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, озёра и реки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 какого озера вытекает река Н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14316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рек в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08000" y="4233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то охраняется в Дальневосточном заповедн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867280" y="46306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141720" y="292428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сте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кеан не омывает берега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219640" y="462600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627280" y="304632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 какого океана самые холодны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987640" y="300024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ого Ледови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6530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364000" y="4616280"/>
            <a:ext cx="2992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алтийское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622760"/>
            <a:ext cx="295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801880" y="301932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ерингово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6400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98764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больш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глубо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692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26920" y="4616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033720" y="2711520"/>
            <a:ext cx="2665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считается самым крупным в Европ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08:29Z</dcterms:modified>
  <cp:revision>712</cp:revision>
  <dc:subject/>
  <dc:title>Слайд 1</dc:title>
</cp:coreProperties>
</file>