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57A-A8E0-45D7-B0BE-494F0679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728-9C2B-47C2-A16D-C7211FF8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7FC-0AA1-455C-9275-57B060A2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D38-ABD2-4199-95B8-007989CE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055-73C8-4A4B-80AC-54FEE2B3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889-6286-4E79-9DE7-9F084A1B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997-88FE-4199-80B5-25953F0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B36-E3B4-42F2-AAE6-ED83A56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A3A-BD67-47E5-8141-15F07BD8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CCA-C87D-4FEE-AF32-EF9EFE0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0C1-D265-4759-801E-B819B1E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329-46B9-4AB8-ABB5-4DA4BB9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28B-65AA-4F27-BDAC-DF133AC07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2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она арктических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6430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2373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Где птицы ледяной зоны делают гнёз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1042920" y="45086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090960" y="27813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осстанови пропущенное звено цепи питания: рачки - … - туп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ро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ю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обитает только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6320" y="15667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724360" y="453384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389400" y="284472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состав какого океана входят моря и острова Аркти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755640" y="44578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090960" y="284940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ем занимаются люди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вят ры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53384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ращивают овощи и фр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76720" y="4437000"/>
            <a:ext cx="343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одят крупный рогатый с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можно встретить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364000" y="44863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43160" y="29638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явление несвойственно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132000" y="278136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ое 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84360" y="4533840"/>
            <a:ext cx="302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зоне арктических пусты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5086440" y="4533840"/>
            <a:ext cx="360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84360" y="453384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ль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059280" y="2951280"/>
            <a:ext cx="3290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 мор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птиц обитает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042920" y="443700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г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203640" y="2714760"/>
            <a:ext cx="256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арктическая птица не умеет плав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й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7:44:18Z</dcterms:modified>
  <cp:revision>713</cp:revision>
  <dc:subject/>
  <dc:title>Слайд 1</dc:title>
</cp:coreProperties>
</file>