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CA0C-10B7-47CB-8EB5-F6AA8EF41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0FFE-1C25-4EE5-86CA-924CC6E1B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908B-6984-4033-87E8-ACBDCA1C0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B621-4F21-401E-8D8B-5AAA95ED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84E-6FB1-42E6-A2D0-AEA5073F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5860-E88B-439A-90A0-DDD1CB41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3CE-DDC8-490B-A1B8-8C0F5C5E3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583B-0D4C-4140-9F10-DEFEB911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DF4E-6C6D-4EAB-93AD-74E728957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7AF-6811-47FA-9279-B6AD8579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C184-AA44-4655-B7E0-787585EB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5C-EE2D-477B-B981-26BB288B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C67-5FA6-4E3A-81BD-786D935D8F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2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она арктических пустын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430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Где птицы ледяной зоны делают гнёзд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42920" y="4508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090960" y="27813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кустарник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деревь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осстанови пропущенное звено цепи питания: рачки - … - туп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рос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юл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обитает только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706320" y="156672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724360" y="4533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89400" y="284472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состав какого океана входят моря и острова Аркти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55640" y="44578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90960" y="28494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занимаются люди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вят рыб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53384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ращивают овощи и фрук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76720" y="4437000"/>
            <a:ext cx="343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одят крупный рогатый ск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можно встретить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364000" y="44863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м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43160" y="29638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дув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несвойственно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132000" y="278136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ое 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684360" y="4533840"/>
            <a:ext cx="302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зоне арктических пусты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086440" y="4533840"/>
            <a:ext cx="36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84360" y="4533840"/>
            <a:ext cx="2879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льме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059280" y="2951280"/>
            <a:ext cx="3290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птиц обитает в Аркт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04292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ага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03640" y="2714760"/>
            <a:ext cx="256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б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арктическая птица не умеет плават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132000" y="2781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чай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53384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й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651640" y="443700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п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44:18Z</dcterms:modified>
  <cp:revision>713</cp:revision>
  <dc:subject/>
  <dc:title>Слайд 1</dc:title>
</cp:coreProperties>
</file>