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7C5-3F67-4255-898E-F6E791C6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9EA-42E5-4A3C-855B-13217D7B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A1B-E173-48A9-91E0-90D4A684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180-5C34-4E99-9DD6-5B6C64B2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44D-AE96-4B90-856B-7CE20CF4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4A4-A5EC-45F6-AFC9-F73A02A1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352-6D54-409F-91CD-0E10CA62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27E-EB9B-4FDC-A120-1C3E42BF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B4D-40A5-46E8-9FCC-8E54D821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9A0-6519-44FE-AC0D-FE6F53E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AB6-A810-4AF4-A56D-5C7B103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C12-C13F-4C9B-89CE-24EF841B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C78D-356C-4486-AD09-5F36EBF90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2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Зона арктических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920" y="164304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600360" y="62373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Где птицы ледяной зоны делают гнёз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1042920" y="450864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090960" y="27813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кустар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деревь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осстанови пропущенное звено цепи питания: рачки - … - туп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132000" y="2781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оро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ю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й зверь обитает только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06320" y="15667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724360" y="453384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ый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389400" y="284472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состав какого океана входят моря и острова Аркти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755640" y="44578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ый Ледо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090960" y="284940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Чем занимаются люди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132000" y="2781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овят ры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684360" y="453384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ращивают овощи и фр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076720" y="4437000"/>
            <a:ext cx="3432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зводят крупный рогатый с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можно встретить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364000" y="448632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м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143160" y="29638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е явление несвойственно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132000" y="278136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ое 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684360" y="4533840"/>
            <a:ext cx="302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й заповедник находится в зоне арктических пусты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5086440" y="4533840"/>
            <a:ext cx="3600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684360" y="4533840"/>
            <a:ext cx="2879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ль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059280" y="2951280"/>
            <a:ext cx="3290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ный мор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перечисленных птиц обитает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042920" y="443700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аг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203640" y="2714760"/>
            <a:ext cx="2562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арктическая птица не умеет плава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132000" y="2781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й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уп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7:44:18Z</dcterms:modified>
  <cp:revision>713</cp:revision>
  <dc:subject/>
  <dc:title>Слайд 1</dc:title>
</cp:coreProperties>
</file>