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70A2-16CD-48D4-AF3C-378FF197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E4BA-7597-4397-A7AA-90A86D492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DC48-D294-4BA6-9F87-B7DEDCD43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1579-AF38-43D9-AE80-4BF4BC4A1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8A23-9E59-41B1-BE54-D69E8E015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5F9-1457-4EAA-85EA-736D842F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0FEF-9A29-4C30-B263-5C900E80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1967-94E2-48B3-819E-AC2BA8D9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A57A-8695-4A68-930F-3452BEF81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5424-F275-4309-8ED9-9E0E518B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DAD2-E021-430E-A3EE-450AA26C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4610-54D8-4065-84FE-57443A06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110AF-C5D7-440B-B7C6-6161B3F99F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3. Тун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5726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419640" y="62373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является основным занятием людей в тундр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2987640" y="2703600"/>
            <a:ext cx="3024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оленев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14240" y="428616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ыболов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4932360" y="4286160"/>
            <a:ext cx="3568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растениевод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ставь недостающее звено в цепи питания: мох – северный олень -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968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5867280" y="5084640"/>
            <a:ext cx="2370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вол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471600" y="5229360"/>
            <a:ext cx="234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ре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3332160" y="358632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медве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заповедник находится в тундр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5364000" y="4194000"/>
            <a:ext cx="3089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аймыр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28616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«Остров Врангел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2843280" y="2611440"/>
            <a:ext cx="3786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Дальневосточный морс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время в тундре длится  полярная ноч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3459240" y="314316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2 меся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234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4 меся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6227640" y="428616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6 месяц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е насекомые разводятся летом в тундре в большом количеств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5796000" y="443700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ом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900000" y="4437000"/>
            <a:ext cx="234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чё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3635280" y="306864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або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дерево названо неверн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3203640" y="2925720"/>
            <a:ext cx="2952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арликовая ли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755640" y="450864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арликовая берё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5940360" y="4429080"/>
            <a:ext cx="2632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арликовая 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тица названа неверн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1208160" y="428616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лая вор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3576600" y="261144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лая куроп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227640" y="428616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лая 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тица не питается леммингам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3564000" y="314316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уроп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14240" y="4286160"/>
            <a:ext cx="234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ре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227640" y="428616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с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растение служит основной пищей для северных оленей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21333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5969160" y="5019840"/>
            <a:ext cx="2728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яг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684360" y="5084640"/>
            <a:ext cx="2735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лев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3419640" y="3402000"/>
            <a:ext cx="270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тимофе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тица не занесена в Красную книг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900000" y="4437000"/>
            <a:ext cx="3240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лая куроп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3147840" y="2873520"/>
            <a:ext cx="2848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лый журав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5508720" y="4437000"/>
            <a:ext cx="3063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раснозобая каза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8:10:33Z</dcterms:modified>
  <cp:revision>712</cp:revision>
  <dc:subject/>
  <dc:title>Слайд 1</dc:title>
</cp:coreProperties>
</file>