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B53-9D85-49D6-8071-386420C3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4B7D-072C-4657-ACBD-2F6422B3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71B-AD19-4A61-A5C6-78B774BC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B9E8-B020-442F-A5F8-B5731902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82BF-FA44-4B01-A871-D41E8524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8E5-C372-4E69-8583-5FAD8686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B23-C622-4193-9FE0-1261DC29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7A9-32BB-4C23-B759-42BBA9F4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251-5329-4DF9-B3DB-7C37AF55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1327-A38E-4896-93D5-CC25E1AB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F06A-B864-4146-8D27-ECC08A0A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0E0-5331-4D67-8D00-8953CF0F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C557-A4DD-44FB-827D-AD51C89603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4. Леса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3920" y="155736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571920" y="62373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животное не является хищник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5910120" y="4286160"/>
            <a:ext cx="2368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14240" y="428616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ы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3564000" y="2846520"/>
            <a:ext cx="2346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5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ставь недостающее звено в цепи питания: жёлуди - … - собо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68160" y="22046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3348000" y="377352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ё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684360" y="5084640"/>
            <a:ext cx="2415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ух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6227640" y="5084640"/>
            <a:ext cx="234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ая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тица не водится в лесной зо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6012000" y="450864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лая куропа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684360" y="4581360"/>
            <a:ext cx="2415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едр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3276720" y="2859120"/>
            <a:ext cx="234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ух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ие леса образуют тайг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6156360" y="425304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вой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14240" y="428616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меш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3592440" y="2924280"/>
            <a:ext cx="234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и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дерево не является хвойны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3643200" y="3143160"/>
            <a:ext cx="2368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ш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714240" y="428616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е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154560" y="4286160"/>
            <a:ext cx="234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их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дерево не является теплолюбивы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1187280" y="4365720"/>
            <a:ext cx="2657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иствен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3743280" y="2703600"/>
            <a:ext cx="241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6154560" y="4286160"/>
            <a:ext cx="234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дерево не является широколиственны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643200" y="3143160"/>
            <a:ext cx="2368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с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лё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154560" y="4286160"/>
            <a:ext cx="234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я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растение не встречается в лесах Росс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5867280" y="4286160"/>
            <a:ext cx="2370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яг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714240" y="428616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рё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3398760" y="2852640"/>
            <a:ext cx="234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 какой группе животных относится летя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3387600" y="2852640"/>
            <a:ext cx="2697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в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714240" y="4286160"/>
            <a:ext cx="2994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4995720" y="4286160"/>
            <a:ext cx="3505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есмыкающие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зверь не водится в лесной зо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1187280" y="4354560"/>
            <a:ext cx="2368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емм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3525840" y="300024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урунд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154560" y="4286160"/>
            <a:ext cx="234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ы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8:34:36Z</dcterms:modified>
  <cp:revision>712</cp:revision>
  <dc:subject/>
  <dc:title>Слайд 1</dc:title>
</cp:coreProperties>
</file>