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1A4B-FF79-4F9A-8803-75E193C0C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6D9B-7539-4A8C-95EB-D81132E1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D52-ECA2-45B2-A67B-E8C6B04D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F54-D82B-4008-A07E-A05611BF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846C-8F00-461B-A33B-E3C2C0D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7B41-6C40-41A9-BBA3-7ED7C6DB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CF82-F8FC-44FB-A1C7-0CA6C7FF5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538-1A18-4EEC-A915-727283A69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9D3F-65F6-437F-9032-5B667D86B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5236-95C0-4EA0-A024-6051C83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3001-1DB9-4C3D-958D-D3330DCD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512-946A-459A-9B79-44F0693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AF3F-2D24-434F-9AC7-A649D9231B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4. Леса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557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не является хищник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910120" y="4286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564000" y="2846520"/>
            <a:ext cx="2346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к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65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ставь недостающее звено в цепи питания: жёлуди - … - собо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6816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348000" y="377352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ё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84360" y="508464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227640" y="50846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ая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не в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6012000" y="45086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лая куропа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84360" y="4581360"/>
            <a:ext cx="2415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едр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76720" y="285912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леса образуют тай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156360" y="42530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вой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меша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592440" y="292428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ствен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хвой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ед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х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теплолюбив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187280" y="436572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ствен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743280" y="270360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у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не является широколиствен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лё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я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не встречается в лесах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5867280" y="4286160"/>
            <a:ext cx="2370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яг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ерё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398760" y="285264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й группе животных относится летя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387600" y="2852640"/>
            <a:ext cx="2697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994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4995720" y="4286160"/>
            <a:ext cx="3505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есмыкающие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не в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187280" y="4354560"/>
            <a:ext cx="2368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мм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525840" y="300024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унд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154560" y="4286160"/>
            <a:ext cx="234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ы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8:34:36Z</dcterms:modified>
  <cp:revision>712</cp:revision>
  <dc:subject/>
  <dc:title>Слайд 1</dc:title>
</cp:coreProperties>
</file>