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1C6-96B8-403E-967A-B9C3A747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43E-6C86-492A-B931-89B68CAA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C8B-DAC9-4600-9CBA-894E78FB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64B-D459-4547-B856-D36B4DBE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161-A86D-4C7F-8302-0FB5E96C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060-98C7-4765-AE02-E1D61A3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275-420C-4AA5-AD5C-E1A6B5EE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FE3-3E72-42EB-B5FA-2E59323D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2ED-9A85-4DBC-9359-BA6695A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C4C-D4AA-4899-8DD1-1A58ADB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CB6-8315-4AD0-B3E5-66748C6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2F5-03FB-4A98-A70F-1DD1A19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7AA0-E201-4F14-9EA9-65F122CED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4. Лес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557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не является хищ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910120" y="4286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564000" y="2846520"/>
            <a:ext cx="234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5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ставь недостающее звено в цепи питания: жёлуди - … - соб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816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348000" y="377352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84360" y="508464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227640" y="50846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в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6012000" y="45086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84360" y="458136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ед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76720" y="285912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леса образуют тай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156360" y="42530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в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меш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592440" y="292428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хвой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е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теплолюбив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187280" y="436572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стве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743280" y="270360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широколиствен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я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лесах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5867280" y="4286160"/>
            <a:ext cx="2370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г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398760" y="28526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й группе животных относится летя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387600" y="2852640"/>
            <a:ext cx="2697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994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4995720" y="4286160"/>
            <a:ext cx="3505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смы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не в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187280" y="43545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мм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525840" y="300024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ун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8:34:36Z</dcterms:modified>
  <cp:revision>712</cp:revision>
  <dc:subject/>
  <dc:title>Слайд 1</dc:title>
</cp:coreProperties>
</file>