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2037-0758-4284-825C-E9EACCDE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5A42-7D3F-4C22-BF30-707B62195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AE24-D5A9-4AD3-8896-6D7F3CB6E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1EB0-CC82-41F2-928E-6CE7065F6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085E-9328-4B4C-8575-33B0B092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1DC2-9D12-47E0-86D6-79198196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410F-A917-421B-BBE5-DE0A672A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8C52-EF89-473E-9422-C1419A00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947B-23AA-4B86-8FD5-ABA427EC7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2E66-A795-4236-99CE-E9EC588F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7EE5-C63A-4C00-92B6-64D00533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888C-57DA-4D87-B8E9-74FAD8B4F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C7D9-AE2C-46CC-B662-3946D0F10F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5. Лес и челове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92360" y="6165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верхний слой почв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3600360" y="2852640"/>
            <a:ext cx="19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ёр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1332000" y="4724280"/>
            <a:ext cx="2087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ем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543640" y="4581360"/>
            <a:ext cx="2144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ра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ую погоду нельзя разводить костё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1476360" y="4869000"/>
            <a:ext cx="19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сух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3600360" y="2971800"/>
            <a:ext cx="1943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холодн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084720" y="4581360"/>
            <a:ext cx="1783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сыру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ем нельзя гасить костё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2843280" y="3000240"/>
            <a:ext cx="295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сухими вет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1403280" y="4724280"/>
            <a:ext cx="201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003640" y="4653000"/>
            <a:ext cx="1928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е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йди ошибочное высказыв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1619280" y="3143160"/>
            <a:ext cx="5329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 – место для захоронения отходов челове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55640" y="472428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 – источник древес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148360" y="4581360"/>
            <a:ext cx="3368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ес – дом для растений, животных и гри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За что лес называют «лёгкими планеты»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340240" y="4660920"/>
            <a:ext cx="316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 очистку возд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55640" y="472428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 охрану поч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3059280" y="2936880"/>
            <a:ext cx="3368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за защиту водоё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Для чего вдоль дорог сажают деревь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1619280" y="3143160"/>
            <a:ext cx="5329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на листьях деревьев  оседали пыль и копо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55640" y="472428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водитель не сбился с пу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4716360" y="4581360"/>
            <a:ext cx="38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чтобы вдоль дорог было удобно собирать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тица занесена в Красную кни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319720" y="4581360"/>
            <a:ext cx="1800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ф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826920" y="4724280"/>
            <a:ext cx="194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глух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247920" y="3165480"/>
            <a:ext cx="207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кед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аповедник находится в лесной зон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801720" y="4653000"/>
            <a:ext cx="381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риокско - Террас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463920" y="3117960"/>
            <a:ext cx="2376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аймыр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508720" y="4581360"/>
            <a:ext cx="3008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Дальневосточ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зверь занесён в Красную книгу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564160" y="4579920"/>
            <a:ext cx="273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амурский тиг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4724280"/>
            <a:ext cx="259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276720" y="3219480"/>
            <a:ext cx="2287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месте можно разводить костё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2511360" y="3200400"/>
            <a:ext cx="4032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 выкопанном углубл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55640" y="472428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под деревь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148360" y="4695840"/>
            <a:ext cx="2792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сухой тра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6T07:16:09Z</dcterms:modified>
  <cp:revision>714</cp:revision>
  <dc:subject/>
  <dc:title>Слайд 1</dc:title>
</cp:coreProperties>
</file>