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244-3AE5-4286-BC81-5E5D5D0D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4ED-4DAD-498B-AD1A-3CDCBDD9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A55-3704-4AED-BA5A-69CFF003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1DC-4767-47FA-A511-8EDA1C42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9D0-CC20-4B0F-884F-B356254A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715-4D05-4472-A007-D863DC2D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2B1-B41F-4120-903C-21941746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91A-7094-4C4C-BB5F-31966168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D7A-989E-4753-936A-D081CDC4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519-6B03-45D4-A135-67A00F5C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DC5-8BCD-4615-8D78-EF34646D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EBB-CB71-4954-87B2-36523321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F3EB-2084-427C-9A4E-F037CA7E6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5. Лес и чело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492360" y="6165720"/>
            <a:ext cx="200052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верхний слой почв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00360" y="2852640"/>
            <a:ext cx="19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ёр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1332000" y="4724280"/>
            <a:ext cx="2087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5543640" y="4581360"/>
            <a:ext cx="2144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ую погоду нельзя разводить костё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1476360" y="4869000"/>
            <a:ext cx="19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сух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3600360" y="2971800"/>
            <a:ext cx="19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холод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084720" y="4581360"/>
            <a:ext cx="1783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сыр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ем нельзя гасить костё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2843280" y="300024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ухими вет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1403280" y="4724280"/>
            <a:ext cx="2016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003640" y="4653000"/>
            <a:ext cx="1928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йди ошибочное высказы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1619280" y="3143160"/>
            <a:ext cx="5329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ес – место для захоронения отходов челове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55640" y="472428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ес – источник древес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148360" y="4581360"/>
            <a:ext cx="3368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ес – дом для растений, животных и гри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За что лес называют «лёгкими планеты»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340240" y="4660920"/>
            <a:ext cx="3168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 очистку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55640" y="472428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 охрану поч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3059280" y="2936880"/>
            <a:ext cx="3368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 защиту водоё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Для чего вдоль дорог сажают деревь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1619280" y="3143160"/>
            <a:ext cx="5329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бы на листьях деревьев  оседали пыль и копо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55640" y="472428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бы водитель не сбился с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4716360" y="4581360"/>
            <a:ext cx="38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бы вдоль дорог было удобно собирать 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занесена в Красную книг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319720" y="4581360"/>
            <a:ext cx="1800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826920" y="4724280"/>
            <a:ext cx="194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лух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3247920" y="3165480"/>
            <a:ext cx="207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ед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заповедник находится в лесной зо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801720" y="4653000"/>
            <a:ext cx="3816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окско - Тер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463920" y="3117960"/>
            <a:ext cx="2376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аймыр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508720" y="4581360"/>
            <a:ext cx="3008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альне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зверь занесён в Красную книг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564160" y="4579920"/>
            <a:ext cx="2736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мурский т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826920" y="4724280"/>
            <a:ext cx="2592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урый 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3276720" y="3219480"/>
            <a:ext cx="228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месте можно разводить костё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2511360" y="3200400"/>
            <a:ext cx="4032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выкопанном углуб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55640" y="472428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дерев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148360" y="4695840"/>
            <a:ext cx="2792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сухой тр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6T07:16:09Z</dcterms:modified>
  <cp:revision>714</cp:revision>
  <dc:subject/>
  <dc:title>Слайд 1</dc:title>
</cp:coreProperties>
</file>