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767-BB95-46A9-95AD-24A57D5D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867-8567-4A96-AA50-12AA718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33B-EC4F-48E9-9315-E805A70E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48E-2D2C-45C0-9F95-147179AD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8B1-EB48-4173-8856-CF38880A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5AC-4F4D-44CD-AE02-7E8CC48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807-2241-461B-B262-5DC8741F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7CD-0833-4C12-9070-11F79DAA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02F-D350-4D5E-BCC7-7A79393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0ED-A235-4C8F-A5D7-45C878E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BB6-9401-4220-AD2D-144402A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59E-1CE2-4447-AD84-E3737701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6B9-E3F6-42E7-A4B0-DD34F580E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5. Лес и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92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ерхний слой поч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00360" y="285264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ё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332000" y="4724280"/>
            <a:ext cx="2087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543640" y="4581360"/>
            <a:ext cx="214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ую погоду нельзя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476360" y="48690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ух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600360" y="29718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холод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84720" y="4581360"/>
            <a:ext cx="178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ы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м нельзя гас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843280" y="300024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ими в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403280" y="4724280"/>
            <a:ext cx="20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03640" y="465300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йди ошибочное 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место для захоронения отходов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источник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148360" y="458136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дом для растений, животных и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а что лес называют «лёгкими планеты»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40240" y="4660920"/>
            <a:ext cx="316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чистку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храну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059280" y="293688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защиту водоё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Для чего вдоль дорог сажают деревь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на листьях деревьев  оседали пыль и коп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72428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одитель не сбился с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4716360" y="4581360"/>
            <a:ext cx="38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доль дорог было удобно собирать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19720" y="4581360"/>
            <a:ext cx="18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194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47920" y="3165480"/>
            <a:ext cx="207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801720" y="4653000"/>
            <a:ext cx="38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 - Тер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463920" y="31179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508720" y="4581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занесён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64160" y="457992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мурский 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76720" y="3219480"/>
            <a:ext cx="228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месте можно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511360" y="3200400"/>
            <a:ext cx="403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выкопанном углуб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148360" y="4695840"/>
            <a:ext cx="279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сухой тр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7:16:09Z</dcterms:modified>
  <cp:revision>714</cp:revision>
  <dc:subject/>
  <dc:title>Слайд 1</dc:title>
</cp:coreProperties>
</file>