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D66-68A4-45CA-BF49-B7056329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05F-E580-491B-955F-34D591F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3B3-B6F1-443A-AD62-EC035F8C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474-245C-427E-A83F-5E9F98FB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7F3-683F-4756-8078-97AF4B1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65D-CB5C-4716-A847-6548E96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08B-A5C1-4238-BB39-C95D5993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8C9-147C-4206-88C1-51D4471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817-1A62-4869-AF05-5951326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8CA-1617-4417-B11C-F40532D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AC8-3F75-4859-9621-FFE4AC2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D72-E5E0-434E-BE9C-2C1D400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D6E-F393-4079-AB29-87F0E49DE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6. Зона степ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826920" y="450864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548160" y="2987640"/>
            <a:ext cx="2201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365720"/>
            <a:ext cx="2271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С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журавль обитает в степ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508720" y="4229280"/>
            <a:ext cx="2347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С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460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74840" y="285264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ЫЙ ЖУРАВ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тепные птицы устраивают гнёз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419640" y="270360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37832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651640" y="437832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лето быв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651640" y="427032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дожд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265560" y="26877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лодн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является ветер – сухов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843280" y="2703600"/>
            <a:ext cx="316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горя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тёп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03640" y="4286160"/>
            <a:ext cx="3497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хол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травянистое растение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286160"/>
            <a:ext cx="222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ЮЦ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охраняемых птиц обит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651640" y="4286160"/>
            <a:ext cx="251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КА-МАНДАР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780000" y="2693880"/>
            <a:ext cx="2193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298680" y="2924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СТЕ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ХАВОР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52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427560" y="472428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КО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900000" y="292428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37236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птицу называют степным великан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О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17:50Z</dcterms:modified>
  <cp:revision>714</cp:revision>
  <dc:subject/>
  <dc:title>Слайд 1</dc:title>
</cp:coreProperties>
</file>