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DD79-56C6-4D04-B6F0-EE237725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4656-FE25-4386-92B7-C24258AF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C6C2-3228-4011-8C5D-13BACFA2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AA4D-6757-49E9-9E8C-2782E3169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ED5-6643-4236-A751-7752137A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50F-8490-4E6C-AAE2-BBDF39BDA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B1F4-2172-49C6-BDA1-D0A90385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B686-3E0F-4921-9721-44CE120A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919-49DA-4607-86B5-5F3D9C0E4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42BE-D8CB-48B6-B5E9-8DD90554F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E738-0834-40C3-9B40-44C0BF98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45D9-6488-4B22-BA2A-2A1B2B06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C85F-1A14-411B-A1E3-5EFF768A70D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6. Зона степ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826920" y="450864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548160" y="2987640"/>
            <a:ext cx="2201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365720"/>
            <a:ext cx="2271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СЛ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журавль обитает в степ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508720" y="4229280"/>
            <a:ext cx="2347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С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460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74840" y="285264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ЫЙ ЖУРАВ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тепные птицы устраивают гнёз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419640" y="270360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378320"/>
            <a:ext cx="2705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651640" y="437832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лето быв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651640" y="4270320"/>
            <a:ext cx="2441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ёплое и дожд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265560" y="26877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лодное и засушлив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является ветер – сухове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843280" y="2703600"/>
            <a:ext cx="316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горяч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тёпл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03640" y="4286160"/>
            <a:ext cx="3497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им и холод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травянистое растение не води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286160"/>
            <a:ext cx="222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ЮЦЕР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А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охраняемых птиц обитает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651640" y="4286160"/>
            <a:ext cx="251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КА-МАНДАРИ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780000" y="2693880"/>
            <a:ext cx="2193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Р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298680" y="2924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СТЕЛЬ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Р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ХАВОРОН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степ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52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427560" y="472428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КОЛЬ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900000" y="292428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ЬП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37236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птицу называют степным великан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ОФ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А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ПНОЙ ОРЁ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17:50Z</dcterms:modified>
  <cp:revision>714</cp:revision>
  <dc:subject/>
  <dc:title>Слайд 1</dc:title>
</cp:coreProperties>
</file>