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BFF-7C62-4B3E-8F73-BE6DDD8D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974-8009-4268-B58B-8B13CFA1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145-5EEB-4DCD-B48B-882D2676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28D-72DE-4B3F-8AE1-9F5EF797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A13-BBA0-4046-8E38-42A18174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C75-A18E-4B44-972E-491BD033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1DF-D940-4B3D-B0E2-B172ED91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186-992D-479B-9FB5-333A6DBF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2FB-932B-4576-B364-B2F3A7CD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163-D9D9-45C0-B3A4-91DFA541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E28-E4A6-4423-A14A-946BB1FD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24F-2EF2-4D7D-97EB-2F1482C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479E-CCE6-4787-9327-712467F19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6. Зона степ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грызун не водится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826920" y="4508640"/>
            <a:ext cx="2297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РУНД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3548160" y="2987640"/>
            <a:ext cx="2201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М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516720" y="4365720"/>
            <a:ext cx="22716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С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журавль обитает в степной зо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508720" y="4229280"/>
            <a:ext cx="23479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РАС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4606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174840" y="2852640"/>
            <a:ext cx="2705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РЫЙ ЖУРАВ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Где степные птицы устраивают гнёз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419640" y="2703600"/>
            <a:ext cx="2441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378320"/>
            <a:ext cx="2705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ДЕРЕВЬ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651640" y="4378320"/>
            <a:ext cx="2849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КУСТАР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лето бывает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5651640" y="4270320"/>
            <a:ext cx="2441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ёплое и засушл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ёплое и дождл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3265560" y="2687760"/>
            <a:ext cx="2415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лодное и засушл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м является ветер – сухов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2843280" y="2703600"/>
            <a:ext cx="3162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им и горяч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им и тёпл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003640" y="4286160"/>
            <a:ext cx="3497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им и холод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травянистое растение не водится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1187280" y="4286160"/>
            <a:ext cx="2225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ЮЦЕ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708360" y="30002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В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П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из охраняемых птиц обитает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651640" y="4286160"/>
            <a:ext cx="2512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РО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КА-МАНДАР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780000" y="2693880"/>
            <a:ext cx="21938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является хищник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298680" y="2924280"/>
            <a:ext cx="2513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УСТЕЛЬ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РАЯ КУРОП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796000" y="4286160"/>
            <a:ext cx="270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ПНОЙ ХАВОРО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не встречается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523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427560" y="4724280"/>
            <a:ext cx="2944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ЛОКОЛЬ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900000" y="292428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372360" y="2852640"/>
            <a:ext cx="2128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ую птицу называют степным великан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643200" y="3143160"/>
            <a:ext cx="2224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РО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РА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300720" y="4286160"/>
            <a:ext cx="220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ПНОЙ ОРЁ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6T08:17:50Z</dcterms:modified>
  <cp:revision>714</cp:revision>
  <dc:subject/>
  <dc:title>Слайд 1</dc:title>
</cp:coreProperties>
</file>