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63F-47BC-4585-B604-7F828677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DEC-D11C-43F3-837A-278A1730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228-A296-4C44-AE8B-61CA9381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D3B-2ADF-4FFB-ABD8-C11E1380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B36-525F-4B62-8E1B-CB033B28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E8A-3B3F-432D-9EDB-C32E4EA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DE6-7AEC-4279-9A31-D03545B6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954-32C4-4691-A661-55EBE8A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53F-F8AF-4F83-8B4B-472B2F2A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4D7-A1F5-4447-BD1F-B8B58046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D0B-8924-4049-94D7-B675A346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867-3E4A-467B-865F-200AF140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161A-03A2-4A58-A7C9-604D1B85A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7. Пусты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люди назвали «кораблём пусты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387600" y="300024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РБЛЮ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АЙГ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ЖЕЙ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природный заповедник создан в зоне пусты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243240" y="285264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ЧЁРНЫЕ ЗЕМ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729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ОКСКО-ТЕР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86728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х домашних животных разводят люди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429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670720" y="42991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Л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348000" y="2943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климат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826920" y="4359240"/>
            <a:ext cx="2729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ОЙ И 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2995560" y="2703600"/>
            <a:ext cx="2800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ОЙ И ХОЛ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796000" y="4286160"/>
            <a:ext cx="270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ЛАЖНЫЙ И 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84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е время суток в пустыне можно увидеть большое количество животны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8480" y="2133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55640" y="5006880"/>
            <a:ext cx="2468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Ч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079800" y="3533760"/>
            <a:ext cx="251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940360" y="50007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2000" y="474480"/>
            <a:ext cx="88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е явление природы наносит человеку большой вред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848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492360" y="3240000"/>
            <a:ext cx="2592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СЧАНЫЕ БУ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900000" y="4797360"/>
            <a:ext cx="2735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ВНЕВЫЕ ДОЖ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867280" y="4797360"/>
            <a:ext cx="2721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НЕГОП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не встречается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301920" y="2697120"/>
            <a:ext cx="2801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ЛОС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849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РБЛЮЖЬЯ КОЛЮ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П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является отличительной чертой растений пусты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971640" y="428616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ЛИННЫЕ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290760" y="2687760"/>
            <a:ext cx="256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ШИРОКИЕ 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643720" y="428616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АЯ 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грызун водится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580000" y="427500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УШК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4286160"/>
            <a:ext cx="2521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М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255840" y="2714760"/>
            <a:ext cx="263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Ё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не относится к пресмыкающим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900000" y="4286160"/>
            <a:ext cx="2295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127320" y="2781360"/>
            <a:ext cx="2490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СЧАНЫЙ УДАВ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940360" y="42861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ЩУРКА БЫСТ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8:47:04Z</dcterms:modified>
  <cp:revision>713</cp:revision>
  <dc:subject/>
  <dc:title>Слайд 1</dc:title>
</cp:coreProperties>
</file>