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EE9-9DE6-42A2-A54C-9A274CFF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145A-6031-4B9D-B881-D77C221F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6CB8-5FB7-428F-A956-BD3988D0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1496-8885-4901-99D1-42E1F167C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E33-CA1A-416A-889F-67838E70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B1D-E9C3-4FE8-A655-8A69C8B95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7D65-EB12-487B-B285-456571DB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128B-D8EB-4AE5-9E87-113DAEFF5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69F5-BF00-4FCA-850C-A1EAF41E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6D14-30D2-4CA2-9CF0-8821CD74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B64E-E2A8-48F3-9504-AED2B2BF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29A8-E21E-47F5-8C7E-48F0BCA3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BC41A-4BEA-471A-A957-4352BAEBDF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7. Пусты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39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люди назвали «кораблём пустыни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387600" y="300024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РБЛЮ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АЙГ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ЖЕЙ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природный заповедник создан в зоне пусты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243240" y="285264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ЧЁРНЫЕ ЗЕМ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729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ОКСКО-ТЕРРАС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86728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х домашних животных разводят люди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429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670720" y="42991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В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ЛЕ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348000" y="2943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климат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826920" y="4359240"/>
            <a:ext cx="2729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ОЙ И 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2995560" y="2703600"/>
            <a:ext cx="2800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ХОЙ И ХОЛ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796000" y="4286160"/>
            <a:ext cx="270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ЛАЖНЫЙ И ЖАР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84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е время суток в пустыне можно увидеть большое количество животных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28480" y="2133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55640" y="5006880"/>
            <a:ext cx="2468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ЧЕ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079800" y="3533760"/>
            <a:ext cx="251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940360" y="50007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2000" y="474480"/>
            <a:ext cx="880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е явление природы наносит человеку большой вред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848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492360" y="3240000"/>
            <a:ext cx="2592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СЧАНЫЕ БУ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900000" y="4797360"/>
            <a:ext cx="2735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ВНЕВЫЕ ДОЖ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867280" y="4797360"/>
            <a:ext cx="2721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НЕГОП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не встречается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301920" y="2697120"/>
            <a:ext cx="2801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ЛОСН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849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РБЛЮЖЬЯ КОЛЮЧ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ПЧ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является отличительной чертой растений пустын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971640" y="428616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ЛИННЫЕ КОР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290760" y="2687760"/>
            <a:ext cx="256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ШИРОКИЕ ЛИСТ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643720" y="428616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АЯ ВЫС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грызун водится в пусты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580000" y="427500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УШКАН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4286160"/>
            <a:ext cx="2521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ОМЯ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255840" y="2714760"/>
            <a:ext cx="263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Ё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не относится к пресмыкающимс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900000" y="4286160"/>
            <a:ext cx="2295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С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127320" y="2781360"/>
            <a:ext cx="2490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ЕСЧАНЫЙ УДАВЧ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940360" y="42861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ЩУРКА БЫСТ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8:47:04Z</dcterms:modified>
  <cp:revision>713</cp:revision>
  <dc:subject/>
  <dc:title>Слайд 1</dc:title>
</cp:coreProperties>
</file>