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DBE-B5FA-4946-A282-41869097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F3C-4E5D-48BA-87D9-403B2298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6A3-3A3C-441D-B624-E74C45B1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FB5-BC8D-4C44-9AA3-491F1078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D7F-30D9-43AE-B0C6-3A00E5E1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30E-ECEB-428F-906A-18A89B4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28E-3DC5-4530-B5D4-A18B102A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1E4-80B7-4AAA-B6CD-F0D6CD22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F04-202F-4EEA-9D69-D81A4660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938-9341-4534-9FB4-F0168F2C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610-D15D-484B-A02C-66EFB00E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B7F-3A97-4D06-AD40-B3A0021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D424-9D43-4385-B559-383F72703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8. У Чёрного мо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морское животное обжигает как крапи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35280" y="3035160"/>
            <a:ext cx="2621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Д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6040"/>
            <a:ext cx="277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СКОЙ КОН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16720" y="4815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люди приходят смотреть в дендрар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651640" y="4232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55640" y="4286160"/>
            <a:ext cx="237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363840" y="27813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время суток самое плохое для зага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97164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492360" y="30193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84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тепловом поясе Земли расположено Черноморское побережье Кавк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812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708120" y="4940280"/>
            <a:ext cx="3233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ОП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059280" y="3124080"/>
            <a:ext cx="3282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МЕР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364000" y="5002200"/>
            <a:ext cx="3224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является вечнозелё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867280" y="4349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57192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има у Чёрного мор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348000" y="2708280"/>
            <a:ext cx="301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ОТКАЯ И ТЁП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457200" y="4248000"/>
            <a:ext cx="313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АЯ И ХОЛ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694480" y="424800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АЯ И ТЁП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очень быстро растё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069920" y="43657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ВКАЛИ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419640" y="3000240"/>
            <a:ext cx="248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Ж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му дереву требуется больше всего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492360" y="2708280"/>
            <a:ext cx="2440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ВКАЛИ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занесено в Красную книг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84360" y="4295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М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348000" y="285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М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й группе животных относятся цика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77960" y="434484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406728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9:31:28Z</dcterms:modified>
  <cp:revision>714</cp:revision>
  <dc:subject/>
  <dc:title>Слайд 1</dc:title>
</cp:coreProperties>
</file>