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04AB-E562-426C-AE85-64E912044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3CFD-65EF-4894-9141-94B14C1F7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656-EB04-43B5-9DA4-D85881431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1957-AAD4-4ACE-B375-47EA5B74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7EFE-0C8B-45BB-87BE-C578A31E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3EAA-815E-4A9D-82B5-C8BB60B2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07B7-73DC-4409-9D8D-64FA3BE8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63E-68FC-4D04-A8E5-AFAD82576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8E54-E936-49C3-845C-01798803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3630-FD8E-417C-9ADC-CF899680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1A24-5AD7-40F1-8B7D-0DCA2251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0F42-C9B9-4464-80B4-ABF831A94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9C2B0-719E-45C5-A69A-B2844275F7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8. У Чёрного мор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морское животное обжигает как крапи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35280" y="3035160"/>
            <a:ext cx="2621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ДУ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684360" y="4856040"/>
            <a:ext cx="277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РСКОЙ КОНЁ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516720" y="4815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РА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люди приходят смотреть в дендрари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651640" y="423216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С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55640" y="4286160"/>
            <a:ext cx="2376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363840" y="27813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М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время суток самое плохое для зага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971640" y="4437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3492360" y="30193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Ч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848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каком тепловом поясе Земли расположено Черноморское побережье Кавказ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708120" y="21333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708120" y="4940280"/>
            <a:ext cx="3233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ОП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3059280" y="3124080"/>
            <a:ext cx="32828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МЕР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364000" y="5002200"/>
            <a:ext cx="3224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является вечнозелёны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867280" y="43498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ИП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Ш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3571920" y="30002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зима у Чёрного мор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348000" y="2708280"/>
            <a:ext cx="3016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РОТКАЯ И ТЁП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457200" y="4248000"/>
            <a:ext cx="3137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ЛИННАЯ И ХОЛ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694480" y="4248000"/>
            <a:ext cx="3008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ЛИННАЯ И ТЁПЛ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дерево очень быстро растё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1069920" y="436572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ВКАЛИ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3419640" y="3000240"/>
            <a:ext cx="2489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Ж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му дереву требуется больше всего вод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3492360" y="2708280"/>
            <a:ext cx="2440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ВКАЛИ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ИПАР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растение занесено в Красную книгу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684360" y="42958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АМШ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348000" y="285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АМБ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Л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 какой группе животных относятся цикад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777960" y="434484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СЕКО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4067280" y="29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Т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В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6T09:31:28Z</dcterms:modified>
  <cp:revision>714</cp:revision>
  <dc:subject/>
  <dc:title>Слайд 1</dc:title>
</cp:coreProperties>
</file>