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915-CEDB-4AB0-88F1-9BA90638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B30-6024-496E-A0CA-96FAA42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083-00E3-4C66-B425-16B77D7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579-2C95-4F2F-8D36-BFD6BD3F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698-A81E-4913-A26D-6075D8C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C58-0670-4402-B7F8-B54B0A3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CE5-7DC3-45CE-AE0A-B184535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438-1047-447A-AD5A-AB2202CB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52B-78C4-42AE-BF34-BE77117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F86-078A-4F1C-ACC7-56478B6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F79-33D9-4724-924B-8B3E4E4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29B-B7EC-4814-989E-BA1B854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8C8-BEE1-4C33-B22B-FDFEA2B53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8. У Чёрного мо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морское животное обжигает как крапи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35280" y="3035160"/>
            <a:ext cx="2621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6040"/>
            <a:ext cx="277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КОН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815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люди приходят смотреть в дендрар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651640" y="4232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2861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63840" y="27813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суток самое плохое для заг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97164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492360" y="30193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8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тепловом поясе Земли расположено Черноморское побережье Кавк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12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08120" y="4940280"/>
            <a:ext cx="3233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59280" y="3124080"/>
            <a:ext cx="328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364000" y="5002200"/>
            <a:ext cx="322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является вечнозелё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867280" y="4349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57192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има у Чёрного мор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348000" y="2708280"/>
            <a:ext cx="301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ТК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457200" y="424800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ХОЛ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694480" y="424800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очень быстро растё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069920" y="43657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419640" y="300024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Ж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му дереву требуется больше всего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492360" y="2708280"/>
            <a:ext cx="2440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занесено в Красную книг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84360" y="4295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М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34800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М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ятся цика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77960" y="434484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06728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9:31:28Z</dcterms:modified>
  <cp:revision>714</cp:revision>
  <dc:subject/>
  <dc:title>Слайд 1</dc:title>
</cp:coreProperties>
</file>