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687-3286-4FC8-83E2-0734761D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1F5-33C4-44C2-90FE-45BF0BC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F27-EA29-421A-A583-873B879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ADE-5656-4681-B685-25F395D9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5CF-9D09-4C7F-8C2C-2734734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EBC-849B-4F7E-8EC4-8C3ED34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11D-A28B-4ACC-A803-415D3EF7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3B9-1AE8-45D5-97A5-F9FA5F2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DB3-99ED-40C8-9C17-32209B3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A86-CCB7-4616-8A94-F489607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85F-BFCE-4EB2-9271-E89E29A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D0A-073B-4B5F-B080-B63E616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46E-8665-4CB8-B078-80A9BE077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62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№1. Мир глазами астрон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3840" y="13572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8480" y="5202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олодное небесное тело, не излучающее собственного све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28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647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каменно-металлическая масса, падающая на Землю из межпланетного пространст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187280" y="485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85128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73272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температура на поверхности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8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астроно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8436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419640" y="279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строен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раст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Вселенн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59280" y="2962440"/>
            <a:ext cx="3241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объятное  пространство со звёздами, планеты и другие небес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ёзды и планеты, которые мы видим в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планеты, обращающиеся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Солнц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2436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1964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Земл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вы размеры Земли по отношению к Солнц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мен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бол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1672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ни одинаковы по раз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планет вращается вокруг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расстоянии Земля находится от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867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49236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04:40Z</dcterms:modified>
  <cp:revision>714</cp:revision>
  <dc:subject/>
  <dc:title>Слайд 1</dc:title>
</cp:coreProperties>
</file>