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9A8-1BD2-40DD-B08B-76A138D8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101-2830-4385-B291-1A1B1E4C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7B99-BFC1-45F6-B9B6-31B29505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919-B4EA-4B3C-82DC-0306C8AA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EDF8-CE20-456C-8A35-602A6658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74B-EF83-4934-BD59-4FA68472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B91-4C73-4A6C-BCF5-6DF52304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C22-3BDF-417B-9639-85F439CA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D7B7-F7FB-4009-8281-FE26A299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3CD-59F8-49A6-971C-76E5EC7B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9A70-2575-4B86-89CE-8FF224F8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C3DF-520E-48C0-A6AE-8078C1A8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3C53-E5F2-494F-8A1C-199B07D0BF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462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№1. Мир глазами астроно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3840" y="1357200"/>
            <a:ext cx="85723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2373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8480" y="52020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холодное небесное тело, не излучающее собственного све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4280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те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647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каменно-металлическая масса, падающая на Землю из межпланетного пространств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420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1187280" y="48578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те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3851280" y="3429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732720" y="48578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температура на поверхности Солнц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3643200" y="3143160"/>
            <a:ext cx="2224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6 тыс.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8 тыс.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300720" y="4286160"/>
            <a:ext cx="220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0 тыс.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такое астроном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684360" y="4437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ука о Всел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3419640" y="2798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ука о строен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ука о раст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такое Вселенна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3059280" y="2962440"/>
            <a:ext cx="3241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объятное  пространство со звёздами, планеты и другие небесные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вёзды и планеты, которые мы видим в н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се планеты, обращающиеся вокруг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такое Солнц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572436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вез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419640" y="2708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звезд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такое Земл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звезд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вез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вы размеры Земли по отношению к Солнц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1042920" y="4437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 меньше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780000" y="2708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 больше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516720" y="4365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ни одинаковы по разм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Сколько планет вращается вокруг Солнц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На каком расстоянии Земля находится от Солнц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586728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50 млн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00 млн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3492360" y="2708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50 млн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4T20:04:40Z</dcterms:modified>
  <cp:revision>714</cp:revision>
  <dc:subject/>
  <dc:title>Слайд 1</dc:title>
</cp:coreProperties>
</file>