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6C1-4468-46BD-9740-B60387E4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3F6-A8EC-4880-BAAF-A42EFEED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A1E-684F-4817-806F-181777AA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850-5373-4990-8EF4-B91F54EF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86D-A1CC-40F1-B3E1-380861D6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E94-9A95-4FE5-96E9-0DCFCD0B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C8E-8B07-4036-B417-32C7945C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B52-8964-40A8-AA52-AD90E6F4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A2F-3ACA-403A-B438-40408BD2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5C6-E305-4E9B-9F5A-76883DAA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0AA-5C3F-4F62-AC54-E2566460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22A-5C7E-4BAF-AB33-ACFBE3E8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216C-8F2A-4BDF-990D-35E6A78CF2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84614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№2. Планеты Солнеч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63044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</a:t>
            </a:r>
            <a:r>
              <a:rPr b="0" lang="ru-RU" sz="1000" spc="-1" strike="noStrike">
                <a:solidFill>
                  <a:srgbClr val="7030a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25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На какой планете побывали автоматические межпланетные станц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3680" y="1915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Вен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Юпит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2276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Сатур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Из-за чего происходит смена дня и ноч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94036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своей о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Лу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419640" y="3032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Из-за чего происходит смена времён го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708360" y="3160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своей о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Лу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ланета Солнечной системы самая больша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1476360" y="4365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378000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227640" y="42926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н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ланета Солнечной системы самая маленька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рку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ланета имеет плоское светящееся кольц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1332000" y="4437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3571920" y="31384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940360" y="4421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ланета имеет больше всего спутников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724360" y="42656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3203640" y="29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84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ланета Солнечной системы самая тяжёла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2848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пт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небесное тело не является плането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867280" y="42210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н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3419640" y="29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8960" y="549000"/>
            <a:ext cx="850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Зависит ли температура на поверхности планет от удалённости от Солнц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15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539640" y="4457880"/>
            <a:ext cx="2800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ем ближе планета к Солнцу, тем температура вы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571920" y="2970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 зави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796000" y="4286160"/>
            <a:ext cx="2890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ем ближе планета к Солнцу, тем температура н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4T20:39:45Z</dcterms:modified>
  <cp:revision>713</cp:revision>
  <dc:subject/>
  <dc:title>Слайд 1</dc:title>
</cp:coreProperties>
</file>