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51C9-A86C-4457-B922-35647C7DF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D5E8-3AB7-432E-A736-010289F14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7D42-1FA7-4830-84D6-290871D00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DA2E-ABF8-41E6-9BAD-96F82969A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1368-6B6C-4342-8138-2445A92C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F43F-E770-4A20-937B-3D73F57A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3912-7C8D-462C-8A18-B3EE3A73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156D-1E8D-45FF-95EA-4102B500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AC59-7913-4D76-88C7-84C00E50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EA34-F277-4232-A5EC-C5D10061C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E072-501A-4D27-9F22-14A45CB2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DCEB-CB56-4573-898B-2D6F6953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3A90-C7A4-401D-B839-9BE78E89A4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57120"/>
            <a:ext cx="84614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40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№2. Планеты Солнечной сист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760" y="1630440"/>
            <a:ext cx="85726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</a:t>
            </a:r>
            <a:r>
              <a:rPr b="0" lang="ru-RU" sz="1000" spc="-1" strike="noStrike">
                <a:solidFill>
                  <a:srgbClr val="7030a0"/>
                </a:solidFill>
                <a:latin typeface="Arial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571920" y="6165720"/>
            <a:ext cx="2000160" cy="428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252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На какой планете побывали автоматические межпланетные станци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3680" y="1915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 Вен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 Юпите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62276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а Сатур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Из-за чего происходит смена дня и ноч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594036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-за вращения Земли вокруг своей о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-за вращения Земли вокруг Лу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3419640" y="30322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-за вращения Земли вокруг Сол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Из-за чего происходит смена времён год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3708360" y="31608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-за вращения Земли вокруг Солн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-за вращения Земли вокруг своей о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из-за вращения Земли вокруг Лу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планета Солнечной системы самая больша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1476360" y="4365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Юпи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3780000" y="27082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атур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6227640" y="42926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ен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планета Солнечной системы самая маленька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еркур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ар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ем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планета имеет плоское светящееся кольц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1332000" y="4437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атур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3571920" y="31384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ем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5940360" y="4421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ар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планета имеет больше всего спутников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5724360" y="42656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Сатур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ем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3203640" y="29242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Юпи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84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планета Солнечной системы самая тяжёла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28480" y="1844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Юпи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епту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ар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небесное тело не является плането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5867280" y="422100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Лу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ен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3419640" y="29242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Зем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8960" y="549000"/>
            <a:ext cx="850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Зависит ли температура на поверхности планет от удалённости от Солнц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915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539640" y="4457880"/>
            <a:ext cx="2800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чем ближе планета к Солнцу, тем температура вы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3571920" y="29703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не завис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5796000" y="4286160"/>
            <a:ext cx="2890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чем ближе планета к Солнцу, тем температура ниж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4T20:39:45Z</dcterms:modified>
  <cp:revision>713</cp:revision>
  <dc:subject/>
  <dc:title>Слайд 1</dc:title>
</cp:coreProperties>
</file>