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483-8C1D-43D0-91EC-9D20A467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DF6-3EA8-44FC-B3EC-B1EF981B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1E8-598B-4B5F-AE1C-FD952E31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164-458A-4B43-B074-D8603439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72A-F652-46FA-9A57-A1325650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0BF-3E9F-4945-A0DD-2A7162CB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AE4-0C4C-48B3-B871-4F5EF372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5D9-894C-4D41-B181-F7125F1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508-C007-48B9-B07A-AA314D38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A1C-1945-47C8-B356-698D1D3E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675-59E5-48CE-AEAC-8DF21F83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F21-8A69-464F-9130-CBF2E6C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D54-4D81-4AFE-B29A-7E2A5AAE2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461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№2. Планеты Солнеч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6304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</a:t>
            </a:r>
            <a:r>
              <a:rPr b="0" lang="ru-RU" sz="10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2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На какой планете побывали автоматические межпланетные станц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368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Вен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Юпи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2276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Сату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-за чего происходит смена дня и ноч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9403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воей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Л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419640" y="3032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-за чего происходит смена времён г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708360" y="3160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воей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Л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больш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1476360" y="4365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780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227640" y="4292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маленьк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имеет плоское светящееся кольц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33200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571920" y="31384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40360" y="4421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имеет больше всего спутник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724360" y="4265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2036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тяжёл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2848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небесное тело не является планет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867280" y="4221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4196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8960" y="54900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Зависит ли температура на поверхности планет от удалённости от Солн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539640" y="4457880"/>
            <a:ext cx="2800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м ближе планета к Солнцу, тем температура в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571920" y="2970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796000" y="4286160"/>
            <a:ext cx="289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м ближе планета к Солнцу, тем температура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4T20:39:45Z</dcterms:modified>
  <cp:revision>713</cp:revision>
  <dc:subject/>
  <dc:title>Слайд 1</dc:title>
</cp:coreProperties>
</file>