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736-0655-4857-A767-2F23DAAF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9D9-12AF-4EC6-AA0A-04318E9B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704-8051-4909-82CE-3828E6C8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40C-A2F2-44B9-BB47-E98059B5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8CD-8332-418F-94E8-F28E4F42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94F-7251-4D7A-8D77-FB359D7F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484-29EB-4B27-8CB0-9AAAC79A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806-CAA5-4C48-B506-5F32EE3B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CD6-C4C4-4687-BBF9-69791F17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100-47AF-41F7-874E-A575FB5E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C1B-9C25-40C2-A4B0-DF00267C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585-733B-4880-91CC-6FA840F2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7559-8BBC-4249-A3C1-FBFB882DA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3. Звёздное небо – великая книга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920" y="16653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600360" y="6237360"/>
            <a:ext cx="200052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2600" y="62028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части неба находится созвездие Большая Медведи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940360" y="436572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437000"/>
            <a:ext cx="2439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юж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357720" y="299736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запад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части неба находится созвездие Большой Пё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243240" y="285264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юж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56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012000" y="4286160"/>
            <a:ext cx="2489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восточ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52020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звезда указывает точное направление на сев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826920" y="43178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зве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3635280" y="29718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р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ьдеба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е время суток можно наблюдать за звёзда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ч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сколько созвездий астрономы разделили неб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755640" y="4508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492360" y="30002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колько зодиакальных созвездий ты знаеш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508720" y="4194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132000" y="2781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созвездии находится Полярная звез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419640" y="3143160"/>
            <a:ext cx="2224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алая Медвед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202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ая Медвед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227640" y="4365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р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звезда самая яркая на неб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р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ьдеба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084720" y="4286160"/>
            <a:ext cx="2487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зве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ую фигуру образуют звёзды Малой медведиц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476360" y="4400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в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92436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части неба находится созвездие Телец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1185840" y="4508640"/>
            <a:ext cx="2225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юж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492360" y="27813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227640" y="4437000"/>
            <a:ext cx="2202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04:33:18Z</dcterms:modified>
  <cp:revision>714</cp:revision>
  <dc:subject/>
  <dc:title>Слайд 1</dc:title>
</cp:coreProperties>
</file>