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646-4B69-4888-82CC-F82D296B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E64-6C29-4120-AB69-9E712843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704D-55E7-4147-BA24-0E73F860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ADF-7CF6-4E7B-91A0-E77EE4A1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662-6BE4-4DE0-BFF2-DED237F7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C345-0CE4-4541-80F5-29DEAB41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8860-F16B-46B1-A648-3FA3DBE3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96B3-EF42-4879-8244-623F19B0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D7A-9896-4C56-94A9-A722D659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406F-0C75-4BBD-9CBB-5522A8FB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183-24DB-45CD-88C4-CC4A86D1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34DB-8E5E-4893-BDEA-474B4E49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C0CD-9150-472E-ACF8-E2C2DFFF81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3. Звёздное небо – великая книга прир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3920" y="166536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600360" y="6237360"/>
            <a:ext cx="200052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2600" y="62028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й части неба находится созвездие Большая Медведиц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989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5940360" y="436572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север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684360" y="4437000"/>
            <a:ext cx="2439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юж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3357720" y="2997360"/>
            <a:ext cx="256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запад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й части неба находится созвездие Большой Пё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3243240" y="2852640"/>
            <a:ext cx="2657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юж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14240" y="4286160"/>
            <a:ext cx="2562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север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6012000" y="4286160"/>
            <a:ext cx="2489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восточ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52020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звезда указывает точное направление на севе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5280" y="1989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826920" y="43178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ая звез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3635280" y="29718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ири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льдеба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е время суток можно наблюдать за звёздам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оч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т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н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На сколько созвездий астрономы разделили неб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755640" y="4508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3492360" y="30002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Сколько зодиакальных созвездий ты знаеш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5508720" y="4194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3132000" y="27813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м созвездии находится Полярная звез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419640" y="3143160"/>
            <a:ext cx="2224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алая Медвед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202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ольшая Медвед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227640" y="436572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ири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звезда самая яркая на неб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ири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714240" y="4286160"/>
            <a:ext cx="234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льдеба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6084720" y="4286160"/>
            <a:ext cx="2487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ая звез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ую фигуру образуют звёзды Малой медведиц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1476360" y="4400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в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3924360" y="2924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р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й части неба находится созвездие Телец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1185840" y="4508640"/>
            <a:ext cx="2225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юж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3492360" y="278136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север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227640" y="4437000"/>
            <a:ext cx="2202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север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04:33:18Z</dcterms:modified>
  <cp:revision>714</cp:revision>
  <dc:subject/>
  <dc:title>Слайд 1</dc:title>
</cp:coreProperties>
</file>