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B4DF-BC3C-482E-B190-BAD1F3C6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A6B9-D2EB-42BF-A604-2723606F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D1F8-2644-4DC3-B6BD-2EDF236C3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C86-2244-4E60-BC23-B407A8DFC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42DC-CA0C-473E-8D13-C22AC784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41B-317B-4566-9753-F50DE5E5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5488-47D5-4D8E-AAE9-B69A695A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3A92-30FA-4A23-A3A2-8922E94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A1B3-F3A6-45F4-A74F-F7627CC8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DBE8-DB3E-4CDB-9295-12409023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7FA1-928A-4BFC-B92F-A3EF47968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ED85-35AF-415B-9B37-A6865D8C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C19-C61B-40B2-948E-D8C99CE65E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3. Звёздное небо – великая книг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3920" y="166536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237360"/>
            <a:ext cx="200052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82600" y="62028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ая Медведиц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964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940360" y="4365720"/>
            <a:ext cx="2368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437000"/>
            <a:ext cx="2439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57720" y="2997360"/>
            <a:ext cx="256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запад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Большой Пё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43240" y="2852640"/>
            <a:ext cx="2657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56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12000" y="4286160"/>
            <a:ext cx="248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восточ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20200"/>
            <a:ext cx="85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указывает точное направление на севе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826920" y="43178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635280" y="297180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е время суток можно наблюдать за звёздам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оч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т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нё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сколько созвездий астрономы разделили неб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55640" y="4508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492360" y="300024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зодиакальных созвездий ты знаеш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508720" y="4194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2781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созвездии находится Полярная звез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19640" y="3143160"/>
            <a:ext cx="2224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ал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ая Медвед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227640" y="436572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звезда самая яркая на неб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ири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льдебар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84720" y="4286160"/>
            <a:ext cx="2487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звез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ую фигуру образуют звёзды Малой медведиц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1476360" y="4400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в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924360" y="29242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р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части неба находится созвездие Теле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1185840" y="4508640"/>
            <a:ext cx="2225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юж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492360" y="2781360"/>
            <a:ext cx="227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437000"/>
            <a:ext cx="2202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ч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4:33:18Z</dcterms:modified>
  <cp:revision>714</cp:revision>
  <dc:subject/>
  <dc:title>Слайд 1</dc:title>
</cp:coreProperties>
</file>