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F183-06BC-4CA0-BEB3-5AD7964C8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877F-B6CB-4C3B-8B79-2113003A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7AA8-8AB6-41B3-82E5-5422AB65D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AF5-2F3B-469F-B9D8-68009C4F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A7AC-9D0D-4FCD-9095-DAC9BF30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ACBB-1E4E-473A-92BB-4D9A1DEF9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E943-8153-4C64-9201-B6BBFE784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7D64-E94C-4B87-8268-65AD2BDB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228-DBE9-41C6-9654-9D2114D2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A0A-FDEE-4D6B-A6B2-6D7B4F75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AB68-2D4C-4313-AA3F-1074D165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B261-C7DA-48C8-8354-AD1952BC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D721D-19B2-44BB-A4C6-9DA467C7F1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357120"/>
            <a:ext cx="8569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3. Мир глазами географ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184464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348000" y="62611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40284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ются части океана, большие водные пространства с горько-солёной вод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989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55640" y="4724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300720" y="4724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47448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й стране появилась первая географическая карт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84200" y="1989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6084720" y="43038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ревняя Гре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ер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3432240" y="2997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т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й стране появился первый глобу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ерм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тал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ревняя Гре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нельзя определить по политической карт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3348000" y="2994120"/>
            <a:ext cx="2297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соту г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2417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раницы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6084720" y="4286160"/>
            <a:ext cx="2416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олицу 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на физической карте отмечено зелёным цвет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971640" y="44118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вн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3708360" y="2852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7315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ются обширные пространства земли, омываемые морями и океанам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28480" y="2204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6588000" y="51037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атер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826920" y="5084640"/>
            <a:ext cx="2376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осуд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3635280" y="3363840"/>
            <a:ext cx="23526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стр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м цветом на физической карте отмечены водоём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и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жёлт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елё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Что является уменьшенным изображением земной поверхности на плоскости с помощью условных знаков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24000" y="22395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755640" y="47973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6553080" y="46292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лоб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3635280" y="347328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л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такое географ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93640" y="151596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611280" y="4363920"/>
            <a:ext cx="2873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ука о Зем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3284640" y="2708280"/>
            <a:ext cx="2849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ука о Всел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5724360" y="4286160"/>
            <a:ext cx="2776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ука о челове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06440" y="47448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воображаемый круг, делящий земной шар на северное и южное полушар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89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6156360" y="485604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эква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684360" y="4857840"/>
            <a:ext cx="2273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емная о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3517920" y="3389400"/>
            <a:ext cx="2344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ериди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05:09:57Z</dcterms:modified>
  <cp:revision>713</cp:revision>
  <dc:subject/>
  <dc:title>Слайд 1</dc:title>
</cp:coreProperties>
</file>