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E0B-0C3C-4523-9FD1-55AE8E35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680-4E1B-4734-A302-9171E98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7C2-E158-4FB1-A115-9548C62E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3DC-5308-41DD-BFF8-BAE9FDFB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D35-39D1-492A-8FAC-44C67ACE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D34-08E7-4FAD-A9D4-A1149CC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585-73B9-42AA-936A-7BB9F98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FB2-437C-4BCA-A996-FFD0716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BC6-BA45-4B67-A209-CE407A0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D58-A38E-4A60-AFD4-7ECA75F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E6E-9521-4640-9466-579C4A9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A0F-724F-4ACE-9C94-C655026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13D5-ED70-42D9-87B4-7ADFE45EA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57120"/>
            <a:ext cx="8569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3. Мир глазами геогра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348000" y="62611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028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ются части океана, большие водные пространства с горько-солёной вод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7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300720" y="47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744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появилась первая географическая кар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4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6084720" y="4303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432240" y="29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появился первый глобу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льзя определить по политической кар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348000" y="2994120"/>
            <a:ext cx="2297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оту 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раницы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ицу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а физической карте отмечено зелёным цвет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971640" y="4411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708360" y="285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31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ются обширные пространства земли, омываемые морями и океан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848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588000" y="5103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т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508464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635280" y="3363840"/>
            <a:ext cx="2352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 цветом на физической карте отмечены водоём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ёл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уменьшенным изображением земной поверхности на плоскости с помощью условных знак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22395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755640" y="47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553080" y="4629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635280" y="3473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географ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3640" y="15159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11280" y="4363920"/>
            <a:ext cx="287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284640" y="2708280"/>
            <a:ext cx="284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Все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724360" y="4286160"/>
            <a:ext cx="2776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чело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474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воображаемый круг, делящий земной шар на северное и южное полушар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6156360" y="48560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684360" y="4857840"/>
            <a:ext cx="2273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мная 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517920" y="338940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риди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5:09:57Z</dcterms:modified>
  <cp:revision>713</cp:revision>
  <dc:subject/>
  <dc:title>Слайд 1</dc:title>
</cp:coreProperties>
</file>