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B6B8-9F07-40FA-B455-8398567E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0679-F307-4BDB-A6A7-F94FA9B0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F27D-2595-4DF6-AE39-74C29903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6485-A576-4951-8982-7FBD71C8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3FCF-C23D-44DE-8E02-E6AB8E83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BA9B-25CA-432C-BB5F-F9E45334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1E53-D502-4B16-A989-117EC521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5360-0E2E-4EA4-9455-D33200BE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FBA8-1612-40EA-9947-4D91F0CC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FED1-5BEF-474C-9ACD-4B6CA6FB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723D-D5F5-4BE3-8E4D-56A3D744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C0B1-321D-4749-AED2-4389DA56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4EE5-6D22-4587-BAFF-2540A918E7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357120"/>
            <a:ext cx="85690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3. Мир глазами географ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1844640"/>
            <a:ext cx="85726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348000" y="6261120"/>
            <a:ext cx="2000160" cy="428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40284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 называются части океана, большие водные пространства с горько-солёной водо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989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755640" y="4724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6300720" y="4724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зе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47448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ой стране появилась первая географическая карт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84200" y="1989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6084720" y="430380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ревняя Гре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ерм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3432240" y="29973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та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ой стране появился первый глобус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ерм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та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ревняя Гре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нельзя определить по политической карт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3348000" y="2994120"/>
            <a:ext cx="2297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ысоту г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714240" y="4286160"/>
            <a:ext cx="2417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раницы госуд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6084720" y="4286160"/>
            <a:ext cx="2416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толицу госуд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на физической карте отмечено зелёным цвето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971640" y="44118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авн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3708360" y="2852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о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7315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 называются обширные пространства земли, омываемые морями и океанам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28480" y="22046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6588000" y="510372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ате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826920" y="5084640"/>
            <a:ext cx="2376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осуд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3635280" y="3363840"/>
            <a:ext cx="23526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стр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им цветом на физической карте отмечены водоём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ин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жёлт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елё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Что является уменьшенным изображением земной поверхности на плоскости с помощью условных знаков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24000" y="223956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755640" y="47973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а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6553080" y="46292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лоб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3635280" y="347328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такое географи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93640" y="151596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611280" y="4363920"/>
            <a:ext cx="2873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ука о Зем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3284640" y="2708280"/>
            <a:ext cx="2849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ука о Вселе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5724360" y="4286160"/>
            <a:ext cx="2776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ука о челове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440" y="47448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 называется воображаемый круг, делящий земной шар на северное и южное полушар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989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6156360" y="4856040"/>
            <a:ext cx="2368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эква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684360" y="4857840"/>
            <a:ext cx="2273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емная 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3517920" y="3389400"/>
            <a:ext cx="2344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ериди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5T05:09:57Z</dcterms:modified>
  <cp:revision>713</cp:revision>
  <dc:subject/>
  <dc:title>Слайд 1</dc:title>
</cp:coreProperties>
</file>