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6EC3-741B-4057-B98B-5CDCA431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E3D9-F044-4FCE-AF59-14B3C166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4F8-CA28-4F35-9B2D-50C24E22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20C-793C-4F25-9D29-F7240257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F3C-4D4D-4395-9A7C-1F03E898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826-C6C0-46FE-8A58-1155F9F4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9F41-4344-485D-90D6-2B19F827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D83-05EB-441A-A834-29AF6544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969-38ED-4DD8-9D0E-553233BA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B2B-B50A-4DFA-90F7-B61FBF10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52A-14E7-4904-8228-2499D250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7EC-2D38-48BA-802B-D0641989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8813-E01D-411B-B125-59217AE068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5. Пояс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080" y="52344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поясе большие пространства постоянно покрыты снегом и льд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158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5446800" y="4857840"/>
            <a:ext cx="270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полярн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684360" y="4857840"/>
            <a:ext cx="2874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умеренн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2771640" y="3419640"/>
            <a:ext cx="26989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тропическ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640" y="6822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В каком поясе расположены густые, пышные леса, богатые разнообразными видами растений и населённые множеством удивительных животны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96880" y="2420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419640" y="3594240"/>
            <a:ext cx="2719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тропическ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611280" y="5013360"/>
            <a:ext cx="263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умеренн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138720" y="5013360"/>
            <a:ext cx="2576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полярн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080" y="3330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городе можно наблюдать белые ноч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46200" y="16938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39640" y="4797360"/>
            <a:ext cx="3311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анкт-Петербур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2978280" y="3038400"/>
            <a:ext cx="3208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Моск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5796000" y="4797360"/>
            <a:ext cx="3008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Новосибир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080" y="3330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районе Земля получает больше всего тепл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1915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5969160" y="508464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экват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36560" y="5094360"/>
            <a:ext cx="2633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северном полю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3370320" y="3060720"/>
            <a:ext cx="2576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южном полю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6040" y="72828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е лучи Солнца сильнее нагревают поверхность Зем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7960" y="23968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3075120" y="335772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дающие отве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684360" y="4846680"/>
            <a:ext cx="3497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дающие накло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5046840" y="4846680"/>
            <a:ext cx="3655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се лучи нагревают одинак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080" y="3330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поясе лежит большая часть территории Росс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0020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682560" y="4857840"/>
            <a:ext cx="2583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умерен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3351240" y="3043080"/>
            <a:ext cx="2633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поляр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985000" y="4857840"/>
            <a:ext cx="26985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тропиче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" y="475920"/>
            <a:ext cx="902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 каком поясе холодная зима, тёплое лето, прохладные весна и осен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915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376440" y="2924280"/>
            <a:ext cx="2584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умерен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633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поляр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5961240" y="4286160"/>
            <a:ext cx="26985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тропиче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240" y="78228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явление, когда в полярных районах солнце по нескольку месяцев не поднимается над горизон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3720" y="25142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6012000" y="507528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ая н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43040" y="5075280"/>
            <a:ext cx="263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ый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3233880" y="3645000"/>
            <a:ext cx="2576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ый веч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080" y="3330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поясе самый бедный живой ми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915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376440" y="2924280"/>
            <a:ext cx="2584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полярн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14240" y="4286160"/>
            <a:ext cx="2633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умеренн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5961240" y="4286160"/>
            <a:ext cx="26985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тропическ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080" y="3330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пояс самый тёплы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98560" y="1699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731880" y="4797360"/>
            <a:ext cx="2583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роп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314880" y="2997360"/>
            <a:ext cx="263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мер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227640" y="4797360"/>
            <a:ext cx="2576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05:54:17Z</dcterms:modified>
  <cp:revision>714</cp:revision>
  <dc:subject/>
  <dc:title>Слайд 1</dc:title>
</cp:coreProperties>
</file>