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9AA-CF0A-4C57-9C50-579BD5BF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6FA-9795-4BFE-A7D1-9C1D453E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50B-7652-46DF-8E28-0EE1FE4E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189-4087-4664-B4BC-3BB78F6A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844-9A60-4E81-9669-218BD211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3AA-D26E-47A7-A951-A7ED6B43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6D2-F394-4FE1-9E1D-D6910958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383-535C-4801-AFD5-603C3462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502-AD8B-4C06-986E-A3FA6F86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D42-4A77-4DE8-9EED-BC226015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8A5-C8F6-4C00-B415-28A14E9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656-502D-4458-B5E3-99EAFB49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CF41-CCA0-48F4-9D6E-669DBD6F00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5. Пояс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080" y="52344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большие пространства постоянно покрыты снегом и льд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158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446800" y="4857840"/>
            <a:ext cx="270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684360" y="4857840"/>
            <a:ext cx="2874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2771640" y="3419640"/>
            <a:ext cx="26989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6822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расположены густые, пышные леса, богатые разнообразными видами растений и населённые множеством удивительных живот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96880" y="2420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419640" y="3594240"/>
            <a:ext cx="2719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611280" y="5013360"/>
            <a:ext cx="263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138720" y="501336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городе можно наблюдать белые ноч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46200" y="16938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39640" y="4797360"/>
            <a:ext cx="3311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анкт-Петербур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2978280" y="3038400"/>
            <a:ext cx="3208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796000" y="4797360"/>
            <a:ext cx="3008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Новосибир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районе Земля получает больше всего тепл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5969160" y="508464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экват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36560" y="50943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северном полю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3370320" y="306072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южном полю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040" y="72828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е лучи Солнца сильнее нагревают поверхность Зем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7960" y="23968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075120" y="335772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дающие отв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684360" y="4846680"/>
            <a:ext cx="3497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дающие накло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046840" y="4846680"/>
            <a:ext cx="3655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 лучи нагревают одинак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лежит большая часть территории Росс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0020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682560" y="485784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351240" y="304308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985000" y="4857840"/>
            <a:ext cx="26985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" y="475920"/>
            <a:ext cx="902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холодная зима, тёплое лето, прохладные весна и осен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376440" y="2924280"/>
            <a:ext cx="2584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5961240" y="4286160"/>
            <a:ext cx="26985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240" y="78228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явление, когда в полярных районах солнце по нескольку месяцев не поднимается над горизон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3720" y="25142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6012000" y="507528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н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43040" y="5075280"/>
            <a:ext cx="263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233880" y="364500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 веч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самый бедный живой ми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376440" y="2924280"/>
            <a:ext cx="2584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961240" y="4286160"/>
            <a:ext cx="26985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пояс самый тёплы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98560" y="1699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731880" y="479736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оп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314880" y="2997360"/>
            <a:ext cx="263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мер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227640" y="479736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05:54:17Z</dcterms:modified>
  <cp:revision>714</cp:revision>
  <dc:subject/>
  <dc:title>Слайд 1</dc:title>
</cp:coreProperties>
</file>