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457B-8584-44F3-9015-F1D367C8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DD5D-0AC5-4C57-BA1F-F7D20636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BEC7-26B7-4750-AB62-1DCA82AAC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1A54-B976-40D7-AA66-BFE737785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C90-4738-48D1-8F82-B8941659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F079-9FF2-48B4-BC6B-6193FB1EF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8CC-3A9D-4926-A210-3421FDBB9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8B1B-AC9A-4B42-AE61-06EB155D7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9FFA-01B0-475C-9A86-34D89127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32E1-32B3-4416-A7C1-4A62C4C3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D273-9106-4C16-AB0B-D6A3778D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7B31-3401-493E-8463-F2ACD298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A0464-C24F-4DC1-9BB4-873B66EBE9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Тест</a:t>
            </a:r>
            <a:r>
              <a:rPr b="1" lang="en-US" sz="4400" spc="-1" strike="noStrike">
                <a:solidFill>
                  <a:srgbClr val="7030a0"/>
                </a:solidFill>
                <a:latin typeface="Arial"/>
                <a:ea typeface="Arial"/>
              </a:rPr>
              <a:t> </a:t>
            </a: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№5. Пояса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8572680" cy="39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Окружающий мир 4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Составитель Исакова Ж.М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"/>
                <a:ea typeface="Aharoni"/>
              </a:rPr>
              <a:t>Тест составлен по шаблону Д.Иванова с использованием материалов: Е.М.Тихомирова. Тесты по предмету «Окружающий мир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Скругленный прямоугольник 3"/>
          <p:cNvSpPr/>
          <p:nvPr/>
        </p:nvSpPr>
        <p:spPr>
          <a:xfrm>
            <a:off x="3571920" y="6165720"/>
            <a:ext cx="2000160" cy="4287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Уровень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7"/>
          <p:cNvSpPr/>
          <p:nvPr/>
        </p:nvSpPr>
        <p:spPr>
          <a:xfrm>
            <a:off x="3071880" y="5214960"/>
            <a:ext cx="3000240" cy="71424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чать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080" y="52344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поясе большие пространства постоянно покрыты снегом и льдом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360" y="221580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кругленный прямоугольник 3"/>
          <p:cNvSpPr/>
          <p:nvPr/>
        </p:nvSpPr>
        <p:spPr>
          <a:xfrm>
            <a:off x="5446800" y="4857840"/>
            <a:ext cx="27064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полярн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Скругленный прямоугольник 4"/>
          <p:cNvSpPr/>
          <p:nvPr/>
        </p:nvSpPr>
        <p:spPr>
          <a:xfrm>
            <a:off x="684360" y="4857840"/>
            <a:ext cx="28749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умеренн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Скругленный прямоугольник 5"/>
          <p:cNvSpPr/>
          <p:nvPr/>
        </p:nvSpPr>
        <p:spPr>
          <a:xfrm>
            <a:off x="2771640" y="3419640"/>
            <a:ext cx="26989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тропическ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7640" y="68220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7030a0"/>
                </a:solidFill>
                <a:latin typeface="Arial"/>
                <a:ea typeface="Arial"/>
              </a:rPr>
              <a:t>В каком поясе расположены густые, пышные леса, богатые разнообразными видами растений и населённые множеством удивительных животных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96880" y="24206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Скругленный прямоугольник 3"/>
          <p:cNvSpPr/>
          <p:nvPr/>
        </p:nvSpPr>
        <p:spPr>
          <a:xfrm>
            <a:off x="3419640" y="3594240"/>
            <a:ext cx="27190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тропическ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Скругленный прямоугольник 4"/>
          <p:cNvSpPr/>
          <p:nvPr/>
        </p:nvSpPr>
        <p:spPr>
          <a:xfrm>
            <a:off x="611280" y="5013360"/>
            <a:ext cx="263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умеренн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кругленный прямоугольник 5"/>
          <p:cNvSpPr/>
          <p:nvPr/>
        </p:nvSpPr>
        <p:spPr>
          <a:xfrm>
            <a:off x="6138720" y="5013360"/>
            <a:ext cx="2576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полярн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080" y="33300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городе можно наблюдать белые ноч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46200" y="1693800"/>
            <a:ext cx="822960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Скругленный прямоугольник 3"/>
          <p:cNvSpPr/>
          <p:nvPr/>
        </p:nvSpPr>
        <p:spPr>
          <a:xfrm>
            <a:off x="539640" y="4797360"/>
            <a:ext cx="33116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Санкт-Петербург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кругленный прямоугольник 4"/>
          <p:cNvSpPr/>
          <p:nvPr/>
        </p:nvSpPr>
        <p:spPr>
          <a:xfrm>
            <a:off x="2978280" y="3038400"/>
            <a:ext cx="32083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Моск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кругленный прямоугольник 5"/>
          <p:cNvSpPr/>
          <p:nvPr/>
        </p:nvSpPr>
        <p:spPr>
          <a:xfrm>
            <a:off x="5796000" y="4797360"/>
            <a:ext cx="30081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Новосибирс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Результат тес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6840" y="2000160"/>
            <a:ext cx="590076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Верно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шибки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Отметка: 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Содержимое 2"/>
          <p:cNvSpPr/>
          <p:nvPr/>
        </p:nvSpPr>
        <p:spPr>
          <a:xfrm>
            <a:off x="500040" y="5572080"/>
            <a:ext cx="5857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Время: 0 мин. 25 с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Скругленный прямоугольник 4"/>
          <p:cNvSpPr/>
          <p:nvPr/>
        </p:nvSpPr>
        <p:spPr>
          <a:xfrm>
            <a:off x="6500880" y="55720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ещ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 hidden="1"/>
          <p:cNvSpPr/>
          <p:nvPr/>
        </p:nvSpPr>
        <p:spPr>
          <a:xfrm>
            <a:off x="6500880" y="4643280"/>
            <a:ext cx="2286000" cy="714600"/>
          </a:xfrm>
          <a:prstGeom prst="roundRect">
            <a:avLst>
              <a:gd name="adj" fmla="val 16667"/>
            </a:avLst>
          </a:prstGeom>
          <a:solidFill>
            <a:srgbClr val="a5002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исправи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6080" y="33300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районе Земля получает больше всего тепл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24000" y="1915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5969160" y="508464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эквато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736560" y="5094360"/>
            <a:ext cx="2633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северном полю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Скругленный прямоугольник 5"/>
          <p:cNvSpPr/>
          <p:nvPr/>
        </p:nvSpPr>
        <p:spPr>
          <a:xfrm>
            <a:off x="3370320" y="3060720"/>
            <a:ext cx="2576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на южном полю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6040" y="728280"/>
            <a:ext cx="8893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ие лучи Солнца сильнее нагревают поверхность Земл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07960" y="23968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Скругленный прямоугольник 3"/>
          <p:cNvSpPr/>
          <p:nvPr/>
        </p:nvSpPr>
        <p:spPr>
          <a:xfrm>
            <a:off x="3075120" y="3357720"/>
            <a:ext cx="30956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адающие отвес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4"/>
          <p:cNvSpPr/>
          <p:nvPr/>
        </p:nvSpPr>
        <p:spPr>
          <a:xfrm>
            <a:off x="684360" y="4846680"/>
            <a:ext cx="34970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адающие наклон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5"/>
          <p:cNvSpPr/>
          <p:nvPr/>
        </p:nvSpPr>
        <p:spPr>
          <a:xfrm>
            <a:off x="5046840" y="4846680"/>
            <a:ext cx="3655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се лучи нагревают одинако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080" y="33300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поясе лежит большая часть территории России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00200" y="184428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Скругленный прямоугольник 3"/>
          <p:cNvSpPr/>
          <p:nvPr/>
        </p:nvSpPr>
        <p:spPr>
          <a:xfrm>
            <a:off x="682560" y="4857840"/>
            <a:ext cx="2583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умерен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4"/>
          <p:cNvSpPr/>
          <p:nvPr/>
        </p:nvSpPr>
        <p:spPr>
          <a:xfrm>
            <a:off x="3351240" y="3043080"/>
            <a:ext cx="2633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поляр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5"/>
          <p:cNvSpPr/>
          <p:nvPr/>
        </p:nvSpPr>
        <p:spPr>
          <a:xfrm>
            <a:off x="5985000" y="4857840"/>
            <a:ext cx="26985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тропичес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00" y="475920"/>
            <a:ext cx="9028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Arial"/>
                <a:ea typeface="Arial"/>
              </a:rPr>
              <a:t>В каком поясе холодная зима, тёплое лето, прохладные весна и осень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1915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3"/>
          <p:cNvSpPr/>
          <p:nvPr/>
        </p:nvSpPr>
        <p:spPr>
          <a:xfrm>
            <a:off x="3376440" y="2924280"/>
            <a:ext cx="2584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умерен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Скругленный прямоугольник 4"/>
          <p:cNvSpPr/>
          <p:nvPr/>
        </p:nvSpPr>
        <p:spPr>
          <a:xfrm>
            <a:off x="714240" y="4286160"/>
            <a:ext cx="2633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поляр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Скругленный прямоугольник 5"/>
          <p:cNvSpPr/>
          <p:nvPr/>
        </p:nvSpPr>
        <p:spPr>
          <a:xfrm>
            <a:off x="5961240" y="4286160"/>
            <a:ext cx="26985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тропичес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3240" y="78228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Arial"/>
                <a:ea typeface="Arial"/>
              </a:rPr>
              <a:t>Как называется явление, когда в полярных районах солнце по нескольку месяцев не поднимается над горизонт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23720" y="25142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кругленный прямоугольник 3"/>
          <p:cNvSpPr/>
          <p:nvPr/>
        </p:nvSpPr>
        <p:spPr>
          <a:xfrm>
            <a:off x="6012000" y="5075280"/>
            <a:ext cx="258444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ая ноч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кругленный прямоугольник 4"/>
          <p:cNvSpPr/>
          <p:nvPr/>
        </p:nvSpPr>
        <p:spPr>
          <a:xfrm>
            <a:off x="743040" y="5075280"/>
            <a:ext cx="263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ый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кругленный прямоугольник 5"/>
          <p:cNvSpPr/>
          <p:nvPr/>
        </p:nvSpPr>
        <p:spPr>
          <a:xfrm>
            <a:off x="3233880" y="3645000"/>
            <a:ext cx="2576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ый веч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080" y="33300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В каком поясе самый бедный живой мир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360" y="1915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3"/>
          <p:cNvSpPr/>
          <p:nvPr/>
        </p:nvSpPr>
        <p:spPr>
          <a:xfrm>
            <a:off x="3376440" y="2924280"/>
            <a:ext cx="25848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полярн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Скругленный прямоугольник 4"/>
          <p:cNvSpPr/>
          <p:nvPr/>
        </p:nvSpPr>
        <p:spPr>
          <a:xfrm>
            <a:off x="714240" y="4286160"/>
            <a:ext cx="26337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умеренн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5"/>
          <p:cNvSpPr/>
          <p:nvPr/>
        </p:nvSpPr>
        <p:spPr>
          <a:xfrm>
            <a:off x="5961240" y="4286160"/>
            <a:ext cx="269856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в тропическом поя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080" y="333000"/>
            <a:ext cx="889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Arial"/>
                <a:ea typeface="Arial"/>
              </a:rPr>
              <a:t>Какой пояс самый тёплый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898560" y="169992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Задание теста с единственным правильным ответом. Кликните на правильный ответ (ДА) или неправильный ответ (НЕТ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Скругленный прямоугольник 3"/>
          <p:cNvSpPr/>
          <p:nvPr/>
        </p:nvSpPr>
        <p:spPr>
          <a:xfrm>
            <a:off x="731880" y="4797360"/>
            <a:ext cx="25830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троп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Скругленный прямоугольник 4"/>
          <p:cNvSpPr/>
          <p:nvPr/>
        </p:nvSpPr>
        <p:spPr>
          <a:xfrm>
            <a:off x="3314880" y="2997360"/>
            <a:ext cx="263340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умерен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Скругленный прямоугольник 5"/>
          <p:cNvSpPr/>
          <p:nvPr/>
        </p:nvSpPr>
        <p:spPr>
          <a:xfrm>
            <a:off x="6227640" y="4797360"/>
            <a:ext cx="257652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поляр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3:09:51Z</dcterms:created>
  <dc:creator>ind</dc:creator>
  <dc:description/>
  <dc:language>en-US</dc:language>
  <cp:lastModifiedBy>Жанатхан Исакова</cp:lastModifiedBy>
  <dcterms:modified xsi:type="dcterms:W3CDTF">2020-04-05T05:54:17Z</dcterms:modified>
  <cp:revision>714</cp:revision>
  <dc:subject/>
  <dc:title>Слайд 1</dc:title>
</cp:coreProperties>
</file>