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40BC-ADE3-4389-A455-FD8C4372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E9C-2500-4567-95AE-FE217659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D943-A23B-4F44-9728-40939360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0F5-775E-4BB0-8388-2D4405ED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3B5-6498-434C-B523-45683C36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996-3F6E-4F64-B93A-4248A984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F89-B1D0-4E1F-838B-A10CCE39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D0A-1273-4EEF-9B87-55BE39F6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205-A118-4316-A0DF-ACD6A2FB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AB9D-9BB5-4A0F-96A5-FFAC2504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22F3-3A48-44C9-99B8-9C2230F1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821-33F1-4E2A-8B97-785AF3D1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59A7-F9DD-4E03-906C-CF1D3E2591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357120"/>
            <a:ext cx="87505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6.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Мир глазами истор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000" y="1484280"/>
            <a:ext cx="85723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348000" y="62373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относится к вещественным историческим источника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2848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5724360" y="4857840"/>
            <a:ext cx="2592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рудия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684360" y="48578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ись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3348000" y="32590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не относится к устным историческим источника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643200" y="3143160"/>
            <a:ext cx="2152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ни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34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слов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6372360" y="4286160"/>
            <a:ext cx="220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еген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6440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не относится к письменным историческим источника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0919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1476360" y="5084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н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3995640" y="34923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ето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516720" y="4941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уко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изучает истор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611280" y="4856040"/>
            <a:ext cx="3089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шлое лю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457200" y="2646360"/>
            <a:ext cx="3137040" cy="1568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жизненные истории лю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4716360" y="3213000"/>
            <a:ext cx="3840120" cy="1567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бытия, происходящие сегодня в разных стра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хранилище документов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3643200" y="3143160"/>
            <a:ext cx="2152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рх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14240" y="4286160"/>
            <a:ext cx="2271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300720" y="4281480"/>
            <a:ext cx="2216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иблиот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то, что происходит сегодн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6300720" y="4286160"/>
            <a:ext cx="2152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стоя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ш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3708360" y="30002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ду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Где сохраняют многие предметы старин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кл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ст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то, что случилось вчер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1042920" y="4437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ш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780000" y="2852640"/>
            <a:ext cx="2128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стоя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ду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59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ая наука узнаёт о прошлом, изучая древние предметы и сооруж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5520" y="227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5724360" y="5013360"/>
            <a:ext cx="2376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рхе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826920" y="5013360"/>
            <a:ext cx="2305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строно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3346560" y="3429000"/>
            <a:ext cx="2354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е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2800" y="52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лись записи о событиях своего времени тысячу лет назад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89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349236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етоп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714240" y="4286160"/>
            <a:ext cx="2129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ленд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300720" y="4286160"/>
            <a:ext cx="220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ро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0:20:56Z</dcterms:modified>
  <cp:revision>713</cp:revision>
  <dc:subject/>
  <dc:title>Слайд 1</dc:title>
</cp:coreProperties>
</file>