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F982-0AB1-426E-82FD-818C83FB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313A-7696-4071-AF68-54F1BB64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5C60-67DD-48C1-A43D-EF3552AE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F8E9-CCD1-433D-96CE-72501504F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B946-3B89-43B1-83C0-EF42EDC7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4EAB-B7B7-4D22-BEF2-8D2A6A4B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3F91-2D96-4842-9F33-035C01CDE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E1B-4323-4639-A1C4-632F5C03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5B7B-D97E-4325-925F-E375F250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A12E-5D6C-45E9-98EE-7C654F6F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48E8-75A6-4BBF-AD00-68ADB503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9CF0-1596-40FD-A586-0CB85D93F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5E84-92FE-4427-916D-942E2DDE94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7. Когда и гд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57268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419640" y="616572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9520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м веке мы живё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34936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647640" y="4789440"/>
            <a:ext cx="2538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X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3186000" y="3357720"/>
            <a:ext cx="2448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6012000" y="4703760"/>
            <a:ext cx="2431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XI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9520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ая карта помогает узнать о произошедших события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3276720" y="3440160"/>
            <a:ext cx="2754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стор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826920" y="4724280"/>
            <a:ext cx="2449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физ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5867280" y="4703760"/>
            <a:ext cx="2576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ит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9520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линией обозначают границы государств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5508720" y="4724280"/>
            <a:ext cx="2538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унктир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826920" y="4724280"/>
            <a:ext cx="2449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лни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3297240" y="3284640"/>
            <a:ext cx="2432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я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520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термин не обозначает отрезок времени длиной в 100 лет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234936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3473280" y="3487680"/>
            <a:ext cx="2538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ысячеле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826920" y="4724280"/>
            <a:ext cx="2449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оле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6012000" y="4703760"/>
            <a:ext cx="2431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520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ими цифрами в истории принято обозначать год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539640" y="4703760"/>
            <a:ext cx="2538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рабск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3503520" y="3284640"/>
            <a:ext cx="2448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имск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6012000" y="4703760"/>
            <a:ext cx="2431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итайск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520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ими цифрами в истории принято обозначать век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3473280" y="3487680"/>
            <a:ext cx="2538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имск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826920" y="4724280"/>
            <a:ext cx="2449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рабск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6012000" y="4703760"/>
            <a:ext cx="2431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итайск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9520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 какому веку относится 1023 год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5829480" y="4724280"/>
            <a:ext cx="2538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826920" y="4724280"/>
            <a:ext cx="2449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3444840" y="3143160"/>
            <a:ext cx="24336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6631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правитель в России установил счёт лет от Рождества Христов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03200" y="24206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638280" y="5373720"/>
            <a:ext cx="2538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ётр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3176640" y="3645000"/>
            <a:ext cx="2449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икола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6012000" y="5373720"/>
            <a:ext cx="2431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Иван Гроз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520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Началом какого века является 2001год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5148360" y="4719600"/>
            <a:ext cx="25383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XI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826920" y="4724280"/>
            <a:ext cx="2449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XII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2987640" y="3213000"/>
            <a:ext cx="2432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5200" y="663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век обозначен цифрами 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XIV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3473280" y="3487680"/>
            <a:ext cx="2538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4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826920" y="4724280"/>
            <a:ext cx="2449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6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6012000" y="4703760"/>
            <a:ext cx="2431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9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11:28:21Z</dcterms:modified>
  <cp:revision>713</cp:revision>
  <dc:subject/>
  <dc:title>Слайд 1</dc:title>
</cp:coreProperties>
</file>