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156-D84A-4F81-8E1F-88ABDEC2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3CF-0AB3-46DB-95FF-B5F03823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71E-6111-44B5-9A84-4C1F71EA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926-73C7-422F-BBFF-8019B258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C25-CFF4-46B7-9F1B-2210BD19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3D7-B11D-4E40-BF50-938C1815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83B-A969-4956-984C-915E01D5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6F7-6AB1-4749-9F45-CBFA231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E6D-089C-49A7-9CC6-18D8A73E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961-3344-40A8-859C-40D7563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770-1B1A-4B96-A80D-02ACCFE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1A9-7966-46C1-B39D-8FC3D58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F5F6-7C1B-4C0E-A8BC-E7D22D2D1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7. Когда и гд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1964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веке мы живё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3493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647640" y="478944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186000" y="3357720"/>
            <a:ext cx="2448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карта помогает узнать о произошедших события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276720" y="3440160"/>
            <a:ext cx="275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867280" y="47037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и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линией обозначают границы государст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508720" y="472428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унктир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лни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297240" y="3284640"/>
            <a:ext cx="2432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термин не обозначает отрезок времени длиной в 100 л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23493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473280" y="3487680"/>
            <a:ext cx="253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ысячеле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оле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и цифрами в истории принято обозначать г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39640" y="470376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аб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503520" y="3284640"/>
            <a:ext cx="2448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им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тай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и цифрами в истории принято обозначать ве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473280" y="3487680"/>
            <a:ext cx="253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им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аб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тай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му веку относится 1023 год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829480" y="472428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444840" y="3143160"/>
            <a:ext cx="2433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631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правитель в России установил счёт лет от Рождества Христо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3200" y="2420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38280" y="537372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ёт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176640" y="3645000"/>
            <a:ext cx="2449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икола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012000" y="537372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ван Гро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чалом какого века является 2001год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148360" y="471960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2987640" y="3213000"/>
            <a:ext cx="2432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век обозначен цифрами 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XIV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473280" y="3487680"/>
            <a:ext cx="253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1:28:21Z</dcterms:modified>
  <cp:revision>713</cp:revision>
  <dc:subject/>
  <dc:title>Слайд 1</dc:title>
</cp:coreProperties>
</file>