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0AA-9FBA-42DA-A887-F6FA1E93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60A-3456-4AFD-83DA-5873DFF0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918-D77D-4391-BCFB-2AFE9310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AE9-0423-46CF-B182-23F6683B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716-AD19-4369-989F-6680559D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F9B-45EA-4910-B668-27FD06E5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65E-9C00-4F96-8F1E-0A5F1286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3E8-F5BD-4641-A437-45CDD86A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EE6-DD9B-469D-A16F-D0D5E823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EC2-1486-4A58-BE4F-36699977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851-240D-42F1-AE49-0662E9DA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5E2-FB95-4015-B061-B90B244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4CFA-63ED-4E61-B77D-A810F87BD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7. Когда и гд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1964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веке мы живё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3493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647640" y="478944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186000" y="3357720"/>
            <a:ext cx="2448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карта помогает узнать о произошедших события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276720" y="3440160"/>
            <a:ext cx="275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867280" y="47037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и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линией обозначают границы государст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508720" y="472428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унктир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лни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297240" y="3284640"/>
            <a:ext cx="2432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термин не обозначает отрезок времени длиной в 100 л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23493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473280" y="3487680"/>
            <a:ext cx="253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ысячеле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оле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и цифрами в истории принято обозначать г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39640" y="470376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аб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503520" y="3284640"/>
            <a:ext cx="2448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им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тай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и цифрами в истории принято обозначать ве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473280" y="3487680"/>
            <a:ext cx="253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им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аб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тай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му веку относится 1023 год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829480" y="472428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444840" y="3143160"/>
            <a:ext cx="2433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631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правитель в России установил счёт лет от Рождества Христо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3200" y="2420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38280" y="537372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ёт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176640" y="3645000"/>
            <a:ext cx="2449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икола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012000" y="537372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ван Гро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чалом какого века является 2001год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148360" y="471960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2987640" y="3213000"/>
            <a:ext cx="2432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век обозначен цифрами 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XIV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473280" y="3487680"/>
            <a:ext cx="253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1:28:21Z</dcterms:modified>
  <cp:revision>713</cp:revision>
  <dc:subject/>
  <dc:title>Слайд 1</dc:title>
</cp:coreProperties>
</file>