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52D-DCAD-48F5-A422-C2D447EB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16D5-E568-4468-A326-8887CB13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C1E-DF1E-41EC-8C4D-8ED5CA3B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B663-C499-4AC5-9F5D-A5E03574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4A6-163E-402E-937D-EEC17F09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76A-8A4F-4F1D-B461-29090DA0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9160-D871-45AA-AA85-009771CE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33F7-84AF-4D1E-8967-4D79F8FD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3EC1-D3BB-4C13-855A-24B0EE31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46C8-C05B-40AF-8484-A97D37DC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B222-83FF-45E8-959D-3EC01DEE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F1A-9EF9-4F25-AF05-EDABC192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95DD-6814-4FF1-B035-8F13B66E59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608040"/>
            <a:ext cx="8893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8.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Мир глазами эколо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0200" y="213372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446640" y="61977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8000" y="45684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В каком государстве находится штаб-квартира Всемирного фонда дикой природ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141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ррр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1020600" y="514512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Швейца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3348000" y="335772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5940360" y="515772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 Фр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520" y="659880"/>
            <a:ext cx="871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 переводится название экологической организации - Гринпи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046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492360" y="343548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елёны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826920" y="501336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елёный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5983200" y="5011560"/>
            <a:ext cx="2559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елёная стр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5425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огда отмечают Международный день защиты животны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30120" y="200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5546880" y="4863960"/>
            <a:ext cx="3016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4 октяб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611280" y="4863960"/>
            <a:ext cx="3209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 ию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3276720" y="3406680"/>
            <a:ext cx="2919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 апр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зависит от экологических пробле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2916360" y="2735280"/>
            <a:ext cx="30956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дьба всех живых су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306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звитие исторических соб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5651640" y="428616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бота фабрик и зав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8316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ерез какой океан плыл знаменитый путешественник Тур Хейерда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25300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552600" y="5043600"/>
            <a:ext cx="2944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тлан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2843280" y="357336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х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126120" y="504360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еверный Ледови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мусор служил причиной гибели морских черепа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44400" y="1626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5711760" y="4286160"/>
            <a:ext cx="3160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иэтиленовые пак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714240" y="428616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еклянные буты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3492360" y="2676600"/>
            <a:ext cx="2559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мажные пак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лась папирусная лодка Хейердал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427560" y="273528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012000" y="428616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4424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количество деревьев спиливается в джунглях каждый ден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1841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900000" y="497844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000000 дере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348000" y="342900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ре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5999040" y="497844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ре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огда отмечают Международный день птиц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61800" y="1626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819000" y="443700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 апр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3182760" y="2924280"/>
            <a:ext cx="2778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2 м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6012000" y="428616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2 апр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59508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животное является эмблемой Всемирного фонды дикой природы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1841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3424320" y="3365640"/>
            <a:ext cx="25858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826920" y="498960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010200" y="4956120"/>
            <a:ext cx="2559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рый медв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2:23:16Z</dcterms:modified>
  <cp:revision>714</cp:revision>
  <dc:subject/>
  <dc:title>Слайд 1</dc:title>
</cp:coreProperties>
</file>