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E454-D5B8-4B62-B7EC-08DB7DE0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5E58-424C-4E4B-B5EB-E091443B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D167-AD8B-4E7B-85B3-39724300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2334-DE82-4537-9F01-98669A81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4A2E-DCCF-4E2C-8680-7F63BF28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EFD2-B153-41CA-B0D5-4729D309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761F-E5C2-4058-A736-0B5FC75A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22E5-94CC-44A3-AF18-5196D822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927F-A14D-4410-A490-233A9A30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D292-0928-4804-A8EF-9633BAB5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0814-D14C-4D9D-87A8-AAABC7C9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F8ED-FCFC-43EC-8A06-46EA71EF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AEB0-2F19-49A4-9755-CE54CC9347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608040"/>
            <a:ext cx="88930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8.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Мир глазами эколо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0200" y="2133720"/>
            <a:ext cx="8572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446640" y="61977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8000" y="45684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В каком государстве находится штаб-квартира Всемирного фонда дикой природ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141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ррр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1020600" y="514512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Швейца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3348000" y="3357720"/>
            <a:ext cx="2778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5940360" y="5157720"/>
            <a:ext cx="2560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 Фра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520" y="659880"/>
            <a:ext cx="871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 переводится название экологической организации - Гринпис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2046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3492360" y="343548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елёный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826920" y="5013360"/>
            <a:ext cx="2778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елёный 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5983200" y="5011560"/>
            <a:ext cx="2559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елёная стр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5425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огда отмечают Международный день защиты животных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30120" y="2006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5546880" y="4863960"/>
            <a:ext cx="3016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4 октяб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611280" y="4863960"/>
            <a:ext cx="3209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 ию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3276720" y="3406680"/>
            <a:ext cx="2919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 апр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зависит от экологических пробле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2916360" y="2735280"/>
            <a:ext cx="30956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удьба всех живых су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14240" y="4286160"/>
            <a:ext cx="306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азвитие исторических собы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5651640" y="428616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абота фабрик и зав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8316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ерез какой океан плыл знаменитый путешественник Тур Хейерда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640" y="25300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552600" y="5043600"/>
            <a:ext cx="2944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тлан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2843280" y="3573360"/>
            <a:ext cx="2778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их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6126120" y="5043600"/>
            <a:ext cx="2560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еверный Ледови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мусор служил причиной гибели морских черепах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44400" y="1626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5711760" y="4286160"/>
            <a:ext cx="3160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иэтиленовые пак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714240" y="4286160"/>
            <a:ext cx="2778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еклянные буты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3492360" y="2676600"/>
            <a:ext cx="2559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умажные пак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лась папирусная лодка Хейердал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3427560" y="273528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778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6012000" y="4286160"/>
            <a:ext cx="2560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000" y="444240"/>
            <a:ext cx="87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количество деревьев спиливается в джунглях каждый ден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1841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900000" y="497844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000000 дерев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3348000" y="3429000"/>
            <a:ext cx="2778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ерев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5999040" y="4978440"/>
            <a:ext cx="2560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ерев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огда отмечают Международный день птиц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61800" y="1626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819000" y="443700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 апр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3182760" y="2924280"/>
            <a:ext cx="2778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2 м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6012000" y="4286160"/>
            <a:ext cx="2560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2 апр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59508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животное является эмблемой Всемирного фонды дикой природы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1841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3424320" y="3365640"/>
            <a:ext cx="25858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а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826920" y="4989600"/>
            <a:ext cx="2778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6010200" y="4956120"/>
            <a:ext cx="2559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урый медв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12:23:16Z</dcterms:modified>
  <cp:revision>714</cp:revision>
  <dc:subject/>
  <dc:title>Слайд 1</dc:title>
</cp:coreProperties>
</file>