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E1BF-8243-4864-A7E9-B44DF137A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EDDB-81F7-4969-9CF2-2CD2C234F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076B-C8EE-4541-AF04-F09F95B7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9130-D8DB-4A17-988D-166C3E93F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61B-5B63-44A8-A5E8-4ED77149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65AB-0C7F-4C13-93F9-3506C25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EB9C-A92A-4271-A09C-DA9556199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F28C-CB50-4C77-B1AC-0C6348718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2C5-E808-4672-B12F-94C4E946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CB76-3136-4244-BAE8-0EA27E27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A69-9A19-45D4-9A5C-3CAA12CC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567D-DC6E-47EF-ACEA-00E6039F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7899-6C47-4D22-B426-9D6E2677A6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608040"/>
            <a:ext cx="88930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8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ир глазами эколо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0200" y="2133720"/>
            <a:ext cx="85726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446640" y="61977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8000" y="4568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государстве находится штаб-квартира Всемирного фонда дикой природы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141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ррр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1020600" y="514512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Швейца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3348000" y="335772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Ш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5940360" y="515772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о 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20" y="659880"/>
            <a:ext cx="8710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переводится название экологической организации - Гринпи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04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492360" y="34354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й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826920" y="50133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ы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5983200" y="501156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Зелёная стр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5425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гда отмечают Международный день защиты животны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30120" y="200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546880" y="4863960"/>
            <a:ext cx="3016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4 октябр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611280" y="4863960"/>
            <a:ext cx="3209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 ию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3276720" y="3406680"/>
            <a:ext cx="291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зависит от экологических пробле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916360" y="273528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удьба всех живых су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14240" y="4286160"/>
            <a:ext cx="3065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звитие исторических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5651640" y="4286160"/>
            <a:ext cx="2921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бота фабрик и заво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3640" y="83160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ерез какой океан плыл знаменитый путешественник Тур Хейердал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640" y="25300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552600" y="5043600"/>
            <a:ext cx="294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тлант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2843280" y="35733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их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126120" y="504360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еверный Ледови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мусор служил причиной гибели морских черепах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44400" y="162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5711760" y="4286160"/>
            <a:ext cx="3160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иэтиленовы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теклянные бутыл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492360" y="267660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мажные пак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лась папирусная лодка Хейерда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427560" y="27352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01200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44240"/>
            <a:ext cx="87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количество деревьев спиливается в джунглях каждый ден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21841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900000" y="49784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0000 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348000" y="342900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5999040" y="497844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ревь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огда отмечают Международный день птиц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61800" y="1626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819000" y="443700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1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3182760" y="2924280"/>
            <a:ext cx="2778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2 мар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6012000" y="4286160"/>
            <a:ext cx="2560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22 апр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59508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е животное является эмблемой Всемирного фонды дикой природы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1841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24320" y="3365640"/>
            <a:ext cx="25858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н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826920" y="4989600"/>
            <a:ext cx="27781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о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010200" y="4956120"/>
            <a:ext cx="25592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рый медвед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2:23:16Z</dcterms:modified>
  <cp:revision>714</cp:revision>
  <dc:subject/>
  <dc:title>Слайд 1</dc:title>
</cp:coreProperties>
</file>