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B69-FF93-47F3-BACA-418BA2A6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F41-CEB4-4EA7-BEBC-13F251F3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5B4-02C7-47C0-B033-6E83637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937-E709-431B-A787-82480E61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C00-AFD9-4871-B0E0-8EC839E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593-6018-4478-B7EC-E1E0EB8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69D-CE67-4C6A-A317-BF356507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D73-CAF6-4B4A-BA1F-DE2203E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A4E-C2DB-42B0-B606-084B333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A1F-6FA0-4CF8-98ED-B564995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D0F-BAB0-4315-8AB2-1251603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D83-9959-42F7-AF1E-5BFDF27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7BC-49D4-4410-9EB1-C13B8C67D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91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9. Сокровища земли под охраной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78596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104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Большой Кань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90680" y="43164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262728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Великая Китайская сте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045040" y="426096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1148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водится пан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входит во Всемирное наслед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оизводствен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ирод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культур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в эмблеме Всемирного наследия символизирует кру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01640" y="4437000"/>
            <a:ext cx="300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987640" y="27338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оре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948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ая фигура на эмблеме Всемирного наследия символизирует творения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2636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234040" y="526896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300640"/>
            <a:ext cx="292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36720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природ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148360" y="41940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ий Крем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 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34800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 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культур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68160" y="431964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0364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адж - Ма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48060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из памятников Всемирного природного наследия находится в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2960" y="2097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2816280" y="339732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улканы Камч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5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ой Кань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3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Игу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остройка сделана из дер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772160" y="4286160"/>
            <a:ext cx="352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церковь Ки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132000" y="2670120"/>
            <a:ext cx="3281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ликая Китайская ст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01:34Z</dcterms:modified>
  <cp:revision>714</cp:revision>
  <dc:subject/>
  <dc:title>Слайд 1</dc:title>
</cp:coreProperties>
</file>