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F9B8-58BC-4923-B8AE-87171958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A97-070C-4F4A-A259-AA3C8068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D17-5EA1-4B95-9C2E-A4CB097A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A25B-2323-4D47-AB35-AE40DFB8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C6D-8553-4D7F-9313-C5BFDC6D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6C7-B26F-45F7-BAAD-27BD7D85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0F7-A786-440E-B7B3-2E333459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844-02A3-4999-B34D-1CB0125C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56CE-852E-499C-879E-F2E547C8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B46-FDF4-4F4C-92BB-526E6A00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90C-9E22-4B0D-8851-5630F701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A4B-45DD-4FE0-BA81-37314077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237B-C43D-48CA-A1EF-A6B904CE2E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391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9. Сокровища земли под охраной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785960"/>
            <a:ext cx="8572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419640" y="616104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 каком материке находится Большой Каньон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490680" y="4316400"/>
            <a:ext cx="338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Аме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2627280" y="2733840"/>
            <a:ext cx="2922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Евра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5435640" y="43164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Аф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 каком материке находится Великая Китайская стен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045040" y="426096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Евра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Австр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111480" y="261144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Аме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стране водится пан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2627280" y="299412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435640" y="43164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не входит во Всемирное наслед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2627280" y="299412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емирное производственное насле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емирное природное насле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435640" y="43164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емирное культурное насле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в эмблеме Всемирного наследия символизирует круг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701640" y="4437000"/>
            <a:ext cx="3006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р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2987640" y="273384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ворения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435640" y="43164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6948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Какая фигура на эмблеме Всемирного наследия символизирует творения челове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0840" y="2636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5234040" y="5268960"/>
            <a:ext cx="338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826920" y="5300640"/>
            <a:ext cx="29228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132000" y="36720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объект не относится к природному наследию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148360" y="4194000"/>
            <a:ext cx="338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сковский Крем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зеро Байк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3348000" y="261144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оры Ал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объект не относится к культурному наследию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668160" y="431964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опад Вик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203640" y="2733840"/>
            <a:ext cx="2922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адж - Мах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435640" y="43164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финский Акроп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48060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й из памятников Всемирного природного наследия находится в Росс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42960" y="2097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2816280" y="3397320"/>
            <a:ext cx="338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улканы Камч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55640" y="488808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ьшой Кань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5435640" y="488808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опад Игуа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остройка сделана из дере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4772160" y="4286160"/>
            <a:ext cx="3528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церковь Ки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14240" y="4286160"/>
            <a:ext cx="3137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финский Акроп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3132000" y="2670120"/>
            <a:ext cx="3281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ликая Китайская ст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6:01:34Z</dcterms:modified>
  <cp:revision>714</cp:revision>
  <dc:subject/>
  <dc:title>Слайд 1</dc:title>
</cp:coreProperties>
</file>