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6D1-6A55-4810-9602-875B835AA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6515-C28C-49ED-99CF-32BAF54C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5BC5-9102-429E-85C7-2CCD89A5E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8E00-40A6-4482-9735-53F9203EB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0352-2013-49AD-AF36-81E8AC4A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FD7E-51BF-432B-90D8-E8A3BFBD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34E3-0037-4088-BF01-9C079AE5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C51-7951-40D0-8E33-AF6CDF3E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EA8E-F353-4AEF-99D7-84FD19A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AE67-E337-4659-B1BB-12A972DE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E27E-A512-4A9E-A620-1EC6607D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038D-F648-4936-9AF7-80A391D4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9BE2-AA96-4DA4-846A-5460BACB73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91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9. Сокровища земли под охраной человечеств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78596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16104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материке находится Большой Каньон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490680" y="43164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Аме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2627280" y="2733840"/>
            <a:ext cx="292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Ев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ф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 каком материке находится Великая Китайская стен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5045040" y="426096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Евраз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3111480" y="26114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еверной Амер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й стране водится панд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2627280" y="29941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входит во Всемирное наследи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627280" y="299412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производствен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природ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мирное культурное наслед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в эмблеме Всемирного наследия символизирует круг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701640" y="4437000"/>
            <a:ext cx="300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ир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2987640" y="27338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ворения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л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8000" y="69480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ая фигура на эмблеме Всемирного наследия символизирует творения человека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20840" y="2636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234040" y="526896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вадр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5300640"/>
            <a:ext cx="29228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р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132000" y="36720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еуголь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бъект не относится к природному наслед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148360" y="419400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сковский Крем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зеро 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348000" y="261144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оры Алт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бъект не относится к культурному наследию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68160" y="4319640"/>
            <a:ext cx="3384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пад Вик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203640" y="2733840"/>
            <a:ext cx="2922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адж - Мах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435640" y="431640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финский Акр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48060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ой из памятников Всемирного природного наследия находится в Росси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42960" y="2097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2816280" y="3397320"/>
            <a:ext cx="338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улканы Камчат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55640" y="488808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ольшой Кань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435640" y="488808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допад Игуас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постройка сделана из дере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4772160" y="4286160"/>
            <a:ext cx="352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церковь Ки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313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финский Акроп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3132000" y="2670120"/>
            <a:ext cx="3281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ликая Китайская ст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6:01:34Z</dcterms:modified>
  <cp:revision>714</cp:revision>
  <dc:subject/>
  <dc:title>Слайд 1</dc:title>
</cp:coreProperties>
</file>