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8.wmf" ContentType="image/x-wmf"/>
  <Override PartName="/ppt/media/image37.jpeg" ContentType="image/jpeg"/>
  <Override PartName="/ppt/media/image27.jpeg" ContentType="image/jpeg"/>
  <Override PartName="/ppt/media/image50.jpeg" ContentType="image/jpeg"/>
  <Override PartName="/ppt/media/image24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34.png" ContentType="image/png"/>
  <Override PartName="/ppt/media/image23.png" ContentType="image/png"/>
  <Override PartName="/ppt/media/image33.png" ContentType="image/pn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10.gif" ContentType="image/gif"/>
  <Override PartName="/ppt/media/image12.png" ContentType="image/png"/>
  <Override PartName="/ppt/media/image49.jpeg" ContentType="image/jpeg"/>
  <Override PartName="/ppt/media/image45.png" ContentType="image/png"/>
  <Override PartName="/ppt/media/image46.png" ContentType="image/png"/>
  <Override PartName="/ppt/media/image11.png" ContentType="image/png"/>
  <Override PartName="/ppt/media/image19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13.jpeg" ContentType="image/jpeg"/>
  <Override PartName="/ppt/media/image44.png" ContentType="image/png"/>
  <Override PartName="/ppt/media/image40.jpeg" ContentType="image/jpeg"/>
  <Override PartName="/ppt/media/image5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FA09-3EFA-4192-8ACE-6E5BDA11B1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1210-E81F-486A-95AD-E21B633B3A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FE66-3EB3-4E0E-9FD5-E96B69DE3E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52A9-129B-436E-90F8-2E4EBEAAD4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8970-1493-4887-82CC-2B2A9DD655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3710-0761-4EFC-B633-64CC3F1913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A246-F313-4196-AA49-E235F6B01F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5AB5-4EDD-4950-BDA5-FEB9057D62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44FF-DCBA-4BAC-9F81-CA87B357C6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EBD5-05B9-4B62-8E43-3A562BED4F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B153-50A7-4CE5-8D1A-556ABE2D1E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8453-DCAC-426E-8658-E7828D5B04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BA0C-CB33-4C99-BD3F-B8FECAE99B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E9A6-BAC8-4CA2-BADB-21C47693F1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7A59-164F-4B02-A010-53C41D041A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FE43-8BF7-4C52-89C3-5D2E0DF051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1FA3-A7DA-4928-91CA-4DE1917CFA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2DE9-DFC0-4EB4-862C-07E789DCC2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8E2C-03C0-4AEF-A745-2E1B683C77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C395-BF3C-49F7-AF28-510D354C3F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323E-0CEE-4075-A308-DA970A7039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36AA-715A-453B-BF96-6C18973F4F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F019-0FD6-411E-9CB8-EB5D8669DA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6602-E074-4AAF-8118-B207A3097D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CEB8-A19D-4C99-85BB-53E1C4386A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416D-8CF6-435F-BB03-E1E171FA4C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6560-4E4B-478E-AB72-8E53278FB3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EF39-6CB4-4921-8622-AEB51BA1C7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228B-BF83-49F4-AE1D-9D99926A5E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A7D7-F026-46F3-AC51-E5BBABA1EB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103F-5749-4B17-9CFD-01B4392E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1E6E-E6F1-445C-8EF2-8CDA24C8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B483-F078-4534-8496-9437E304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DB7-7570-49A7-AB40-3F622F41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D4D8-A96A-4851-827B-701F38AE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6262-6BD6-49E6-A156-B4B789DD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8CF-2F69-404B-9BCC-CA59FF7B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293F-CBD1-48F0-8FC4-693C9E78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38C-581E-4490-AC5B-7D328FD4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B99-C09B-4D98-A809-FC11E067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E5D-8153-4A08-9E58-8C0CAE72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141A-AC5D-4208-A198-15F99D21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0470-2AF5-49F7-8AD8-67947956EA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«Ребёнок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на рубеже</a:t>
            </a: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дошкольного и школьного</a:t>
            </a: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учреждения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i[13]"/>
          <p:cNvPicPr/>
          <p:nvPr/>
        </p:nvPicPr>
        <p:blipFill>
          <a:blip r:embed="rId1"/>
          <a:stretch/>
        </p:blipFill>
        <p:spPr>
          <a:xfrm>
            <a:off x="971640" y="1916280"/>
            <a:ext cx="3960720" cy="338112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2" descr=""/>
          <p:cNvPicPr/>
          <p:nvPr/>
        </p:nvPicPr>
        <p:blipFill>
          <a:blip r:embed="rId2"/>
          <a:stretch/>
        </p:blipFill>
        <p:spPr>
          <a:xfrm>
            <a:off x="4356000" y="4149720"/>
            <a:ext cx="4608720" cy="24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Как правильно организовать дома рабочее место первоклассн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упите первоклассни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исьменный стол. Т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бенок сможет сам разлож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ящики стола учеб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надлежности и науч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ддерживать порядок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бочем мес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Лучше, если освещение буд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слева. Занавески ну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тодвинуть в сторону - основ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свет должен попадать чер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ерхнюю треть ок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Картинка 757 из 1228"/>
          <p:cNvPicPr/>
          <p:nvPr/>
        </p:nvPicPr>
        <p:blipFill>
          <a:blip r:embed="rId1"/>
          <a:stretch/>
        </p:blipFill>
        <p:spPr>
          <a:xfrm>
            <a:off x="539640" y="429408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Картинка 544 из 1214"/>
          <p:cNvPicPr/>
          <p:nvPr/>
        </p:nvPicPr>
        <p:blipFill>
          <a:blip r:embed="rId2"/>
          <a:stretch/>
        </p:blipFill>
        <p:spPr>
          <a:xfrm>
            <a:off x="5819760" y="1628640"/>
            <a:ext cx="22017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468360" y="26028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        </a:t>
            </a: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Обязательно ли ребенок </a:t>
            </a:r>
            <a:br>
              <a:rPr sz="3600"/>
            </a:b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    должен уметь читать и пис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                       </a:t>
            </a: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к 1 класс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179280" y="1989000"/>
            <a:ext cx="864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Не обяза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Умение складывать из слогов слова еще не является умением читать. Многие дети с трудом осваивают эту сложную мыслительную операцию - не стоит их подгонять! Навык чтения и письма должен формироваться по специальным методикам (складываются представления о речи, звуках и буквах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сновными умениями при чтении являются понимание прочитанного текста, анализ описанной ситу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тветы на вопросы после чт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SCHOOLG"/>
          <p:cNvPicPr/>
          <p:nvPr/>
        </p:nvPicPr>
        <p:blipFill>
          <a:blip r:embed="rId1"/>
          <a:stretch/>
        </p:blipFill>
        <p:spPr>
          <a:xfrm>
            <a:off x="7596360" y="5013360"/>
            <a:ext cx="133668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2" descr=""/>
          <p:cNvPicPr/>
          <p:nvPr/>
        </p:nvPicPr>
        <p:blipFill>
          <a:blip r:embed="rId1"/>
          <a:stretch/>
        </p:blipFill>
        <p:spPr>
          <a:xfrm>
            <a:off x="825480" y="704880"/>
            <a:ext cx="7493040" cy="1143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7200" y="1785600"/>
            <a:ext cx="4829040" cy="44290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составлять рассказ по 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казывать содержание известной ска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казывать связные истории из свое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уж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от  умение бегло читать или писать письменными буквами – совершенно не обязатель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9785947433449.jpg"/>
          <p:cNvPicPr/>
          <p:nvPr/>
        </p:nvPicPr>
        <p:blipFill>
          <a:blip r:embed="rId2"/>
          <a:stretch/>
        </p:blipFill>
        <p:spPr>
          <a:xfrm>
            <a:off x="5857920" y="2428920"/>
            <a:ext cx="3071880" cy="41972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3532_russian_schools_02.jpg"/>
          <p:cNvPicPr/>
          <p:nvPr/>
        </p:nvPicPr>
        <p:blipFill>
          <a:blip r:embed="rId3"/>
          <a:stretch/>
        </p:blipFill>
        <p:spPr>
          <a:xfrm rot="559200">
            <a:off x="5722920" y="431280"/>
            <a:ext cx="2857680" cy="20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2" descr=""/>
          <p:cNvPicPr/>
          <p:nvPr/>
        </p:nvPicPr>
        <p:blipFill>
          <a:blip r:embed="rId1"/>
          <a:stretch/>
        </p:blipFill>
        <p:spPr>
          <a:xfrm>
            <a:off x="360360" y="255600"/>
            <a:ext cx="8393040" cy="1274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56760" y="1785960"/>
            <a:ext cx="5357880" cy="4643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Ребенку важно научиться владеть собственными пальчиками – ведь теперь он будет учиться 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ому ему нужно уме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 держать руч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ься ножниц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овать и леп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водить контуры и заштриховывать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1232699973_1_2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929200" y="2286000"/>
            <a:ext cx="2928960" cy="41432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big_school.gif"/>
          <p:cNvPicPr/>
          <p:nvPr/>
        </p:nvPicPr>
        <p:blipFill>
          <a:blip r:embed="rId3"/>
          <a:stretch/>
        </p:blipFill>
        <p:spPr>
          <a:xfrm>
            <a:off x="6215040" y="0"/>
            <a:ext cx="1838520" cy="17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8" descr=""/>
          <p:cNvPicPr/>
          <p:nvPr/>
        </p:nvPicPr>
        <p:blipFill>
          <a:blip r:embed="rId1"/>
          <a:stretch/>
        </p:blipFill>
        <p:spPr>
          <a:xfrm>
            <a:off x="420840" y="244440"/>
            <a:ext cx="8223120" cy="1444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99680" y="1857240"/>
            <a:ext cx="4714920" cy="4572000"/>
          </a:xfrm>
          <a:prstGeom prst="rect">
            <a:avLst/>
          </a:prstGeom>
          <a:solidFill>
            <a:srgbClr val="f8fbfc"/>
          </a:solidFill>
          <a:ln w="9360">
            <a:solidFill>
              <a:srgbClr val="d6ece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» (имя, фамилия, пол, возраст, место прожива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я семья (Ф. И. О. родителей, состав семьи, професс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жающий мир (животные и растения, времена года и явления природы, люди и техника и т. д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7" descr="65662.jpg"/>
          <p:cNvPicPr/>
          <p:nvPr/>
        </p:nvPicPr>
        <p:blipFill>
          <a:blip r:embed="rId2"/>
          <a:stretch/>
        </p:blipFill>
        <p:spPr>
          <a:xfrm>
            <a:off x="5643720" y="2071800"/>
            <a:ext cx="2786040" cy="42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1800360" cy="2435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6948360" y="3645000"/>
            <a:ext cx="1932120" cy="2781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1835280" y="3184560"/>
            <a:ext cx="5267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На переменах допускаются подвижные и настольные игры. Главное, чтобы во время игры соблюдались правила безопасности и школьники случайно не поранили друг дру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84360" y="1413000"/>
            <a:ext cx="777708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тдыхают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чем отдых должен быть активным, ведь после урока, который предполагает пребывание ученика в однообразной рабочей позе, ребенку необходима разря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peremenka"/>
          <p:cNvPicPr/>
          <p:nvPr/>
        </p:nvPicPr>
        <p:blipFill>
          <a:blip r:embed="rId3"/>
          <a:stretch/>
        </p:blipFill>
        <p:spPr>
          <a:xfrm>
            <a:off x="6659640" y="189000"/>
            <a:ext cx="2155680" cy="1536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617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cc"/>
                </a:solidFill>
                <a:latin typeface="Arial"/>
              </a:rPr>
              <a:t>Что делают дети на перемена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AG00319_"/>
          <p:cNvPicPr/>
          <p:nvPr/>
        </p:nvPicPr>
        <p:blipFill>
          <a:blip r:embed="rId4"/>
          <a:stretch/>
        </p:blipFill>
        <p:spPr>
          <a:xfrm>
            <a:off x="395280" y="836640"/>
            <a:ext cx="1619280" cy="117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"/>
              </a:rPr>
              <a:t>Почему учителя не ставят оценки </a:t>
            </a:r>
            <a:br>
              <a:rPr sz="3600"/>
            </a:br>
            <a:r>
              <a:rPr b="0" lang="ru-RU" sz="3600" spc="-1" strike="noStrike">
                <a:solidFill>
                  <a:srgbClr val="cc00cc"/>
                </a:solidFill>
                <a:latin typeface="Arial"/>
              </a:rPr>
              <a:t>в 1 класс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1191269140_c4121"/>
          <p:cNvPicPr/>
          <p:nvPr/>
        </p:nvPicPr>
        <p:blipFill>
          <a:blip r:embed="rId1"/>
          <a:stretch/>
        </p:blipFill>
        <p:spPr>
          <a:xfrm>
            <a:off x="6940440" y="2924280"/>
            <a:ext cx="2203560" cy="3933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250920" y="1484280"/>
            <a:ext cx="705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 1 классе обучение действительно </a:t>
            </a: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безоценочное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. Это оправдано тем, что ребенок находится в самом начале учебного пути. К концу первого года обучения уже можно судить о той или иной степени успешности младшего шк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 1 классе </a:t>
            </a:r>
            <a:r>
              <a:rPr b="0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основной упор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делается на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риобретение навыков учебного труда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. В работе учителя с учеником присутствует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словесная 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оценка. Важно, чтобы она была позитив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"/>
              </a:rPr>
              <a:t>Можно ли носить в школу мобильный телефо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00360" y="1628640"/>
            <a:ext cx="611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нашей школе 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запрещено</a:t>
            </a:r>
            <a:r>
              <a:rPr b="0" lang="ru-RU" sz="24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ользование мобильным телефоном 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ы не рекомендуем носить в школу мобильный телефон первоклассникам — велико искушение звонить маме по малейшему поводу или поиграть на уроке в электронную иг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ме того, дорогой телефон может возбудить нездоровый интерес одноклассников, его можно потерят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Картинка 75 из 15113"/>
          <p:cNvPicPr/>
          <p:nvPr/>
        </p:nvPicPr>
        <p:blipFill>
          <a:blip r:embed="rId1"/>
          <a:stretch/>
        </p:blipFill>
        <p:spPr>
          <a:xfrm>
            <a:off x="0" y="1341360"/>
            <a:ext cx="2303640" cy="2352600"/>
          </a:xfrm>
          <a:prstGeom prst="rect">
            <a:avLst/>
          </a:prstGeom>
          <a:ln w="9360">
            <a:solidFill>
              <a:srgbClr val="edfe12"/>
            </a:solidFill>
            <a:miter/>
          </a:ln>
        </p:spPr>
      </p:pic>
      <p:pic>
        <p:nvPicPr>
          <p:cNvPr id="102" name="Picture 12" descr="Картинка 132 из 15113"/>
          <p:cNvPicPr/>
          <p:nvPr/>
        </p:nvPicPr>
        <p:blipFill>
          <a:blip r:embed="rId2"/>
          <a:stretch/>
        </p:blipFill>
        <p:spPr>
          <a:xfrm>
            <a:off x="826920" y="3213000"/>
            <a:ext cx="1873440" cy="2227320"/>
          </a:xfrm>
          <a:prstGeom prst="rect">
            <a:avLst/>
          </a:prstGeom>
          <a:ln w="9360">
            <a:solidFill>
              <a:srgbClr val="edfe12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cc"/>
                </a:solidFill>
                <a:latin typeface="Arial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Согласно ст.901. ГК РФ образовательное учреждение не является профессиональным хранителем  и не несет ответственности за вещи находящиеся при  учениках во время занятий и на территории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0" descr="Рисунок2.jpg"/>
          <p:cNvPicPr/>
          <p:nvPr/>
        </p:nvPicPr>
        <p:blipFill>
          <a:blip r:embed="rId1"/>
          <a:stretch/>
        </p:blipFill>
        <p:spPr>
          <a:xfrm>
            <a:off x="7524720" y="620640"/>
            <a:ext cx="1292400" cy="1728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cc"/>
                </a:solidFill>
                <a:latin typeface="Arial"/>
              </a:rPr>
              <a:t>Можно ли носить в школу игрушк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Да, мож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Игровая деятельность ещё значимая для ребёнка, любимая игрушка зачастую олицетворяет друга, с ней можно поиграть на перемене вместе с одноклассни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5" descr="J0236987.WMF"/>
          <p:cNvPicPr/>
          <p:nvPr/>
        </p:nvPicPr>
        <p:blipFill>
          <a:blip r:embed="rId2"/>
          <a:stretch/>
        </p:blipFill>
        <p:spPr>
          <a:xfrm>
            <a:off x="179280" y="765000"/>
            <a:ext cx="1963800" cy="15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Arial"/>
              </a:rPr>
              <a:t>«Быть готовым к школе – не значит уметь читать, писать и считать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Arial"/>
              </a:rPr>
              <a:t>Быть готовым к школе –  значит быть готовым всему этому научиться»  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Arial"/>
              </a:rPr>
              <a:t>                                      </a:t>
            </a:r>
            <a:r>
              <a:rPr b="1" lang="ru-RU" sz="3300" spc="-1" strike="noStrike">
                <a:solidFill>
                  <a:srgbClr val="ff0000"/>
                </a:solidFill>
                <a:latin typeface="Arial"/>
              </a:rPr>
              <a:t>Венгер Л.А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Program Files\Microsoft Office\CLIPART\PUB60COR\AN00790_.WMF"/>
          <p:cNvPicPr/>
          <p:nvPr/>
        </p:nvPicPr>
        <p:blipFill>
          <a:blip r:embed="rId1"/>
          <a:stretch/>
        </p:blipFill>
        <p:spPr>
          <a:xfrm>
            <a:off x="468360" y="260280"/>
            <a:ext cx="2519280" cy="23050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1720" y="533520"/>
            <a:ext cx="7439040" cy="752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Готовы ли родители к школ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00280" y="1571400"/>
            <a:ext cx="5010480" cy="4714920"/>
          </a:xfrm>
          <a:prstGeom prst="rect">
            <a:avLst/>
          </a:prstGeom>
          <a:solidFill>
            <a:srgbClr val="f1f9f9"/>
          </a:solidFill>
          <a:ln w="9360">
            <a:solidFill>
              <a:srgbClr val="72bfc5"/>
            </a:solidFill>
            <a:miter/>
          </a:ln>
        </p:spPr>
        <p:txBody>
          <a:bodyPr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ртвовать своим личным временем  и некоторыми привычкам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держивать свои эмоци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кричать, не унижать и не обиж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равнивать своего ребенка с другими детьм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наказывать ребенка без причин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да встречать ребенка из школы с улыбк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ть щедрым на похвалу за достигнутые результат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Содержимое 8" descr="5972282e64cbt.jpg"/>
          <p:cNvPicPr/>
          <p:nvPr/>
        </p:nvPicPr>
        <p:blipFill>
          <a:blip r:embed="rId1"/>
          <a:stretch/>
        </p:blipFill>
        <p:spPr>
          <a:xfrm>
            <a:off x="571680" y="1714680"/>
            <a:ext cx="2714400" cy="40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ресс - код первоклашки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64d"/>
                </a:solidFill>
                <a:latin typeface="Arial"/>
              </a:rPr>
              <a:t>Решение  родительского собрания и  Управляющего совета</a:t>
            </a:r>
            <a:r>
              <a:rPr b="0" i="1" lang="ru-RU" sz="4000" spc="-1" strike="noStrike">
                <a:solidFill>
                  <a:srgbClr val="00264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Изображение 826"/>
          <p:cNvPicPr/>
          <p:nvPr/>
        </p:nvPicPr>
        <p:blipFill>
          <a:blip r:embed="rId1"/>
          <a:stretch/>
        </p:blipFill>
        <p:spPr>
          <a:xfrm>
            <a:off x="4716360" y="1773360"/>
            <a:ext cx="3630600" cy="4392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C:\Documents and Settings\Владелец\Рабочий стол\P240112_09.29.jpg"/>
          <p:cNvPicPr/>
          <p:nvPr/>
        </p:nvPicPr>
        <p:blipFill>
          <a:blip r:embed="rId2"/>
          <a:stretch/>
        </p:blipFill>
        <p:spPr>
          <a:xfrm>
            <a:off x="1071720" y="1785960"/>
            <a:ext cx="342900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ресс – код мальч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284720" y="1341360"/>
            <a:ext cx="431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иджак  классическ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брюки, жи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(цвет выбирает каждый класс индивидуально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галст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Рубашка светл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однотон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Изображение 830"/>
          <p:cNvPicPr/>
          <p:nvPr/>
        </p:nvPicPr>
        <p:blipFill>
          <a:blip r:embed="rId1"/>
          <a:stretch/>
        </p:blipFill>
        <p:spPr>
          <a:xfrm>
            <a:off x="755640" y="1413000"/>
            <a:ext cx="352908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ресс - код</a:t>
            </a:r>
            <a:r>
              <a:rPr b="0" lang="ru-RU" sz="44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ев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3241440" cy="4464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571920" y="2571840"/>
            <a:ext cx="442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иджак, юбка или брюки черного цвета, жилет (цвет выбирает каждый класс индивидуальн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Светла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блуз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7885080" y="1341360"/>
            <a:ext cx="755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690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9" descr="C:\Documents and Settings\Владелец\Рабочий стол\P240112_09.29.jpg"/>
          <p:cNvPicPr/>
          <p:nvPr/>
        </p:nvPicPr>
        <p:blipFill>
          <a:blip r:embed="rId4"/>
          <a:stretch/>
        </p:blipFill>
        <p:spPr>
          <a:xfrm>
            <a:off x="428760" y="142884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Физкультурная фор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64d"/>
                </a:solidFill>
                <a:uFillTx/>
                <a:latin typeface="Arial"/>
              </a:rPr>
              <a:t>Для спортивного зала</a:t>
            </a:r>
            <a:r>
              <a:rPr b="0" i="1" lang="ru-RU" sz="2800" spc="-1" strike="noStrike">
                <a:solidFill>
                  <a:srgbClr val="00264d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6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d"/>
                </a:solidFill>
                <a:latin typeface="Arial"/>
              </a:rPr>
              <a:t>футболка белого цвета,  спортивные брю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6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64d"/>
                </a:solidFill>
                <a:latin typeface="Arial"/>
              </a:rPr>
              <a:t>носки,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спортивная обувь</a:t>
            </a:r>
            <a:r>
              <a:rPr b="0" lang="ru-RU" sz="2800" spc="-1" strike="noStrike">
                <a:solidFill>
                  <a:srgbClr val="00264d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64d"/>
                </a:solidFill>
                <a:uFillTx/>
                <a:latin typeface="Arial"/>
              </a:rPr>
              <a:t>Для улицы</a:t>
            </a:r>
            <a:r>
              <a:rPr b="0" i="1" lang="ru-RU" sz="2800" spc="-1" strike="noStrike">
                <a:solidFill>
                  <a:srgbClr val="00264d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6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d"/>
                </a:solidFill>
                <a:latin typeface="Arial"/>
              </a:rPr>
              <a:t>спортивный костю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6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d"/>
                </a:solidFill>
                <a:latin typeface="Arial"/>
              </a:rPr>
              <a:t>спортивная обув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64d"/>
                </a:solidFill>
                <a:uFillTx/>
                <a:latin typeface="Arial"/>
              </a:rPr>
              <a:t>Лыжная подготов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6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d"/>
                </a:solidFill>
                <a:latin typeface="Arial"/>
              </a:rPr>
              <a:t>куртка, спортивный костю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6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d"/>
                </a:solidFill>
                <a:latin typeface="Arial"/>
              </a:rPr>
              <a:t>варежки, шерстяные нос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6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d"/>
                </a:solidFill>
                <a:latin typeface="Arial"/>
              </a:rPr>
              <a:t>ботинки, лы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6588000" y="2852640"/>
            <a:ext cx="226872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Наши портф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ноябрь-2003 009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00080" y="1714680"/>
            <a:ext cx="7000920" cy="43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Arial"/>
              </a:rPr>
              <a:t>«Правильный» портф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ноябрь-2003 010"/>
          <p:cNvPicPr/>
          <p:nvPr/>
        </p:nvPicPr>
        <p:blipFill>
          <a:blip r:embed="rId1"/>
          <a:stretch/>
        </p:blipFill>
        <p:spPr>
          <a:xfrm>
            <a:off x="684360" y="1341360"/>
            <a:ext cx="3887640" cy="2916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ноябрь-2003 011"/>
          <p:cNvPicPr/>
          <p:nvPr/>
        </p:nvPicPr>
        <p:blipFill>
          <a:blip r:embed="rId2"/>
          <a:stretch/>
        </p:blipFill>
        <p:spPr>
          <a:xfrm>
            <a:off x="4788000" y="3052800"/>
            <a:ext cx="3690720" cy="33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8920" y="907560"/>
            <a:ext cx="8713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Для сохранения правильной осанки школьника очень важны размеры и вес ранц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Его </a:t>
            </a: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ширина</a:t>
            </a: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 не должна превышать ширину плеч ребенка, а </a:t>
            </a: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высота</a:t>
            </a: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 – 30 с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Вес вместе с содержимым</a:t>
            </a: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 - это максимум 15% от веса школьни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а в младших классах - 10%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Arial"/>
              </a:rPr>
              <a:t>«Правильный» портф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Вес ранца без учебников не более 70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Ранец должен иметь широкие лям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(4-4,5 с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Норма массы портфеля с учебными пособия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1 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Monotype Corsiva"/>
              </a:rPr>
              <a:t>–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 2 класс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не более 2 кг 20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3 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Monotype Corsiva"/>
              </a:rPr>
              <a:t>–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 4 класс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не более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3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 кг 20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Arial"/>
              </a:rPr>
              <a:t>Что у нас в портфеля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ноябрь-2003 012"/>
          <p:cNvPicPr/>
          <p:nvPr/>
        </p:nvPicPr>
        <p:blipFill>
          <a:blip r:embed="rId1"/>
          <a:stretch/>
        </p:blipFill>
        <p:spPr>
          <a:xfrm>
            <a:off x="4643280" y="4221000"/>
            <a:ext cx="4092840" cy="2078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2"/>
          <p:cNvPicPr/>
          <p:nvPr/>
        </p:nvPicPr>
        <p:blipFill>
          <a:blip r:embed="rId2"/>
          <a:stretch/>
        </p:blipFill>
        <p:spPr>
          <a:xfrm>
            <a:off x="1116000" y="1557360"/>
            <a:ext cx="7201080" cy="1942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2080"/>
          <p:cNvPicPr/>
          <p:nvPr/>
        </p:nvPicPr>
        <p:blipFill>
          <a:blip r:embed="rId3"/>
          <a:stretch/>
        </p:blipFill>
        <p:spPr>
          <a:xfrm>
            <a:off x="2556000" y="3645000"/>
            <a:ext cx="1295280" cy="1800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2096"/>
          <p:cNvPicPr/>
          <p:nvPr/>
        </p:nvPicPr>
        <p:blipFill>
          <a:blip r:embed="rId4"/>
          <a:stretch/>
        </p:blipFill>
        <p:spPr>
          <a:xfrm>
            <a:off x="539640" y="3645000"/>
            <a:ext cx="1368360" cy="1728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2404"/>
          <p:cNvPicPr/>
          <p:nvPr/>
        </p:nvPicPr>
        <p:blipFill>
          <a:blip r:embed="rId5"/>
          <a:stretch/>
        </p:blipFill>
        <p:spPr>
          <a:xfrm>
            <a:off x="3276720" y="4869000"/>
            <a:ext cx="1193760" cy="163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2083"/>
          <p:cNvPicPr/>
          <p:nvPr/>
        </p:nvPicPr>
        <p:blipFill>
          <a:blip r:embed="rId6"/>
          <a:stretch/>
        </p:blipFill>
        <p:spPr>
          <a:xfrm>
            <a:off x="468360" y="5084640"/>
            <a:ext cx="1150920" cy="1514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2065"/>
          <p:cNvPicPr/>
          <p:nvPr/>
        </p:nvPicPr>
        <p:blipFill>
          <a:blip r:embed="rId7"/>
          <a:stretch/>
        </p:blipFill>
        <p:spPr>
          <a:xfrm>
            <a:off x="1763640" y="4941720"/>
            <a:ext cx="107964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550836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ВАШ РЕБЁНОК ИДЕТ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В 1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08000" y="3284280"/>
            <a:ext cx="813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Советы и рекоменд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родителям будущих первоклассни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а так же ответы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часто задаваемые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j0432587"/>
          <p:cNvPicPr/>
          <p:nvPr/>
        </p:nvPicPr>
        <p:blipFill>
          <a:blip r:embed="rId1"/>
          <a:stretch/>
        </p:blipFill>
        <p:spPr>
          <a:xfrm>
            <a:off x="179280" y="189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Картинка 293 из 1273"/>
          <p:cNvPicPr/>
          <p:nvPr/>
        </p:nvPicPr>
        <p:blipFill>
          <a:blip r:embed="rId2"/>
          <a:stretch/>
        </p:blipFill>
        <p:spPr>
          <a:xfrm>
            <a:off x="179280" y="2708280"/>
            <a:ext cx="2667240" cy="380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AG00319_"/>
          <p:cNvPicPr/>
          <p:nvPr/>
        </p:nvPicPr>
        <p:blipFill>
          <a:blip r:embed="rId3"/>
          <a:stretch/>
        </p:blipFill>
        <p:spPr>
          <a:xfrm>
            <a:off x="7020000" y="333360"/>
            <a:ext cx="158436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611280" y="189000"/>
            <a:ext cx="741672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обходимые школьные принадлеж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ен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ветные карандаш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-3 шариковых ру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простых каранда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ас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не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пка для тетра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ложки для книг и тетра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пка для уроков тру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ветная бумага и цветной карт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стил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жницы с тупыми конц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ей-каранда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ей П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япо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ска для пласти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рту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пка для уроков ИЗ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ьб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источ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ки (гуаш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андаши, фломаст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ночка под в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ноябрь-2003 012"/>
          <p:cNvPicPr/>
          <p:nvPr/>
        </p:nvPicPr>
        <p:blipFill>
          <a:blip r:embed="rId1"/>
          <a:stretch/>
        </p:blipFill>
        <p:spPr>
          <a:xfrm>
            <a:off x="4500720" y="2276640"/>
            <a:ext cx="4092480" cy="20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Основные требования, предъявляемые гигиенистами </a:t>
            </a:r>
            <a:br>
              <a:rPr sz="4000"/>
            </a:b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к детской обу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101-0129_IMG"/>
          <p:cNvPicPr/>
          <p:nvPr/>
        </p:nvPicPr>
        <p:blipFill>
          <a:blip r:embed="rId1"/>
          <a:stretch/>
        </p:blipFill>
        <p:spPr>
          <a:xfrm>
            <a:off x="2268360" y="2637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ребования к школьной обув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ботм"/>
          <p:cNvPicPr/>
          <p:nvPr/>
        </p:nvPicPr>
        <p:blipFill>
          <a:blip r:embed="rId1"/>
          <a:stretch/>
        </p:blipFill>
        <p:spPr>
          <a:xfrm>
            <a:off x="4859280" y="1484280"/>
            <a:ext cx="3456000" cy="2273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бот"/>
          <p:cNvPicPr/>
          <p:nvPr/>
        </p:nvPicPr>
        <p:blipFill>
          <a:blip r:embed="rId2"/>
          <a:stretch/>
        </p:blipFill>
        <p:spPr>
          <a:xfrm>
            <a:off x="468360" y="2565360"/>
            <a:ext cx="4174920" cy="2951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мешок"/>
          <p:cNvPicPr/>
          <p:nvPr/>
        </p:nvPicPr>
        <p:blipFill>
          <a:blip r:embed="rId3"/>
          <a:stretch/>
        </p:blipFill>
        <p:spPr>
          <a:xfrm>
            <a:off x="5076720" y="3933720"/>
            <a:ext cx="309564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Arial"/>
              </a:rPr>
              <a:t>Требования к школьной обу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Жесткий задник с мягким верхом и закрытый нос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Удобная застежка: пряжка или </a:t>
            </a:r>
            <a:r>
              <a:rPr b="1" i="1" lang="ru-RU" sz="3200" spc="-1" strike="noStrike">
                <a:solidFill>
                  <a:srgbClr val="c00000"/>
                </a:solidFill>
                <a:latin typeface="Monotype Corsiva"/>
              </a:rPr>
              <a:t>«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липучка</a:t>
            </a:r>
            <a:r>
              <a:rPr b="1" i="1" lang="ru-RU" sz="3200" spc="-1" strike="noStrike">
                <a:solidFill>
                  <a:srgbClr val="c00000"/>
                </a:solidFill>
                <a:latin typeface="Monotype Corsiva"/>
              </a:rPr>
              <a:t>»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Хорошие супинато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Гибкая нескользящая подош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Воздухопроницаем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ФИЦИАЛЬНЫЙ САЙТ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АШЕЙ ШКОЛ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олучить информацию о школе и познакомиться с уставными документами можно на сайте нашей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"/>
          <p:cNvSpPr/>
          <p:nvPr/>
        </p:nvSpPr>
        <p:spPr>
          <a:xfrm>
            <a:off x="641880" y="4508640"/>
            <a:ext cx="782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ttp://www.mouososhsite.ru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900000" y="2637000"/>
            <a:ext cx="756144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5" descr="Картинка 385 из 1243"/>
          <p:cNvPicPr/>
          <p:nvPr/>
        </p:nvPicPr>
        <p:blipFill>
          <a:blip r:embed="rId1"/>
          <a:stretch/>
        </p:blipFill>
        <p:spPr>
          <a:xfrm>
            <a:off x="1619280" y="549360"/>
            <a:ext cx="6046920" cy="1257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Картинка 385 из 1243"/>
          <p:cNvPicPr/>
          <p:nvPr/>
        </p:nvPicPr>
        <p:blipFill>
          <a:blip r:embed="rId2"/>
          <a:stretch/>
        </p:blipFill>
        <p:spPr>
          <a:xfrm rot="10800000">
            <a:off x="1618920" y="4941360"/>
            <a:ext cx="6046920" cy="1257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Arial"/>
              </a:rPr>
              <a:t>С какого возраста принимаются дети в 1 клас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826920" y="1557360"/>
            <a:ext cx="79218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99"/>
                </a:solidFill>
                <a:latin typeface="Arial"/>
              </a:rPr>
              <a:t>В первый класс принимаются  дети, достигшие к 1 сентября текущего года возраста не ме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6 лет 6 месяцев</a:t>
            </a:r>
            <a:r>
              <a:rPr b="0" i="1" lang="ru-RU" sz="3200" spc="-1" strike="noStrike">
                <a:solidFill>
                  <a:srgbClr val="990099"/>
                </a:solidFill>
                <a:latin typeface="Arial"/>
              </a:rPr>
              <a:t> при отсутствии противопоказаний по состоянию здоровья, но не позже достижения ими возраста 8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99"/>
                </a:solidFill>
                <a:latin typeface="Arial"/>
              </a:rPr>
              <a:t>(СанПиН 2.4.2.2821-10; п. 10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Картинка 523 из 1204"/>
          <p:cNvPicPr/>
          <p:nvPr/>
        </p:nvPicPr>
        <p:blipFill>
          <a:blip r:embed="rId1"/>
          <a:stretch/>
        </p:blipFill>
        <p:spPr>
          <a:xfrm>
            <a:off x="6948360" y="5084640"/>
            <a:ext cx="180036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Существуют ли особенности в режиме дня первоклассн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-Пятидневная учебная нед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-Учебная недельная нагрузка  первоклассника не должна превышать  4 уроков в день и 1 день – не более 5 уро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-В сентябре- октябре в расписании первоклассников  3 традиционных урока, чтобы легче привыкнуть к новому виду деятельности - учеб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-Четвертые уроки проводятся в форме нетрадиционных занятий: игр, экскурсий, сказок, соревнований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- В середине  урока проводятся 1-2 физкультурные  минут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Существуют ли особенности в режиме дня первоклассн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В 1 полугодии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уроки длятся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35 минут,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во втором  - 45 минут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Нормативная наполняемость в классах –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20-25 челов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Безотметочная система оценивания зн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Учебники выдаются бесплат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Домашние задания в 1 классе не задаются.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Домашних заданий в 1 классе нет. Однако, если вы хотите сформировать у своего ребенка качественные навыки письма, чтения, счета, то не отказывайтесь от тренировочных упражнений, которые может порекомендовать Ваш учитель.</a:t>
            </a:r>
            <a:r>
              <a:rPr b="1" i="1" lang="ru-RU" sz="44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99"/>
                </a:solidFill>
                <a:latin typeface="Arial"/>
              </a:rPr>
              <a:t>Учебные занятия в 1 клас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ное чтение (обучение грамот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ий язык (письм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ма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ружающий  ми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ическая куль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и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Comic Sans MS"/>
              </a:rPr>
              <a:t>Ответы </a:t>
            </a:r>
            <a:br>
              <a:rPr sz="4400"/>
            </a:br>
            <a:r>
              <a:rPr b="1" lang="ru-RU" sz="4400" spc="-1" strike="noStrike">
                <a:solidFill>
                  <a:srgbClr val="990099"/>
                </a:solidFill>
                <a:latin typeface="Comic Sans MS"/>
              </a:rPr>
              <a:t>для родителей </a:t>
            </a:r>
            <a:br>
              <a:rPr sz="4400"/>
            </a:br>
            <a:r>
              <a:rPr b="1" lang="ru-RU" sz="4400" spc="-1" strike="noStrike">
                <a:solidFill>
                  <a:srgbClr val="990099"/>
                </a:solidFill>
                <a:latin typeface="Comic Sans MS"/>
              </a:rPr>
              <a:t>на часто задаваемые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f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03:40Z</dcterms:created>
  <dc:creator>Настя</dc:creator>
  <dc:description/>
  <dc:language>en-US</dc:language>
  <cp:lastModifiedBy>Комп</cp:lastModifiedBy>
  <dcterms:modified xsi:type="dcterms:W3CDTF">2019-11-07T17:35:35Z</dcterms:modified>
  <cp:revision>74</cp:revision>
  <dc:subject/>
  <dc:title>Ваш ребёнок идет в школу</dc:title>
</cp:coreProperties>
</file>