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019160" y="721800"/>
            <a:ext cx="4819680" cy="36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161C-6F39-43FB-A118-32B373D80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FCF-B1D4-4A42-B98B-5FB51E8BC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E512-B743-4053-9298-1F5C2E5FF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EE5F-5ED9-4744-A2B7-56CD6EBF4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1E0-5C84-49F5-88BF-CA5ED32B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418-C83A-44CF-84B6-21F51251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AABBB-4A40-468D-A135-04907623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4A206-E564-4597-B6EF-A65CD05D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F35CF-87F2-41B7-AF42-08830BA8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ED70A-903B-41E4-9E14-97AAEB6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745DB-7104-43D7-857C-15E36E7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725D1-824A-4122-AE46-D45C38A5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537BC-5FB4-4E26-9956-6BCB5D03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2F4EC-98A3-4DFA-853D-E7BC621A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22AA9-E773-4E96-9384-FEA63CC6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2AF-A155-40CE-8E5F-DE65BADD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ED0-8BCC-4D8C-B4F4-AB3EDF29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773A-93C5-472C-B298-718B6C27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B403-177A-44D9-B803-9DD3797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DAF4-2717-481F-8F53-A351418F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8753-01DB-4855-8429-3D4C8F54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779-A845-495E-9F83-BB4AE396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5F91-5FB0-4142-B0EC-50505955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5C69-9B6F-4348-BC39-2E853E40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659-EE2B-405A-B18A-654C6776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5C40-FAAB-4ECF-95C3-9C496468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E2ED-48B0-4595-A4CD-83CAB7DE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A9F4-535C-4767-BBCE-13E13806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AFE5-93BB-4FB5-A518-33B9762D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9E8A-30DB-4FF8-A49C-E46CAB66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A606-4BBF-4ADF-9CA8-2C40DBAC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146A-6C90-4935-8EC2-0BD79E34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0658-0B1B-45B8-AABB-4A744260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56C4-E351-43DA-8F21-B3857AC1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BA06-D2FB-4D5A-A9EC-29D70A85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E32-71DE-487D-8FAB-A57AA2C6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77F0-71BD-443B-902C-94A41ECC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2091-C33D-4FEE-A350-9FD766A0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5D82-91E8-4DCD-B4DE-25D450F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C2FD-2358-4B54-9961-A8ED8761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A14B-D9B0-4188-88AD-17C53BF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9276-F759-4241-A61B-2E2A8F63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74C3-4534-42D4-B2E0-21509B15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AF106-FFBC-468C-A360-3BC260CE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53AD-6A74-4209-8A96-9EA50C12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1505B-306C-4626-800D-6A2CFFA8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712-0645-495B-81D8-37864EF6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F219-9605-4660-82B1-862D983A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9095-AC65-44C1-B667-942F6064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D9AFA-01D2-475C-AE55-943CED1B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D2E8-99F1-412E-AD13-956982BA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9D23-965F-4BA9-AA0C-256077E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D48A-6787-4A60-AB82-867B520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751BF-E4E2-47ED-A71E-740DD1B3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E969-3BCF-4C03-B2BC-30C1CB0C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0FA7-9764-4522-8E06-64F8E360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BEA4-E963-4B0B-ACD5-79277B56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2A0-DA21-4C99-99B6-07B606DA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F6E3D-2E11-4089-BB68-7DC2184C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BA94-3F0B-4DE5-BAD6-F41802B6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154B-82FA-450B-BFE1-18C07C81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9E6CD-81D4-4308-B669-56476AC8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582EC-6376-4E3C-A916-8C9EE61F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22ED-FBE4-4E8F-B7F3-528CC51E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D085-E70B-4573-9420-28FEEBF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48C9-54B0-47AD-83DB-BEE4FC41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03549-3B61-48AF-BEB7-8A80E597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0BCA6-DAF2-4499-80A2-2DB1C302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0B2-D773-43D5-8D74-D5B585D2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F4EC-FACC-4D59-89D5-711EF21A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B3CAB-9C81-4DD7-AE99-7BAEDED0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826D-E2DB-4152-8C46-4E4DF46E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99591-74C7-4B75-8EBB-28713ED1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8AA8-0323-4249-80CC-36E5E1A4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E740-7761-42CE-B348-2B504F69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F885-B8F6-4952-AD11-AEE14F38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C02B-5B34-48E2-B009-B1382F9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1AE3A-FF5E-4449-9709-686499A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EF3DD-B081-47E7-9CCF-5F0FA6E1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03E-9D59-4D16-976F-AA5951B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9AB68-68B9-4413-80E3-46F7B595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322E-1C8E-456D-8FA5-45B9C191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F93C-9BFA-43BE-B136-CC1EC277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6C678-BCDB-4439-99F7-4F19B22F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8129-8B6B-43CF-9F5C-052B58F1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2B24-ED3A-45C5-9B96-0B337D9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4C541-10E7-4CD1-BFAA-9851140B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716F2-E0D8-436A-B8A7-E35EB4F2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C0085-4FAA-421E-8090-3CDBA619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6B0D8-4FED-4CB2-A1B5-8E39353A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D9C-6A33-4A34-9332-10E64C61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1A1D0-FADA-4920-8AAB-9F7A2270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F79B-EEE0-4EE6-B734-B8DAD8A9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799F-D8B1-4A0F-8DB2-2CDEA95C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4FCBE-339F-4464-8AFB-392291B6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4427-7BC7-4571-A830-899E60D6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E16ED-ED3C-411C-B7EC-26ABE14E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D21D-FFBC-459E-B43D-C2DA675D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F4291-590E-478B-A559-2817B35B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7E344-F1E2-4C70-9C29-117AF911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8CA38-2680-4339-9C41-8499C0C1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C80-2314-4ABA-9794-9AC02BF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941BE-3378-4A66-89EC-281F128C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655DA-EE04-4936-A7E7-352B2BCE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6617-E03A-48A6-97FA-D7422431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FFA6-4A24-479E-AFDD-509A504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D5747-4EA1-416D-8AF1-CC0C4FB4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E4773-A667-45D4-B4AB-478305F9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6429-E540-43AC-93FE-82A8055A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F58A7-BBB9-4B44-9488-575AB5F3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ADD40-D6B1-4079-90D0-D9A93931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01F2C-F4F7-4A0E-B215-3FE8918C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D68-9A31-4719-A6C3-6209FF6D3E5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B6EA-CC4A-4E60-8C28-6C237FCD4BF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FB80-3BD0-40CB-818A-D4C34F596A0E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F99-D4FF-4C70-A76E-12BEA8E99241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42F0-CBDA-47DA-BBBF-CAE3E5A1FD93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573-3C3A-4445-B2B7-48AF145C7D8F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E578-4F69-4F82-A808-C2D5B9273999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72F9-92E7-4547-A435-7A839DD62354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6640-E957-4724-8315-584F38B12D04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9680" y="457200"/>
            <a:ext cx="8852040" cy="2816280"/>
          </a:xfrm>
          <a:prstGeom prst="rect">
            <a:avLst/>
          </a:prstGeom>
          <a:ln w="0">
            <a:noFill/>
          </a:ln>
        </p:spPr>
      </p:pic>
      <p:sp>
        <p:nvSpPr>
          <p:cNvPr id="407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F687-A37E-478C-B53F-970F157B3A1B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E12-41F1-4831-AA51-2CA82758DBB9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34" name="Group 6"/>
          <p:cNvGrpSpPr/>
          <p:nvPr/>
        </p:nvGrpSpPr>
        <p:grpSpPr>
          <a:xfrm>
            <a:off x="457200" y="304920"/>
            <a:ext cx="8001000" cy="6281280"/>
            <a:chOff x="457200" y="304920"/>
            <a:chExt cx="8001000" cy="6281280"/>
          </a:xfrm>
        </p:grpSpPr>
        <p:pic>
          <p:nvPicPr>
            <p:cNvPr id="435" name="Picture 4" descr="Изображение 01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800100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5"/>
            <p:cNvSpPr/>
            <p:nvPr/>
          </p:nvSpPr>
          <p:spPr>
            <a:xfrm>
              <a:off x="1295640" y="5943600"/>
              <a:ext cx="65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Добро помни, а зло забывай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Times New Roman"/>
              </a:rPr>
              <a:t>«Чтобы поверить  в добро, надо начать его делать».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Times New Roman"/>
              </a:rPr>
              <a:t>Л. Толстой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7D37-1C1F-496E-A474-DDF1163FA98A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3375-EA5D-49D7-B677-5260ADF7EEDF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762120" y="228600"/>
            <a:ext cx="7467480" cy="6418080"/>
            <a:chOff x="762120" y="228600"/>
            <a:chExt cx="7467480" cy="6418080"/>
          </a:xfrm>
        </p:grpSpPr>
        <p:pic>
          <p:nvPicPr>
            <p:cNvPr id="441" name="Picture 4" descr="Изображение 015"/>
            <p:cNvPicPr/>
            <p:nvPr/>
          </p:nvPicPr>
          <p:blipFill>
            <a:blip r:embed="rId1"/>
            <a:stretch/>
          </p:blipFill>
          <p:spPr>
            <a:xfrm>
              <a:off x="838080" y="228600"/>
              <a:ext cx="7315200" cy="50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5"/>
            <p:cNvSpPr/>
            <p:nvPr/>
          </p:nvSpPr>
          <p:spPr>
            <a:xfrm>
              <a:off x="762120" y="5333760"/>
              <a:ext cx="7467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Внимание к старшим – проявление доброты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3ADA-B00F-47B9-993F-AFD792F10E78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44" name="Group 6"/>
          <p:cNvGrpSpPr/>
          <p:nvPr/>
        </p:nvGrpSpPr>
        <p:grpSpPr>
          <a:xfrm>
            <a:off x="533520" y="533520"/>
            <a:ext cx="8001000" cy="5839200"/>
            <a:chOff x="533520" y="533520"/>
            <a:chExt cx="8001000" cy="5839200"/>
          </a:xfrm>
        </p:grpSpPr>
        <p:pic>
          <p:nvPicPr>
            <p:cNvPr id="445" name="Picture 4" descr="Мы разные но мы помогаем друг другу"/>
            <p:cNvPicPr/>
            <p:nvPr/>
          </p:nvPicPr>
          <p:blipFill>
            <a:blip r:embed="rId1"/>
            <a:stretch/>
          </p:blipFill>
          <p:spPr>
            <a:xfrm>
              <a:off x="533520" y="533520"/>
              <a:ext cx="8001000" cy="517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6" name="Text Box 5"/>
            <p:cNvSpPr/>
            <p:nvPr/>
          </p:nvSpPr>
          <p:spPr>
            <a:xfrm>
              <a:off x="685800" y="5791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Мы разные, но мы помогаем друг другу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A264-1F15-4D20-87CE-11DDEFEDF708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8" name="Picture 4" descr="Ему нужна твоя дружба"/>
          <p:cNvPicPr/>
          <p:nvPr/>
        </p:nvPicPr>
        <p:blipFill>
          <a:blip r:embed="rId1"/>
          <a:srcRect l="9843" t="3372" r="9843" b="2529"/>
          <a:stretch/>
        </p:blipFill>
        <p:spPr>
          <a:xfrm>
            <a:off x="304920" y="533520"/>
            <a:ext cx="4282920" cy="556236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8"/>
          <p:cNvSpPr/>
          <p:nvPr/>
        </p:nvSpPr>
        <p:spPr>
          <a:xfrm>
            <a:off x="4572000" y="838080"/>
            <a:ext cx="43434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ы здоров и силен, а рядом есть больные, инвалиды…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м не нужна твоя жалость, им нужна твоя дружба, помощ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Сделав добро, человек сам становится лучше, чище, светлее. Если мы будем внимательны к любому человеку, с кем мы общаемся, это и будет проявление доброт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70CB-D7CE-474C-9BB7-EED1F4FE22B9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7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imes New Roman"/>
              </a:rPr>
              <a:t>Человек должен стремиться к тому, чтобы изменить себя в лучшую сторону, жить в мире с собой и миром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DCF8-447E-437D-A75F-BB025FB9C91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64A6-8DEC-4DCD-AB76-CE9E56A4AB8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5" name="Group 7"/>
          <p:cNvGrpSpPr/>
          <p:nvPr/>
        </p:nvGrpSpPr>
        <p:grpSpPr>
          <a:xfrm>
            <a:off x="914400" y="380880"/>
            <a:ext cx="7467480" cy="6053040"/>
            <a:chOff x="914400" y="380880"/>
            <a:chExt cx="7467480" cy="6053040"/>
          </a:xfrm>
        </p:grpSpPr>
        <p:pic>
          <p:nvPicPr>
            <p:cNvPr id="456" name="Picture 4" descr="Цените людей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2438280" y="380880"/>
              <a:ext cx="464184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5"/>
            <p:cNvSpPr/>
            <p:nvPr/>
          </p:nvSpPr>
          <p:spPr>
            <a:xfrm>
              <a:off x="914400" y="5791320"/>
              <a:ext cx="74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Не оценивайте людей, а цените их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A584-E8CD-418A-B7BD-81AD7466060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762120" y="1219320"/>
            <a:ext cx="7391160" cy="5486400"/>
          </a:xfrm>
          <a:custGeom>
            <a:avLst/>
            <a:gdLst>
              <a:gd name="textAreaLeft" fmla="*/ 1723320 w 7391160"/>
              <a:gd name="textAreaRight" fmla="*/ 5665680 w 7391160"/>
              <a:gd name="textAreaTop" fmla="*/ 578160 h 5486400"/>
              <a:gd name="textAreaBottom" fmla="*/ 3474000 h 5486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WordArt 6"/>
          <p:cNvSpPr txBox="1"/>
          <p:nvPr/>
        </p:nvSpPr>
        <p:spPr>
          <a:xfrm rot="20383200">
            <a:off x="1142640" y="1752480"/>
            <a:ext cx="1986120" cy="90720"/>
          </a:xfrm>
          <a:prstGeom prst="rect">
            <a:avLst/>
          </a:prstGeom>
        </p:spPr>
        <p:txBody>
          <a:bodyPr wrap="none" fromWordArt="1" lIns="90000" rIns="90000" tIns="44280" bIns="44280" anchor="t" anchorCtr="1">
            <a:prstTxWarp prst="textArchUp">
              <a:avLst>
                <a:gd name="adj" fmla="val 1080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Times New Roman"/>
              </a:rPr>
              <a:t>Друж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Times New Roman"/>
              <a:ea typeface="Times New Roman"/>
            </a:endParaRPr>
          </a:p>
        </p:txBody>
      </p:sp>
      <p:sp>
        <p:nvSpPr>
          <p:cNvPr id="461" name="WordArt 7"/>
          <p:cNvSpPr txBox="1"/>
          <p:nvPr/>
        </p:nvSpPr>
        <p:spPr>
          <a:xfrm rot="712200">
            <a:off x="5334120" y="1752480"/>
            <a:ext cx="2028600" cy="2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462" name="WordArt 8"/>
          <p:cNvSpPr txBox="1"/>
          <p:nvPr/>
        </p:nvSpPr>
        <p:spPr>
          <a:xfrm>
            <a:off x="2895480" y="3581280"/>
            <a:ext cx="3114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рпим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63" name="WordArt 9"/>
          <p:cNvSpPr txBox="1"/>
          <p:nvPr/>
        </p:nvSpPr>
        <p:spPr>
          <a:xfrm>
            <a:off x="3429000" y="2514600"/>
            <a:ext cx="15336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Люб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464" name="WordArt 10"/>
          <p:cNvSpPr txBox="1"/>
          <p:nvPr/>
        </p:nvSpPr>
        <p:spPr>
          <a:xfrm rot="20013600">
            <a:off x="1523880" y="2514240"/>
            <a:ext cx="2303640" cy="41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ж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11"/>
          <p:cNvSpPr txBox="1"/>
          <p:nvPr/>
        </p:nvSpPr>
        <p:spPr>
          <a:xfrm rot="1171200">
            <a:off x="4952880" y="2514240"/>
            <a:ext cx="2432160" cy="91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илосерд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466" name="WordArt 12"/>
          <p:cNvSpPr txBox="1"/>
          <p:nvPr/>
        </p:nvSpPr>
        <p:spPr>
          <a:xfrm rot="19956600">
            <a:off x="4267080" y="4419720"/>
            <a:ext cx="23241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3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ушев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67" name="WordArt 13"/>
          <p:cNvSpPr txBox="1"/>
          <p:nvPr/>
        </p:nvSpPr>
        <p:spPr>
          <a:xfrm rot="1643400">
            <a:off x="2743200" y="4952880"/>
            <a:ext cx="24382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40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Искрен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380880" y="152280"/>
            <a:ext cx="82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вое сердце наполня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1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1000" fill="hold"/>
                                        <p:tgtEl>
                                          <p:spTgt spid="4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1000" fill="hold"/>
                                        <p:tgtEl>
                                          <p:spTgt spid="4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10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1000" fill="hold"/>
                                        <p:tgtEl>
                                          <p:spTgt spid="4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1000" fill="hold"/>
                                        <p:tgtEl>
                                          <p:spTgt spid="4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1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3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2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50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134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Franklin Gothic Book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страдан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чувств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действ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знан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единен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D171-449A-46E6-BC30-68A659EC5AD4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609480" y="304920"/>
            <a:ext cx="815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228600" y="15228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ебе всегда сопутствуют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4" descr=""/>
          <p:cNvPicPr/>
          <p:nvPr/>
        </p:nvPicPr>
        <p:blipFill>
          <a:blip r:embed="rId1"/>
          <a:stretch/>
        </p:blipFill>
        <p:spPr>
          <a:xfrm>
            <a:off x="-122400" y="676440"/>
            <a:ext cx="8809200" cy="5267160"/>
          </a:xfrm>
          <a:prstGeom prst="rect">
            <a:avLst/>
          </a:prstGeom>
          <a:ln w="0">
            <a:noFill/>
          </a:ln>
        </p:spPr>
      </p:pic>
      <p:sp>
        <p:nvSpPr>
          <p:cNvPr id="40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9806-1ABA-4720-920E-8D8EC2372564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71A5-6B49-4518-B26E-6F36F5ECE43F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74" name="Group 7"/>
          <p:cNvGrpSpPr/>
          <p:nvPr/>
        </p:nvGrpSpPr>
        <p:grpSpPr>
          <a:xfrm>
            <a:off x="1066680" y="380880"/>
            <a:ext cx="6934320" cy="5976720"/>
            <a:chOff x="1066680" y="380880"/>
            <a:chExt cx="6934320" cy="5976720"/>
          </a:xfrm>
        </p:grpSpPr>
        <p:pic>
          <p:nvPicPr>
            <p:cNvPr id="475" name="Picture 4" descr="Ты нам нужен"/>
            <p:cNvPicPr/>
            <p:nvPr/>
          </p:nvPicPr>
          <p:blipFill>
            <a:blip r:embed="rId1"/>
            <a:stretch/>
          </p:blipFill>
          <p:spPr>
            <a:xfrm>
              <a:off x="2262240" y="380880"/>
              <a:ext cx="4413240" cy="52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5"/>
            <p:cNvSpPr/>
            <p:nvPr/>
          </p:nvSpPr>
          <p:spPr>
            <a:xfrm>
              <a:off x="1066680" y="5715000"/>
              <a:ext cx="693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Мы очень разные, но мы вместе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200" spc="-1" strike="noStrike">
                <a:solidFill>
                  <a:srgbClr val="cc3300"/>
                </a:solidFill>
                <a:latin typeface="Times New Roman"/>
              </a:rPr>
              <a:t>Что же такое толерантность? </a:t>
            </a:r>
            <a:endParaRPr b="0" lang="en-US" sz="8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3ED8-B4D6-4DAB-BC86-FF0BF76321A7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 русском языке “толерантность” означает “способность, умение терпеть, мириться с чужим мнением, быть снисходительным к поступкам других людей, мягко относиться к их промахам, ошибкам”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17EA-FDE9-4E22-B621-F188C9FBD997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82" name="Номер слайда 5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0FEF-2280-4588-AD67-736DC79844D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83" name="Group 86"/>
          <p:cNvGrpSpPr/>
          <p:nvPr/>
        </p:nvGrpSpPr>
        <p:grpSpPr>
          <a:xfrm>
            <a:off x="533520" y="1143000"/>
            <a:ext cx="8001000" cy="5563800"/>
            <a:chOff x="533520" y="1143000"/>
            <a:chExt cx="8001000" cy="5563800"/>
          </a:xfrm>
        </p:grpSpPr>
        <p:sp>
          <p:nvSpPr>
            <p:cNvPr id="484" name="AutoShape 72"/>
            <p:cNvSpPr/>
            <p:nvPr/>
          </p:nvSpPr>
          <p:spPr>
            <a:xfrm>
              <a:off x="533520" y="1295280"/>
              <a:ext cx="7391160" cy="52588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5" name="Text Box 74"/>
            <p:cNvSpPr/>
            <p:nvPr/>
          </p:nvSpPr>
          <p:spPr>
            <a:xfrm>
              <a:off x="2666880" y="335304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6" name="Text Box 75"/>
            <p:cNvSpPr/>
            <p:nvPr/>
          </p:nvSpPr>
          <p:spPr>
            <a:xfrm>
              <a:off x="3962520" y="129528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7" name="Text Box 77"/>
            <p:cNvSpPr/>
            <p:nvPr/>
          </p:nvSpPr>
          <p:spPr>
            <a:xfrm flipV="1" rot="5400000">
              <a:off x="3521160" y="16599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Прощ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8" name="Text Box 78"/>
            <p:cNvSpPr/>
            <p:nvPr/>
          </p:nvSpPr>
          <p:spPr>
            <a:xfrm rot="5400000">
              <a:off x="3519360" y="5851440"/>
              <a:ext cx="13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Милосерд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9" name="Text Box 79"/>
            <p:cNvSpPr/>
            <p:nvPr/>
          </p:nvSpPr>
          <p:spPr>
            <a:xfrm>
              <a:off x="838080" y="37342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страд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0" name="Text Box 80"/>
            <p:cNvSpPr/>
            <p:nvPr/>
          </p:nvSpPr>
          <p:spPr>
            <a:xfrm rot="2105400">
              <a:off x="1523520" y="23619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Терпимость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1" name="Text Box 81"/>
            <p:cNvSpPr/>
            <p:nvPr/>
          </p:nvSpPr>
          <p:spPr>
            <a:xfrm rot="19110600">
              <a:off x="5486400" y="2285640"/>
              <a:ext cx="15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d1f1f"/>
                  </a:solidFill>
                  <a:latin typeface="Times New Roman"/>
                </a:rPr>
                <a:t>Сочув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2" name="Text Box 82"/>
            <p:cNvSpPr/>
            <p:nvPr/>
          </p:nvSpPr>
          <p:spPr>
            <a:xfrm rot="2068800">
              <a:off x="5645880" y="52596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d1f1f"/>
                  </a:solidFill>
                  <a:latin typeface="Times New Roman"/>
                </a:rPr>
                <a:t>Уваже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3" name="Text Box 83"/>
            <p:cNvSpPr/>
            <p:nvPr/>
          </p:nvSpPr>
          <p:spPr>
            <a:xfrm rot="19128600">
              <a:off x="1209600" y="5185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действ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4" name="Text Box 84"/>
            <p:cNvSpPr/>
            <p:nvPr/>
          </p:nvSpPr>
          <p:spPr>
            <a:xfrm>
              <a:off x="6324480" y="365796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d1f1f"/>
                  </a:solidFill>
                  <a:latin typeface="Times New Roman"/>
                </a:rPr>
                <a:t>Взаимопонимание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5" name="Text Box 85"/>
          <p:cNvSpPr/>
          <p:nvPr/>
        </p:nvSpPr>
        <p:spPr>
          <a:xfrm>
            <a:off x="609480" y="1522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олерантность это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2" descr=""/>
          <p:cNvPicPr/>
          <p:nvPr/>
        </p:nvPicPr>
        <p:blipFill>
          <a:blip r:embed="rId1"/>
          <a:stretch/>
        </p:blipFill>
        <p:spPr>
          <a:xfrm>
            <a:off x="165240" y="-212760"/>
            <a:ext cx="8807400" cy="19494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Уважай собеседни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тарайся понять то, о чем говорят други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тстаивай свое мнение тактичн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щи лучшие аргумент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Будь справедливым, готовым признать правоту другог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тремись учитывать интересы других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4D7E-7973-4524-8DB8-6CCB4D005A33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Наша школа, каждый класс - это маленькая семья. И хочется, чтобы в нашей семье всегда царили доброта, уважение, взаимопонимание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7FBC-CDC7-4564-8BC2-5FBA83F99453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-122400" y="676440"/>
            <a:ext cx="8809200" cy="5267160"/>
          </a:xfrm>
          <a:prstGeom prst="rect">
            <a:avLst/>
          </a:prstGeom>
          <a:ln w="0">
            <a:noFill/>
          </a:ln>
        </p:spPr>
      </p:pic>
      <p:sp>
        <p:nvSpPr>
          <p:cNvPr id="50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B8B9-3D48-4930-986C-39B1EB0DF370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22400" y="-426960"/>
            <a:ext cx="8564400" cy="2504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Все мы люд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на одной планет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в одном город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Учимся в одной школе, в одном класс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на одних улицах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нимаемся одним делом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Похожи глаза, волос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9DF1-661E-4041-B6AB-40AAA849D2DE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2840" y="-212760"/>
            <a:ext cx="8643960" cy="2011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Рос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Цвет волос и глаз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Одежд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Знани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циональность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Фигур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Возраст (старые и молодые)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Характер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Культур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BD93-F4AE-4E90-B8F1-461FF6F8F487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Различия дополняют и обогащают общество. Чтобы жить в мире, людям надо научиться жить, решая проблемы и задачи на основе сотрудничеств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2EEC-F78E-4253-94D7-81B83461B42C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95C6-9078-4B28-9597-222D3E5E54E7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9" name="Picture 4" descr="Не толерантно!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04920" y="533520"/>
            <a:ext cx="4513320" cy="548640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0"/>
          <p:cNvSpPr/>
          <p:nvPr/>
        </p:nvSpPr>
        <p:spPr>
          <a:xfrm>
            <a:off x="4876920" y="609480"/>
            <a:ext cx="35812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Мы разные, но должны жить в мире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е толерантно доказывать свое право на разность подобным образо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208080" y="-158760"/>
            <a:ext cx="8478720" cy="1762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Times New Roman"/>
              </a:rPr>
              <a:t>взаимопонимание, взаимоуважение, ответственность, доброжелательность, сдержанность, уступчивость, 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Times New Roman"/>
              </a:rPr>
              <a:t>терпимость… </a:t>
            </a:r>
            <a:endParaRPr b="0" lang="en-US" sz="4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D65F-B45E-4B44-BF01-F03188E75052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1410-4AE4-4B18-9FF9-F33861C96703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1905120" y="1219320"/>
            <a:ext cx="5028840" cy="5365080"/>
            <a:chOff x="1905120" y="1219320"/>
            <a:chExt cx="5028840" cy="5365080"/>
          </a:xfrm>
        </p:grpSpPr>
        <p:pic>
          <p:nvPicPr>
            <p:cNvPr id="426" name="Picture 4" descr="Изображение 016"/>
            <p:cNvPicPr/>
            <p:nvPr/>
          </p:nvPicPr>
          <p:blipFill>
            <a:blip r:embed="rId1"/>
            <a:stretch/>
          </p:blipFill>
          <p:spPr>
            <a:xfrm>
              <a:off x="2315520" y="1219320"/>
              <a:ext cx="4618440" cy="41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5"/>
            <p:cNvSpPr/>
            <p:nvPr/>
          </p:nvSpPr>
          <p:spPr>
            <a:xfrm>
              <a:off x="1905120" y="5515560"/>
              <a:ext cx="5010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Светлое пятно – добро, темное пятно - зло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28" name="Text Box 7"/>
          <p:cNvSpPr/>
          <p:nvPr/>
        </p:nvSpPr>
        <p:spPr>
          <a:xfrm>
            <a:off x="304920" y="152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каждом из нас есть светлая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 темная сторон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9EC-B343-4969-8F03-721DD61BE95F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30" name="Group 7"/>
          <p:cNvGrpSpPr/>
          <p:nvPr/>
        </p:nvGrpSpPr>
        <p:grpSpPr>
          <a:xfrm>
            <a:off x="838080" y="304920"/>
            <a:ext cx="7578720" cy="6067800"/>
            <a:chOff x="838080" y="304920"/>
            <a:chExt cx="7578720" cy="6067800"/>
          </a:xfrm>
        </p:grpSpPr>
        <p:pic>
          <p:nvPicPr>
            <p:cNvPr id="431" name="Picture 4" descr="Изображение 017"/>
            <p:cNvPicPr/>
            <p:nvPr/>
          </p:nvPicPr>
          <p:blipFill>
            <a:blip r:embed="rId1"/>
            <a:stretch/>
          </p:blipFill>
          <p:spPr>
            <a:xfrm>
              <a:off x="838080" y="304920"/>
              <a:ext cx="757872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5"/>
            <p:cNvSpPr/>
            <p:nvPr/>
          </p:nvSpPr>
          <p:spPr>
            <a:xfrm>
              <a:off x="1066680" y="579132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Один сажает цветы, другой - их рвет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онова Н.И.</dc:creator>
  <dc:description/>
  <dc:language>en-US</dc:language>
  <cp:lastModifiedBy>СОШ №20</cp:lastModifiedBy>
  <dcterms:modified xsi:type="dcterms:W3CDTF">2019-11-14T13:22:19Z</dcterms:modified>
  <cp:revision>360</cp:revision>
  <dc:subject>Толерантност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