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A48-0E9E-4A4B-99DB-83DDC07A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B3D-D945-479C-9CAF-DD9339C0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DB4-BBDC-416A-8DB1-B8FD397C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B5B-B734-46B1-AB7C-41FD92B9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CF9-CBC6-4250-8605-9E31B6F5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8E5-1B9E-4DF6-BAED-BA6FBC28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94B-8F0B-4D3C-805B-72CA5139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AE4-97E8-4449-B7B2-BCEAFDB3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E2D-708B-4F98-862D-7CABF66B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C27-0EB0-461F-AE93-CF45DBB2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6E6-18D7-4D8E-8E27-B7F873CF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626-A080-440B-A79E-CE0BA9F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6B6C-C75E-4BBF-B424-737406DFF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0" y="9360"/>
            <a:ext cx="9134640" cy="684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042920" y="1341360"/>
            <a:ext cx="6985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Выбор профессии - 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ло серьёзное"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2952720" cy="221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5651640" y="5013360"/>
            <a:ext cx="267336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дготов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оспитат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лякова И.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11280" y="620640"/>
            <a:ext cx="7559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праж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Экзамен без подготовк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2349360"/>
            <a:ext cx="4032000" cy="403236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11280" y="620640"/>
            <a:ext cx="7559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праж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Волшебная лавк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5184720" cy="38894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425080" cy="6316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48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064720" cy="619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351000"/>
            <a:ext cx="8280360" cy="61909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1280" y="620640"/>
            <a:ext cx="7559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праж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Тропинка к мечт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843280" y="2349360"/>
            <a:ext cx="5433840" cy="377676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280360" cy="6303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755640" y="476280"/>
            <a:ext cx="655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омочь воспитанникам в выбор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будущей професси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124000" y="1484280"/>
            <a:ext cx="62643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корректировать профессион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предпочтения воспитан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- формировать позитивное отношение к труду, к профессиональному рос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- побуждать к поиску информации о профессиях, к осознанному профессиональному выб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4479840" y="2967120"/>
            <a:ext cx="184320" cy="46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16000" y="1341360"/>
            <a:ext cx="66960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АЗОВИТЕ ПРОФЕССИ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227664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амые м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2. Профессии, которые всегда ну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3. Самые отва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826920" y="620640"/>
            <a:ext cx="655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амые модные професси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413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юрист, экономист, менеджер, топ-модель, журналист, программист, автослесарь, пластический хирург, эколо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2138400" cy="230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1892520" cy="2236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443640" y="3716280"/>
            <a:ext cx="2016000" cy="2570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84360" y="620640"/>
            <a:ext cx="655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офессии, которые всегда нужн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1700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врач, учитель, строитель, шофер(водитель), парикмахер, пекарь, продавец, животновод, повар, бухгалтер, психоло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1719360" cy="23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356000" y="3573360"/>
            <a:ext cx="1663920" cy="223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2232000" cy="236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0" y="936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00000" y="62064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амые отважные професси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48428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пожарный, каскадер, моряк-подводник, летчик-испытатель, космонавт, горноспасатель, автогонщик, сапер, шахте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32720" y="4005360"/>
            <a:ext cx="1780920" cy="244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340000" y="2997360"/>
            <a:ext cx="2087640" cy="216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2138040" cy="266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826920" y="620640"/>
            <a:ext cx="64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амые забытые професси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170028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конюх, камердинер, ключник, шорник, трубочист, бондарь, ямщи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1943280" cy="273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940360" y="1341360"/>
            <a:ext cx="2489400" cy="2311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00720" y="3789360"/>
            <a:ext cx="3457440" cy="259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11280" y="620640"/>
            <a:ext cx="7559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праж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Выбери правильный путь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484360" y="2349360"/>
            <a:ext cx="5613480" cy="400068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http://pedsovet.su/_ld/395/28769959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611280" y="620640"/>
            <a:ext cx="7559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праж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Оптимисты и скептик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5903640" cy="41306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18:04:34Z</dcterms:created>
  <dc:creator>Галина</dc:creator>
  <dc:description/>
  <dc:language>en-US</dc:language>
  <cp:lastModifiedBy>Галина</cp:lastModifiedBy>
  <dcterms:modified xsi:type="dcterms:W3CDTF">2014-12-28T22:00:41Z</dcterms:modified>
  <cp:revision>14</cp:revision>
  <dc:subject/>
  <dc:title>Слайд 1</dc:title>
</cp:coreProperties>
</file>